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831-F50D-41D8-ACFD-47309C41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62D-C5B7-4B95-8FE3-414E6BC7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377-3543-4E53-9BB7-D1528D32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AD4-1961-41B6-9BDD-6FCD0878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A7E-85E5-4F36-A1B7-B380DE76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702-9A2E-4788-AFA7-389B9900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532-3228-4FCE-A5D3-188FA143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BF4-5E3A-4009-B0F0-D738A35B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32B-3712-44FB-8503-407748CA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8C1-E756-4E39-A1C6-B267B86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E9D-DD8A-49D6-A475-DD82455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055-9DAA-4C16-9AC5-19D3854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Farland, Chesson, Atheros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26A8FE-0DB8-4E28-B728-BAB1424F8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167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758E-5-UP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GHz Unified Protocol (5-UP) Proposal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DM Extensions for 802.11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 McFarland, billm@athero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g Chesson, greg@athero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 Temme, ctemme@athero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ros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B9E-AA7C-489D-92AE-D689BFFD07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rules limit power spectral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evices scale power with the number of c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carrier radios transmit with 1/5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ower of standard 802.11a radios and would have similar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carriers for greater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289-9762-4B1C-BFEB-5F4FC7E7A5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path does not generate intersymbol interference (with OFDM): rather, it creates f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ping of carriers can prevent long fades or interferenc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ding can also be reduced with antenna d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0BE-1CBF-48F5-9343-0FF6EDD135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sufficient orthogonality for 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s lock to AP carri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 track each car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 must preserve guard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open-loop and closed-loop solutions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for 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pen-loop control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721-4E62-4576-83A6-04FBF0F91D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UP mode controlled by 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UP stations communicate via 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mode requires either master election, or a protocol subset pro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r to peer (direct link) possible, but complex for multiple simultaneous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626-EA50-46CA-8E41-F3EAFFF1FD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MAC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one logical carrier for DCF 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management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mplified) DATA frames on remaining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assigns ID for device/carri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l via 5-UP Beacon (look for 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for multiple 5-UP Beacons/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B57-E4A2-4D41-9FA0-9DF3E90AE7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groups can be added to 802.11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capabilities for OFDM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low-power/cost/spee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 Mb/s data rate (or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ssignments via carrie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er slots leads to lower jitter, less overh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approach to expand the market for wireless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B86-CCAB-4C23-955D-0C2644493B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 Wireless LAN application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 100 Mb/s 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low-cost, low-power, low-speed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QoS and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coexistence and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low-end and high-en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legacy and exten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le extensions to 802.11a and HiperLA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804-1E13-4D46-AFEA-E5913C75F8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nn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ore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oups for bandwidth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carrier for low power/cost/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 MAC for range of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751-2DD5-42B8-A07D-92D27EB273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Bandwi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s to existing 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carriers, OFDM, pilots, modul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2 adjacent OFDM channels: 108 Mb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 more than 2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mpatible with single-channel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ed beacons and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/Stations operate in both dual/singl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upon (expected) DFS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F6C-7FBD-4017-9351-7CAF23AF3F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Mode for 802.11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UP Bea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carrier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issues: frequency lock,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protocol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B0B-FF06-41A0-AEB3-7641CF8400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rier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37339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group includes 1 or more carr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ID assigned by 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’s appear in bea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-carrier: OFDM with selected bins nu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carrier: less complex, low-power/cost/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transmission of carrier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59040" y="2021040"/>
            <a:ext cx="6094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44840" y="2097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4840" y="2173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44840" y="22496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44840" y="2325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44840" y="2401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44840" y="24782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4840" y="2554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4840" y="2630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44840" y="27068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44840" y="278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44840" y="2859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44840" y="29354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4840" y="3011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44840" y="3087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44840" y="31640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44840" y="3240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40120" y="2097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0120" y="2173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40120" y="22496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0120" y="2325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40120" y="2401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40120" y="24782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0120" y="2554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0120" y="2630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40120" y="27068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40120" y="278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40120" y="2859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40120" y="29354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40120" y="3011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40120" y="3087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40120" y="31640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40120" y="3240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2880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lin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Up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59040" y="2021040"/>
            <a:ext cx="609480" cy="1218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5000" y="1523880"/>
            <a:ext cx="65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5040" y="1981080"/>
            <a:ext cx="360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057400"/>
            <a:ext cx="6858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2286000"/>
            <a:ext cx="68580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362320"/>
            <a:ext cx="685800" cy="7596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438280"/>
            <a:ext cx="685800" cy="6858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124080"/>
            <a:ext cx="685800" cy="76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200400"/>
            <a:ext cx="685800" cy="7632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7040" y="3236760"/>
            <a:ext cx="25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Groups        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71840" y="2065320"/>
            <a:ext cx="2325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1480" y="1981080"/>
            <a:ext cx="2325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3FC-FDAC-400B-9BAE-68E8C15C86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Bea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Beacon reserves media time for 5-UP mo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UP Beacons control carrier group transf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led data transf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MA also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895480"/>
            <a:ext cx="6934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676520"/>
            <a:ext cx="990720" cy="121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676520"/>
            <a:ext cx="6094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676520"/>
            <a:ext cx="6094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1676520"/>
            <a:ext cx="990360" cy="121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48720" y="2932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27160" y="575136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1828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1905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1981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2057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2362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828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905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1981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2057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362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65440" y="293220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lin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Up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5732280" y="2118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676520"/>
            <a:ext cx="609480" cy="1218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19680" y="1941480"/>
            <a:ext cx="130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F          5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acon   Bea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676520"/>
            <a:ext cx="990720" cy="121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4560" y="28954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CF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1676520"/>
            <a:ext cx="990360" cy="12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0960" y="29718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CF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F90-765E-459A-AA9B-B95A5F3595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5-UP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4648320"/>
            <a:ext cx="144756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8098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hone3"/>
          <p:cNvSpPr/>
          <p:nvPr/>
        </p:nvSpPr>
        <p:spPr>
          <a:xfrm>
            <a:off x="7315200" y="289548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hone3"/>
          <p:cNvSpPr/>
          <p:nvPr/>
        </p:nvSpPr>
        <p:spPr>
          <a:xfrm>
            <a:off x="7315200" y="358128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monitor"/>
          <p:cNvSpPr/>
          <p:nvPr/>
        </p:nvSpPr>
        <p:spPr>
          <a:xfrm>
            <a:off x="7315200" y="4191120"/>
            <a:ext cx="981000" cy="981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putr3"/>
          <p:cNvSpPr/>
          <p:nvPr/>
        </p:nvSpPr>
        <p:spPr>
          <a:xfrm>
            <a:off x="7315200" y="5486400"/>
            <a:ext cx="1047600" cy="704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5791320"/>
            <a:ext cx="1447560" cy="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1908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514600"/>
            <a:ext cx="137160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981080"/>
            <a:ext cx="1371600" cy="0"/>
          </a:xfrm>
          <a:prstGeom prst="line">
            <a:avLst/>
          </a:prstGeom>
          <a:ln w="1908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124080"/>
            <a:ext cx="114300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3200400"/>
            <a:ext cx="1143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3276720"/>
            <a:ext cx="1143000" cy="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4290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5053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5812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36576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37339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8098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38862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9625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0384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1148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19112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26708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124080"/>
            <a:ext cx="114300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3200400"/>
            <a:ext cx="1143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3276720"/>
            <a:ext cx="1143000" cy="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4290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35053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5812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576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7339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38098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38862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39625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40384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1148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19112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26708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12960" y="285588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lin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Up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38480" y="1980720"/>
            <a:ext cx="1828800" cy="114300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038480" y="2514240"/>
            <a:ext cx="1905120" cy="685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3276720"/>
            <a:ext cx="1828800" cy="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3352680"/>
            <a:ext cx="1828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42900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43434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441972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449568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5720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43434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441972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449568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45720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733920"/>
            <a:ext cx="1676520" cy="9144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4191120"/>
            <a:ext cx="76320" cy="380880"/>
          </a:xfrm>
          <a:custGeom>
            <a:avLst/>
            <a:gdLst>
              <a:gd name="textAreaLeft" fmla="*/ 0 w 76320"/>
              <a:gd name="textAreaRight" fmla="*/ 53640 w 7632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4419720"/>
            <a:ext cx="1676520" cy="137160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08400" y="1636560"/>
            <a:ext cx="8848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 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4 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600200"/>
            <a:ext cx="281160" cy="53352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209680"/>
            <a:ext cx="281160" cy="53352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152-0470-4C0C-BCD4-C9E8FB0919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Carri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 on all c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sequence for all c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ossible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 of hopping and OFDM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905120"/>
            <a:ext cx="6858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2133720"/>
            <a:ext cx="685800" cy="75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2209680"/>
            <a:ext cx="685800" cy="76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2286000"/>
            <a:ext cx="685800" cy="6858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971800"/>
            <a:ext cx="685800" cy="76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3048120"/>
            <a:ext cx="685800" cy="7596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9360" y="1905120"/>
            <a:ext cx="2325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981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2057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362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209680"/>
            <a:ext cx="6858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2438280"/>
            <a:ext cx="68580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514600"/>
            <a:ext cx="685800" cy="76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590920"/>
            <a:ext cx="685800" cy="53316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1905120"/>
            <a:ext cx="685800" cy="15228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058840"/>
            <a:ext cx="685800" cy="7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135160"/>
            <a:ext cx="685800" cy="7452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3080" y="1828800"/>
            <a:ext cx="232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2743200"/>
            <a:ext cx="6858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2971800"/>
            <a:ext cx="68580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3048120"/>
            <a:ext cx="685800" cy="7596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1905120"/>
            <a:ext cx="685800" cy="6858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592360"/>
            <a:ext cx="685800" cy="7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668680"/>
            <a:ext cx="685800" cy="7452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5400" y="2209680"/>
            <a:ext cx="232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362320"/>
            <a:ext cx="12952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D7C-62F9-41A5-9020-2A3EE008B1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Carl Temme</cp:lastModifiedBy>
  <cp:lastPrinted>1998-02-10T13:28:06Z</cp:lastPrinted>
  <dcterms:modified xsi:type="dcterms:W3CDTF">2000-07-13T16:48:37Z</dcterms:modified>
  <cp:revision>39</cp:revision>
  <dc:subject/>
  <dc:title>No Slide Title</dc:title>
</cp:coreProperties>
</file>