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4489560" y="402480"/>
            <a:ext cx="3975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76</a:t>
            </a:r>
            <a:endParaRPr b="0" lang="en-US" sz="1400" spc="-1" strike="noStrike">
              <a:solidFill>
                <a:srgbClr val="000000"/>
              </a:solidFill>
              <a:latin typeface="Times New Roman"/>
            </a:endParaRPr>
          </a:p>
        </p:txBody>
      </p:sp>
      <p:sp>
        <p:nvSpPr>
          <p:cNvPr id="3" name=""/>
          <p:cNvSpPr/>
          <p:nvPr/>
        </p:nvSpPr>
        <p:spPr>
          <a:xfrm>
            <a:off x="703440" y="609480"/>
            <a:ext cx="774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79320" y="6469200"/>
            <a:ext cx="7239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 name=""/>
          <p:cNvSpPr/>
          <p:nvPr/>
        </p:nvSpPr>
        <p:spPr>
          <a:xfrm>
            <a:off x="703440" y="6477120"/>
            <a:ext cx="781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99400" y="4024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7" name=""/>
          <p:cNvSpPr/>
          <p:nvPr/>
        </p:nvSpPr>
        <p:spPr>
          <a:xfrm>
            <a:off x="4114440" y="646920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71C89D-493D-48FE-9CCF-3722A1293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 name=""/>
          <p:cNvSpPr/>
          <p:nvPr/>
        </p:nvSpPr>
        <p:spPr>
          <a:xfrm>
            <a:off x="5479920" y="6469200"/>
            <a:ext cx="313704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Author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pective on the QoS Problem</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2514600"/>
            <a:ext cx="6400800" cy="36576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ith Amann, Spectralink</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r Ecclesine, Cisc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 Halasz, Cisc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ncan Kitchin, Intel</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b O’Hara, 3Com</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K Tan, 3Com</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Williams, Intel</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bert Young, 3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r Layer Draft Standard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ft-ietf-issll-is802-framework-07 A Framework for Providing Integrated Services Over Shared and Switched IEEE 802 LAN Technologie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the Problem</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toll quality” in an ISM b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ll quality implies protected spectrum, professional install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ing apparatus from a 10e-12 world to 10e-5 world is not worthwhil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Must Drive the Solu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ice Access Point (SAP) must be defined within the scope of 802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D (802.1p) prior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 LL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s direct to higher layers are not permitted by the 802 archite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Must Drive the Solu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lities of the medium must be accepted</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ing “toll quality” on an unlicensed wireless channel is a pipe dream</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ing mechanisms from an environment of 10e-12 BER to an environment of 10e-5 BER (or greater) is not a good engineering solution</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s of higher layer protocols must not be duplicated in the MAC</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layers already provide scheduling and admission control, duplicating these services is not required in the MAC (see last slide for a partial list of stand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Must Drive the Solu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lution must scale to larger environ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e must operate with </a:t>
            </a:r>
            <a:r>
              <a:rPr b="1" lang="en-US" sz="2800" spc="-1" strike="noStrike" u="sng">
                <a:solidFill>
                  <a:srgbClr val="000000"/>
                </a:solidFill>
                <a:uFillTx/>
                <a:latin typeface="Times New Roman"/>
              </a:rPr>
              <a:t>any</a:t>
            </a:r>
            <a:r>
              <a:rPr b="0" lang="en-US" sz="2800" spc="-1" strike="noStrike">
                <a:solidFill>
                  <a:srgbClr val="000000"/>
                </a:solidFill>
                <a:latin typeface="Times New Roman"/>
              </a:rPr>
              <a:t> 802.11 PH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solutions are more easily scaled up to support greater loads and higher rat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4 Mbp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g(?) 20+ Mbp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100+ Mbp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ments document (00/137) states the problem to be solv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ments in that document should reflect the realities stated in this presentation</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connect between the requirements document and reality must be correct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37 is currently the result of brainstorming sessions, i.e., no review of the content has been done (mostly)</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attempt at critical review resulted in 2 hours of discussion with no progres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there is great distance between participants idea of the problem to be solved in the union of telecom and data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cessary Step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ly review the content of 00/137</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the result of the brainstorming sessions to a reasonable list of requirements</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Bob O’Hara’s email to the 802.11 reflector of June 23, “Comments on the Proposed TGe Requirements”</a:t>
            </a:r>
            <a:endParaRPr b="0" lang="en-US" sz="2000" spc="-1" strike="noStrike">
              <a:solidFill>
                <a:srgbClr val="000000"/>
              </a:solidFill>
              <a:latin typeface="Times New Roman"/>
            </a:endParaRPr>
          </a:p>
          <a:p>
            <a:pPr lvl="3" marL="148788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quirements must not assume the form of the solution (peer to peer communication, support for error correction, support for overlapping BSS operation, provide redundancy of point coordinators, support for multiple priorities and QoS levels)</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 firm grasp on limiting the task of the MAC to what is necessary</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duplication of higher layer functions</a:t>
            </a: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r Layer Standard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1889 - RTP A Transport Protocol for Real-Time Application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05 Resource ReSerVation Protocol (RSVP) -- Version 1 Functional Specification</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0 The Use of RSVP with IETF Integrated Servic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1 Specification of the Controlled-Load Network Element Servic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2 Specification of Guaranteed Quality of Servic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3 - Integrated Services Management Information Base using SMIv2</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4 - Integrated Services Management Information Base Guaranteed Service Extensions using SMIv2</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5 General Characterization Parameters for Integrated Service Network Elemen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r Layer Standard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216 - Network Element Service Specification Template</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326 - Real Time Streaming Protocol (RTSP)</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327 - SDP Session Description Protocol</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474 - Definition of the Differentiated Services Field (DS Field) in the IPv4 and IPv6 Header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475 - An Architecture for Differentiated Servic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543 - SIP Session Initiation Protocol</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597 - Assured Forwarding PHB Group</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598 - An Expedited Forwarding PHB</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705 - Media Gateway Control Protocol (MGCP) Version 1.0</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814 - SBM (Subnet Bandwidth Manager) A Protocol for RSVP-based Admission Control over IEEE 802-style network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815 -  Integrated Service Mappings on IEEE 802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8:14:42Z</dcterms:created>
  <dc:creator>Bob O'Hara</dc:creator>
  <dc:description/>
  <dc:language>en-US</dc:language>
  <cp:lastModifiedBy>Bob O'Hara</cp:lastModifiedBy>
  <dcterms:modified xsi:type="dcterms:W3CDTF">2000-07-10T23:44:19Z</dcterms:modified>
  <cp:revision>16</cp:revision>
  <dc:subject/>
  <dc:title>Perspective on the QoS Problem</dc:title>
</cp:coreProperties>
</file>