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91C-43C0-4493-9579-234C3F4D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23C-7207-4BBA-A282-CF728BEA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1ABF-05F8-4964-8541-F2CB2A09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052-97C0-4C17-9843-F09FDF2F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2F1-5895-4143-B369-6B9F6EDF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E44-9ED5-4F3E-B99C-B7102AA8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5A1-5294-4EF7-BCF5-C5FBCEB8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C84B-32F7-4FA1-9440-B52B271F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4CC-B011-4D30-B7A4-48F8888C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56D-695D-4C6F-9E1B-D1D65E68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7E3-C5B4-4D7E-8194-50DB0D40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483-B75C-4660-8AD2-184E602C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51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4304735-087D-494C-82B2-00B6899C1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15156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1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36504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98360" y="2057040"/>
            <a:ext cx="6932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Proposal for IEEE 802.11e Secur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09840" y="3276360"/>
            <a:ext cx="62467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 Task Group E July 2000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asad, Anan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rasad1@lucent.c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ji, Alex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aji@lucent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CED-B3FE-49AC-A001-2A6FBDE53AE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203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blic Key Exchange Requir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good pseudo random number 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ff3f3f"/>
                </a:solidFill>
                <a:latin typeface="Times New Roman"/>
              </a:rPr>
              <a:t>MD5(x,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ff3f3f"/>
                </a:solidFill>
                <a:latin typeface="Times New Roman"/>
              </a:rPr>
              <a:t>SHA(x,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-way hashing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calculate exponential modulus of larg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f3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f3f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ff3f3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3f3f"/>
                </a:solidFill>
                <a:latin typeface="Times New Roman"/>
              </a:rPr>
              <a:t> MOD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here p is 768 or 1024 bit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</a:t>
            </a:r>
            <a:r>
              <a:rPr b="0" lang="en-US" sz="2400" spc="-1" strike="noStrike">
                <a:solidFill>
                  <a:srgbClr val="ff3f3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3f3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3f3f"/>
                </a:solidFill>
                <a:latin typeface="Times New Roman"/>
              </a:rPr>
              <a:t> MOD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or RSA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verify certificate digital sign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ture standard verification (NIST FIP-1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</a:t>
            </a:r>
            <a:r>
              <a:rPr b="0" lang="en-US" sz="2000" spc="-1" strike="noStrike">
                <a:solidFill>
                  <a:srgbClr val="ff3f3f"/>
                </a:solidFill>
                <a:latin typeface="Times New Roman"/>
              </a:rPr>
              <a:t>SHA(x,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3f3f"/>
                </a:solidFill>
                <a:latin typeface="Times New Roman"/>
              </a:rPr>
              <a:t>g</a:t>
            </a:r>
            <a:r>
              <a:rPr b="1" lang="en-US" sz="2000" spc="-1" strike="noStrike" baseline="30000">
                <a:solidFill>
                  <a:srgbClr val="ff3f3f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ff3f3f"/>
                </a:solidFill>
                <a:latin typeface="Times New Roman"/>
              </a:rPr>
              <a:t> MOD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000" spc="-1" strike="noStrike">
                <a:solidFill>
                  <a:srgbClr val="ff3f3f"/>
                </a:solidFill>
                <a:latin typeface="Times New Roman"/>
              </a:rPr>
              <a:t>g</a:t>
            </a:r>
            <a:r>
              <a:rPr b="1" lang="en-US" sz="2000" spc="-1" strike="noStrike" baseline="30000">
                <a:solidFill>
                  <a:srgbClr val="ff3f3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3f3f"/>
                </a:solidFill>
                <a:latin typeface="Times New Roman"/>
              </a:rPr>
              <a:t> MOD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A signature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</a:t>
            </a:r>
            <a:r>
              <a:rPr b="0" lang="en-US" sz="2000" spc="-1" strike="noStrike">
                <a:solidFill>
                  <a:srgbClr val="ff3f3f"/>
                </a:solidFill>
                <a:latin typeface="Times New Roman"/>
              </a:rPr>
              <a:t>SHA(x,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000" spc="-1" strike="noStrike">
                <a:solidFill>
                  <a:srgbClr val="ff3f3f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ff3f3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3f3f"/>
                </a:solidFill>
                <a:latin typeface="Times New Roman"/>
              </a:rPr>
              <a:t> MOD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C9E-DC17-46AD-937B-567F5C2800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Key Ex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5000" y="1905120"/>
            <a:ext cx="14414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83160" y="1828800"/>
            <a:ext cx="144180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90800" y="2533680"/>
            <a:ext cx="0" cy="37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39160" y="2457360"/>
            <a:ext cx="0" cy="394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77920" y="289548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78560" y="2490840"/>
            <a:ext cx="3394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al values, Key (g^x), 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937880" y="4267080"/>
            <a:ext cx="5270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5040" y="3938760"/>
            <a:ext cx="412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ed proposal, Key (g^y), 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Ha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77920" y="571500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39400" y="5310360"/>
            <a:ext cx="631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80520" y="5869080"/>
            <a:ext cx="3116880" cy="365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key = Hash(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g^x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88400" y="3049560"/>
            <a:ext cx="2152080" cy="3322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^xy = (g^x)^y MOD 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00440" y="3506760"/>
            <a:ext cx="4321440" cy="642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Hash(g^xy+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g^x+g^y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8640" y="4878360"/>
            <a:ext cx="4863240" cy="365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Hash(g^xy+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g^y + g^x 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40040" y="4344840"/>
            <a:ext cx="2152080" cy="3322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^xy = (g^y)^x MOD 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160" y="5869080"/>
            <a:ext cx="3116880" cy="365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key = Hash(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g^x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2D9-0193-4F76-9607-6750F8D6E4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Key Exchange + Certificate Authent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05000" y="1905120"/>
            <a:ext cx="14414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83160" y="1828800"/>
            <a:ext cx="144180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90800" y="2533680"/>
            <a:ext cx="0" cy="37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39160" y="2457360"/>
            <a:ext cx="0" cy="379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77920" y="304812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68480" y="2643120"/>
            <a:ext cx="49863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al, Key (g^x), 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ff3f3f"/>
                </a:solidFill>
                <a:latin typeface="Times New Roman"/>
              </a:rPr>
              <a:t>Certificate Re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937880" y="3962520"/>
            <a:ext cx="5270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1080" y="3568680"/>
            <a:ext cx="53172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al, </a:t>
            </a:r>
            <a:r>
              <a:rPr b="0" lang="en-US" sz="1600" spc="-1" strike="noStrike">
                <a:solidFill>
                  <a:srgbClr val="ff3f3f"/>
                </a:solidFill>
                <a:latin typeface="Times New Roman"/>
              </a:rPr>
              <a:t>Certificate[BSSID,g^y,Signature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Ha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77920" y="495288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71000" y="4548240"/>
            <a:ext cx="631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760" y="5106960"/>
            <a:ext cx="3116880" cy="365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key = Hash(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g^x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80520" y="5106960"/>
            <a:ext cx="3116880" cy="365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key = Hash(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g^x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7200" y="4116240"/>
            <a:ext cx="2365200" cy="3322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ertificate sig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EB2-01AD-46F2-8559-14EAB43193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Key Distribution (WE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05000" y="1905120"/>
            <a:ext cx="14414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83160" y="1828800"/>
            <a:ext cx="144180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90800" y="2533680"/>
            <a:ext cx="0" cy="37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39160" y="2457360"/>
            <a:ext cx="0" cy="379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77920" y="304812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77840" y="2643120"/>
            <a:ext cx="28242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al, Key (g^x), 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937880" y="3733920"/>
            <a:ext cx="5270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4560" y="3328920"/>
            <a:ext cx="33969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al, Key (g^y), 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Ha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77920" y="434340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39400" y="4014720"/>
            <a:ext cx="631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37880" y="5791320"/>
            <a:ext cx="5270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75400" y="5386320"/>
            <a:ext cx="145548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Session key]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2120" y="4497480"/>
            <a:ext cx="3116880" cy="365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key = Hash(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g^x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0560" y="4497480"/>
            <a:ext cx="3116880" cy="365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key = Hash(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g^x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7120" y="4954680"/>
            <a:ext cx="2162520" cy="3322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C4(Session key, S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38600" y="5945040"/>
            <a:ext cx="2162520" cy="3322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C4(Session key, S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720-8533-4F9C-8DCA-7C81F5CD58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e Enhanced Authent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07F-70D6-4C15-91B3-FE02FFAC42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hanced Authentication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User and Machine level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emerging 802.1x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 to support multiple authentication protocols (PAP, CHAP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tible with popular AAA systems such as 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tibility with PKI and Certificat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process itself must be 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9C2-4B7C-47C8-87BB-D3EEB3A27E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x draft standard (EAP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360" y="1676520"/>
            <a:ext cx="8099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ble Authentication Protocol (EAP; RFC 2284) is a general protocol for PPP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OL is adopted by IEEE 802.1x as an authentication mechanism for network port access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OL supports multiple authentication mechanis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EEE draft P802.1X/D5 describes the use of EAPOL in Port based Network Access Control in IEEE 802.11 wireless LAN infrastru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POL communication occurs in an unsecured shared environment, so it is vulnerable to att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084-78A9-406D-A8A7-B197DA4404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Authentication Method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 a secret key prior to station authentication step to create a secure encrypted tun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 a single authentication methodology (PAP, CHAP, etc.) during the key exchang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APOL as defined in IEEE 802.1x, only after the secure tunnel is establ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Number Field of Authentication Frame is used to identify the EAPOL protocol vs the legacy Shared Key or Open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310-194D-467A-854B-9AE908AD98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P Over Wireless LAN (EAPOW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s the following vulner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ft of hardware enables unauthorized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 (enables user based authentication and filt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 cracking (provides the ability to limit the number of fail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dditional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tracking of lost/stolen hardware by logging the card MAC address while authentic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ABB-69D2-4854-AC5B-3F78E495BA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e Enhanced Priv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E37-6F39-4E40-91C7-6A0DB9C7ED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25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09960"/>
            <a:ext cx="7772400" cy="29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network security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for business, home and Internet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re alignment with I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re backward compatibility with the current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39F-51C6-4240-8A04-1DF2FCF834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hanced Privacy Protocol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multiple encryption algorithms (DES, 3DE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key per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ward compatibility with WEP/RC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rame Authentication as well as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defense against replay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defense against packet spoof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383-B5E7-42AE-9A16-29ED954F993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Enhanced Privac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7884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IPSec standard as a model (RFC 1826, 18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 a single packet security and privacy protocol for each station MAC address during the key exchang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layout is the same as WEP ex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 field could also become a 4 byte sequenc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V field could also become the payload has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ly add authentication field to 802.11 control and management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WEP, as well as other encryption algorith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C8E-54E5-4AE5-8AD0-09954E99712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hanced Privacy Packe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4191120"/>
          <a:ext cx="7610400" cy="55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91120"/>
                    <a:ext cx="761040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85800" y="2286000"/>
          <a:ext cx="761040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286000"/>
                    <a:ext cx="76104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222720" y="2960640"/>
            <a:ext cx="25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P encryption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4280" y="4941720"/>
            <a:ext cx="382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privacy encryption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DBE-7E78-4522-B9C6-0FAB01B4D0A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hanced Privacy Protocol Advant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s the following vulner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spoofing via frame authentication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plaintext attack via block cipher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te force att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a longer keys / better encryption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monitoring via packet 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ssociation attack via control frame authentication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y attack via integrated sequence number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013-B1BE-4558-872E-3BC14E2668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ng WEP to Enhanced Security Propo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5200" y="2211480"/>
          <a:ext cx="802152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211480"/>
                    <a:ext cx="802152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572480" y="5826240"/>
            <a:ext cx="164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Longer RC4 ke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4A0-F4C3-46A1-BB5A-104DFE3673C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view of 802.11 Security Vulnerabilities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7560" y="1447920"/>
            <a:ext cx="76406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 of encryption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ft of hardware is equivalent to theft of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poofing, disassociation at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gue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plain-text at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te force at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ve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y at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* Derived from Microsoft paper: IEEE 802.11-00/034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B732-4893-4B58-81C5-3D0791BAFB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25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802.11 Security Sol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/extensible security architecture with backward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 as well as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management with support for per station/per session encryption 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tual authentication (defense against rogue 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 to use other/better encryp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packet authentication (defense against replay attack and packet spoof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665-E532-4C3C-A932-CD13479E86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urity Proposal Highl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78249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encryption key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public key exchange (Diffie-Hellm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WEP key distribution/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well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entication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extensible authentication protocol (EAP) over wireless with multi-protocol support akin to 802.1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certificate authentication of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privacy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 of packet authentication and/or encryption (AH, E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nti-replay measures (sequence #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multiple encryption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C993-7543-4CDF-AD29-CF5D1B8123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e Dynamic Key Ex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EEC-27AC-4C0C-9FF1-DFA033B6798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ey Exchange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574040" cy="453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both shared key (WEP) and public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infrastructure as well as ad-hoc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ward compatibility with 802.11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rogue AP vuln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 to negotiate a variety of security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here to known and trusted security industry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 short key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 a single encrypted tunnel per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4F1-459E-46B0-9C03-F9ADA5CC2B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Methodology for Key Ex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internet key exchange (IKE, RFC 2409) standard as 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hange keys ASAP to establish a  secure tunnel (prior to associ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 KE messages over authentication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key exchange phase to the subsequent phases to prevent session hij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 mechanism for protocol negotiation for later phases (Authentication and Privacy protoc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4B3-C693-40E7-81DF-6F67A0C8D1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vantages Public Key Ex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es the following vulner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omise of the encryption key (each session has a new k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gue AP (via X.509 certificate authentication of the 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word cracking (allows encrypted session to be established before authent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e-Hellman public key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defined negotiation of a secret key between the end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iminates shared key requirement, simplif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X.509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d one-way or two-way certificate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81F-40ED-4710-A0A4-C72F84C0B3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02:25:06Z</dcterms:created>
  <dc:creator>Vic Hayes</dc:creator>
  <dc:description/>
  <dc:language>en-US</dc:language>
  <cp:lastModifiedBy>Vic Hayes</cp:lastModifiedBy>
  <cp:lastPrinted>1998-02-10T13:28:06Z</cp:lastPrinted>
  <dcterms:modified xsi:type="dcterms:W3CDTF">2000-07-09T02:32:33Z</dcterms:modified>
  <cp:revision>1</cp:revision>
  <dc:subject/>
  <dc:title>A Proposal for IEEE 802.11e Security  </dc:title>
</cp:coreProperties>
</file>