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F65-5457-48A6-BE90-4BA2EF61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87F-6E82-42EE-B27F-4E1E8284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05F-57B6-4E8C-8FD0-AE2F2290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3F5-5DCE-4225-BC3C-04201900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648-C058-4E6E-989B-CF2100E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92E-AC7C-4B71-8D41-401FABCC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2BE-7782-4E00-96F1-A2616B9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113-6E60-4741-8B59-E3FF7A1F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BF8-EC76-4760-843B-EEE9D90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7E6-58E9-4663-92F6-D32EB7E0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0FB-08E0-4A16-BBAB-2EE3BAB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952-6B01-4CCD-9FBE-59DF73A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EB6BEB-7E21-4781-8FA7-89BE02B39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118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Pla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Week of July 10-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B27-652B-478F-91A8-DCD4B7607B4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arketing mee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joint marketing meeting with 802.15 W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con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A 2000, New Orleans – July 9-12,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ing WLANs, Dallas October 25-27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CA………….Jim Zy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forum…..Bruce Kra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10A-927E-4CC8-97B6-335492325A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CA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broadband…..Al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racing both Fixed point radio and WLAN/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9-1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rleans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: Wireless PANs and WLANs….How Far Can They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: Andrew Kreg…www.wca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EC9-BA54-4106-922A-2D00C81BCE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ing Wireless LA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Implementing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5-27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coordinator: 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a Krusinski, Program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W. Monroe, 3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ago, IL 60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2-780-0700 ext  1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chair: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96C-CBAD-490E-A10B-9C4A9B7903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G-Ad 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d rules for 802.11W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will be on the WG reflector at the close of this session for WG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WG vote at the Interim meeting in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518-A19D-437E-A1F0-02008E9931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meeting with IEEE 802.15 on              Tuesday July 11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positioning the market 2.4GHz vs 5G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: Wireless Conferences and Tradeshows for 2000-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ress release and response as a “place holder” with regards to the FCC-NP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 on developing a marketing presentation for general use by the working gro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1A0-9DEF-4F3D-8410-5DD8088429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meeting with IEEE 802.15 on              Tuesday July 11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positioning the market 2.4GHz vs 5G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(s) for WECA, OFDM forum, IEEE 80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: Wireless Conferences and Tradeshows for 2000-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 on developing a marketing presentation for general use by the working gro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897-7896-4581-8B76-BDC27ABF71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– liaiso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6 wireless broad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91D-A288-48EE-B430-61C5354A38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stry Press Cont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ck Ma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 Kee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1AD-7D69-4BFA-A2CA-AEBC0E51C1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CA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broadband…..Al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racing both Fixed point radio and WLAN/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9-1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rleans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: Wireless PANs and WLANs….How Far Can They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: Andrew Kreg…www.wca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C04-9041-4D13-8E3C-202610963C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ing Wireless LA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Implementing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5-27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coordinator: 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a Krusinski, Program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W. Monroe, 3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ago, IL 60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2-780-0700 ext  1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chair: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1A1-2003-4FDE-B370-53E21D44C1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Design Mag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 Keenan, Editor-in-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ist: Bob H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 columnis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tary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s include both Wireless and Wir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on due: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ery month…approx 1500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986-80F2-490A-8C44-7255087060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802.11 Ad-Hoc Marketing Grou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13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AFA-6F88-4142-9163-F707FA0154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Valued Sony Customer</cp:lastModifiedBy>
  <cp:lastPrinted>1998-02-10T13:28:06Z</cp:lastPrinted>
  <dcterms:modified xsi:type="dcterms:W3CDTF">2000-07-13T22:08:39Z</dcterms:modified>
  <cp:revision>55</cp:revision>
  <dc:subject/>
  <dc:title>00/0xx-Marketing-Plans-for-Week-of-July10-14,2000</dc:title>
</cp:coreProperties>
</file>