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12673-E1D6-485C-9630-AD5A8315F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5C9CF-9D49-411E-8B4F-EEA0F7844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BD623-A622-42F6-96C5-B7FEDAE61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25616-64B4-41E2-99AF-1BAFBBDEB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98F2D-5FE3-45B4-80F4-355D408A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66E3-CFE7-42D9-87D8-E909D494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8EA0F-FF3C-4A3A-8028-B3FD9426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2A7C-683B-429F-AF5E-5087A812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7DCD2-3B80-4565-9F77-7F2B1400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30BF-4B1A-4247-A648-071CB4B2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2EDA-67C6-4222-AE86-325728F4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D931-962E-41DC-89A9-8B38834CC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035150-E9BC-44C3-B252-A6FBE0D1E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Report</a:t>
            </a:r>
            <a:br>
              <a:rPr sz="4400"/>
            </a:br>
            <a:r>
              <a:rPr b="0" lang="en-US" sz="4400" spc="-1" strike="noStrike">
                <a:solidFill>
                  <a:srgbClr val="000000"/>
                </a:solidFill>
                <a:latin typeface="Times New Roman"/>
              </a:rPr>
              <a:t>Regulatory ad-hoc work</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914400" y="3886200"/>
            <a:ext cx="723888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 Hayes, Lucent Technolog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0, Regulatory Ombudsm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F8822EBF-1008-48AD-9AAC-F75300FD692E}" type="slidenum">
              <a:t>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meeting resul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d a presentation to the UK-RA on the 5 GHz band plan (00/1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a liaison letter from ETSI-B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the 5150-5250 MHz rules in Ja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a paper on sharing of RLANs with Earth Exploration Satellit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9511355-D238-47DD-BDE5-1EA07B740FCB}"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ties since May 2000</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n UK 5 GHz band plan was given on June 2nd, 2000</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is in 00/ss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FS and TPC is required for devices if they operate in Europ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d band is required for Public Access Service provider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ervice Provider type for “Best-effort” is under stud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0CAE9220-BEBB-42FB-A377-4F8835A47802}"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ties since May 2000</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GHz for License-exempt devices is on the WRC-2003 agend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that we participate in the ITU-R activities to prepare the recommend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wide level of support from indust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4A3D55E0-5B22-4AE4-AB41-1C03D4943E92}"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isation of rul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ules in the IEEE, IEEE-USA and IEEE SA requires that we document our rules for preparation of submissions to Governmental bodies (includes ITU in my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y to be done in  SEC fir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have to be recognised in WG ru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2363A0E7-A170-493C-A901-E03E4252E6E3}"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for this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Response to the ETSI BRAN group regarding the use of IEEE 802.11 with 802.11a in Europe, stating our plans to make an amendment to the standard for European regulations (Dynamic Frequency Selection (DFS) and Transmit Power control (TPC))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Submission to the US preparatory group for ITU-R SG8a/9B rapporteur, stating the parameters for Radio LANs to be used for interference scenarios with Satellite Earth Exploration services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Possible preparatory work on possible reactions towards the following subjects to be approved at a tele-conference if the preparations were needed: </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1.FCC Docket 99-231, Wide-Band Frequency Hopping and DS testings </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2.FCC Docket 98-42. RF lighting devices in the 2.45 GHz band </a:t>
            </a:r>
            <a:endParaRPr b="0" lang="en-US" sz="1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3.UK Radio Communications Agency band plan for 5 GHz</a:t>
            </a: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077A5C0-C6EB-4489-A7DE-AEC211A0FF43}"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plac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8:30-10:00, Palatine 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8:30-10:00, Palatine 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4:00-5:00, Palatine 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change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 Palmero Ballro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033661F3-589D-4E66-95BC-574D088A7EB1}"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21:27:09Z</dcterms:created>
  <dc:creator>Vic Hayes</dc:creator>
  <dc:description/>
  <dc:language>en-US</dc:language>
  <cp:lastModifiedBy>Harry R. Worstell</cp:lastModifiedBy>
  <cp:lastPrinted>1998-02-10T13:28:06Z</cp:lastPrinted>
  <dcterms:modified xsi:type="dcterms:W3CDTF">2000-07-10T16:56:21Z</dcterms:modified>
  <cp:revision>4</cp:revision>
  <dc:subject/>
  <dc:title>May meeting results</dc:title>
</cp:coreProperties>
</file>