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217440"/>
            <a:ext cx="7700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67080" y="43092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oc.: IEEE 802.11-00/1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4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6214680" y="6509880"/>
            <a:ext cx="224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un Ayyagari, et al   Microsoft,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4720" y="6510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12040"/>
            <a:ext cx="784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62160" y="651204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12A0AACB-EABD-42F0-87B2-261698AED6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461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390760" indent="-442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390760" indent="-44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390760" indent="-44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IEEE 802.11e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QoS Application Scenario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un Ayyagari, Yoram Bernet, Tim Moore, Victoria Ponci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Corpo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 flipH="1">
            <a:off x="4595400" y="464832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3320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3321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3324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3327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29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2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3333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3336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8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3339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3340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2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3343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5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3346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8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49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3350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3351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3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3357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3360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3363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3366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3369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4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3379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3380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2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3383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5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3386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8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9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3390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3391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96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3397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99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3400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02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3403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05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3406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08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3409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1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3412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4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8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3419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3420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2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3423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5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3426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8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9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3430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3431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3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6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3437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9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3440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2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3443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5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3446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8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3449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1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3452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4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8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0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3461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62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3463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9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0" name=""/>
          <p:cNvGrpSpPr/>
          <p:nvPr/>
        </p:nvGrpSpPr>
        <p:grpSpPr>
          <a:xfrm>
            <a:off x="3505320" y="4648320"/>
            <a:ext cx="2021760" cy="1646640"/>
            <a:chOff x="3505320" y="4648320"/>
            <a:chExt cx="2021760" cy="1646640"/>
          </a:xfrm>
        </p:grpSpPr>
        <p:grpSp>
          <p:nvGrpSpPr>
            <p:cNvPr id="3471" name=""/>
            <p:cNvGrpSpPr/>
            <p:nvPr/>
          </p:nvGrpSpPr>
          <p:grpSpPr>
            <a:xfrm>
              <a:off x="3505320" y="4648320"/>
              <a:ext cx="2021760" cy="1646640"/>
              <a:chOff x="3505320" y="4648320"/>
              <a:chExt cx="2021760" cy="1646640"/>
            </a:xfrm>
          </p:grpSpPr>
          <p:grpSp>
            <p:nvGrpSpPr>
              <p:cNvPr id="3472" name=""/>
              <p:cNvGrpSpPr/>
              <p:nvPr/>
            </p:nvGrpSpPr>
            <p:grpSpPr>
              <a:xfrm>
                <a:off x="4698360" y="4795920"/>
                <a:ext cx="828720" cy="1417320"/>
                <a:chOff x="4698360" y="4795920"/>
                <a:chExt cx="828720" cy="1417320"/>
              </a:xfrm>
            </p:grpSpPr>
            <p:grpSp>
              <p:nvGrpSpPr>
                <p:cNvPr id="3473" name=""/>
                <p:cNvGrpSpPr/>
                <p:nvPr/>
              </p:nvGrpSpPr>
              <p:grpSpPr>
                <a:xfrm>
                  <a:off x="5022720" y="4795920"/>
                  <a:ext cx="504360" cy="1139400"/>
                  <a:chOff x="5022720" y="4795920"/>
                  <a:chExt cx="504360" cy="1139400"/>
                </a:xfrm>
              </p:grpSpPr>
              <p:grpSp>
                <p:nvGrpSpPr>
                  <p:cNvPr id="3474" name=""/>
                  <p:cNvGrpSpPr/>
                  <p:nvPr/>
                </p:nvGrpSpPr>
                <p:grpSpPr>
                  <a:xfrm>
                    <a:off x="5159880" y="4954680"/>
                    <a:ext cx="367200" cy="821520"/>
                    <a:chOff x="5159880" y="4954680"/>
                    <a:chExt cx="367200" cy="821520"/>
                  </a:xfrm>
                </p:grpSpPr>
                <p:grpSp>
                  <p:nvGrpSpPr>
                    <p:cNvPr id="3475" name=""/>
                    <p:cNvGrpSpPr/>
                    <p:nvPr/>
                  </p:nvGrpSpPr>
                  <p:grpSpPr>
                    <a:xfrm>
                      <a:off x="5159880" y="4954680"/>
                      <a:ext cx="367200" cy="821520"/>
                      <a:chOff x="5159880" y="4954680"/>
                      <a:chExt cx="367200" cy="821520"/>
                    </a:xfrm>
                  </p:grpSpPr>
                  <p:grpSp>
                    <p:nvGrpSpPr>
                      <p:cNvPr id="3476" name=""/>
                      <p:cNvGrpSpPr/>
                      <p:nvPr/>
                    </p:nvGrpSpPr>
                    <p:grpSpPr>
                      <a:xfrm>
                        <a:off x="5257080" y="5007240"/>
                        <a:ext cx="270000" cy="667800"/>
                        <a:chOff x="5257080" y="5007240"/>
                        <a:chExt cx="270000" cy="667800"/>
                      </a:xfrm>
                    </p:grpSpPr>
                    <p:grpSp>
                      <p:nvGrpSpPr>
                        <p:cNvPr id="3477" name=""/>
                        <p:cNvGrpSpPr/>
                        <p:nvPr/>
                      </p:nvGrpSpPr>
                      <p:grpSpPr>
                        <a:xfrm>
                          <a:off x="5290200" y="5007240"/>
                          <a:ext cx="236880" cy="667800"/>
                          <a:chOff x="5290200" y="5007240"/>
                          <a:chExt cx="236880" cy="667800"/>
                        </a:xfrm>
                      </p:grpSpPr>
                      <p:sp>
                        <p:nvSpPr>
                          <p:cNvPr id="3478" name=""/>
                          <p:cNvSpPr/>
                          <p:nvPr/>
                        </p:nvSpPr>
                        <p:spPr>
                          <a:xfrm>
                            <a:off x="5423760" y="5412960"/>
                            <a:ext cx="103320" cy="16020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79" name=""/>
                          <p:cNvSpPr/>
                          <p:nvPr/>
                        </p:nvSpPr>
                        <p:spPr>
                          <a:xfrm>
                            <a:off x="5320080" y="5464080"/>
                            <a:ext cx="137880" cy="210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0" name=""/>
                          <p:cNvSpPr/>
                          <p:nvPr/>
                        </p:nvSpPr>
                        <p:spPr>
                          <a:xfrm>
                            <a:off x="5389200" y="5156640"/>
                            <a:ext cx="104760" cy="16020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1" name=""/>
                          <p:cNvSpPr/>
                          <p:nvPr/>
                        </p:nvSpPr>
                        <p:spPr>
                          <a:xfrm>
                            <a:off x="5290200" y="5007240"/>
                            <a:ext cx="137880" cy="210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2" name=""/>
                          <p:cNvSpPr/>
                          <p:nvPr/>
                        </p:nvSpPr>
                        <p:spPr>
                          <a:xfrm>
                            <a:off x="5389200" y="5156640"/>
                            <a:ext cx="93960" cy="376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83" name=""/>
                        <p:cNvSpPr/>
                        <p:nvPr/>
                      </p:nvSpPr>
                      <p:spPr>
                        <a:xfrm>
                          <a:off x="5257080" y="5209200"/>
                          <a:ext cx="201240" cy="31500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4" name=""/>
                        <p:cNvSpPr/>
                        <p:nvPr/>
                      </p:nvSpPr>
                      <p:spPr>
                        <a:xfrm>
                          <a:off x="5257080" y="5413320"/>
                          <a:ext cx="135360" cy="21312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5" name=""/>
                        <p:cNvSpPr/>
                        <p:nvPr/>
                      </p:nvSpPr>
                      <p:spPr>
                        <a:xfrm>
                          <a:off x="5301000" y="5118120"/>
                          <a:ext cx="103680" cy="40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86" name=""/>
                      <p:cNvSpPr/>
                      <p:nvPr/>
                    </p:nvSpPr>
                    <p:spPr>
                      <a:xfrm>
                        <a:off x="5257080" y="5617800"/>
                        <a:ext cx="104040" cy="15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7" name=""/>
                      <p:cNvSpPr/>
                      <p:nvPr/>
                    </p:nvSpPr>
                    <p:spPr>
                      <a:xfrm>
                        <a:off x="5159880" y="4954680"/>
                        <a:ext cx="135000" cy="2113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8" name=""/>
                      <p:cNvSpPr/>
                      <p:nvPr/>
                    </p:nvSpPr>
                    <p:spPr>
                      <a:xfrm>
                        <a:off x="5291640" y="5576040"/>
                        <a:ext cx="72360" cy="5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89" name=""/>
                    <p:cNvSpPr/>
                    <p:nvPr/>
                  </p:nvSpPr>
                  <p:spPr>
                    <a:xfrm>
                      <a:off x="5281200" y="5067360"/>
                      <a:ext cx="3132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90" name=""/>
                  <p:cNvGrpSpPr/>
                  <p:nvPr/>
                </p:nvGrpSpPr>
                <p:grpSpPr>
                  <a:xfrm>
                    <a:off x="5022720" y="4795920"/>
                    <a:ext cx="338400" cy="1031760"/>
                    <a:chOff x="5022720" y="4795920"/>
                    <a:chExt cx="338400" cy="1031760"/>
                  </a:xfrm>
                </p:grpSpPr>
                <p:sp>
                  <p:nvSpPr>
                    <p:cNvPr id="3491" name=""/>
                    <p:cNvSpPr/>
                    <p:nvPr/>
                  </p:nvSpPr>
                  <p:spPr>
                    <a:xfrm>
                      <a:off x="5054400" y="5414040"/>
                      <a:ext cx="272160" cy="4136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2" name=""/>
                    <p:cNvSpPr/>
                    <p:nvPr/>
                  </p:nvSpPr>
                  <p:spPr>
                    <a:xfrm>
                      <a:off x="5088960" y="5105880"/>
                      <a:ext cx="272160" cy="4190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3" name=""/>
                    <p:cNvSpPr/>
                    <p:nvPr/>
                  </p:nvSpPr>
                  <p:spPr>
                    <a:xfrm>
                      <a:off x="5022720" y="4795920"/>
                      <a:ext cx="204840" cy="3207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4" name=""/>
                    <p:cNvSpPr/>
                    <p:nvPr/>
                  </p:nvSpPr>
                  <p:spPr>
                    <a:xfrm>
                      <a:off x="5159520" y="5007600"/>
                      <a:ext cx="100440" cy="1587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5" name=""/>
                    <p:cNvSpPr/>
                    <p:nvPr/>
                  </p:nvSpPr>
                  <p:spPr>
                    <a:xfrm>
                      <a:off x="5088960" y="4961880"/>
                      <a:ext cx="1807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6" name=""/>
                    <p:cNvSpPr/>
                    <p:nvPr/>
                  </p:nvSpPr>
                  <p:spPr>
                    <a:xfrm>
                      <a:off x="5181840" y="5500080"/>
                      <a:ext cx="113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97" name=""/>
                  <p:cNvSpPr/>
                  <p:nvPr/>
                </p:nvSpPr>
                <p:spPr>
                  <a:xfrm>
                    <a:off x="5022720" y="5722560"/>
                    <a:ext cx="141480" cy="2127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>
                    <a:off x="5123520" y="5694840"/>
                    <a:ext cx="7236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9" name=""/>
                <p:cNvSpPr/>
                <p:nvPr/>
              </p:nvSpPr>
              <p:spPr>
                <a:xfrm>
                  <a:off x="4698360" y="5950800"/>
                  <a:ext cx="169920" cy="262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4858920" y="5950800"/>
                  <a:ext cx="136800" cy="214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4950360" y="5870520"/>
                  <a:ext cx="136800" cy="214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4814640" y="5828400"/>
                  <a:ext cx="303840" cy="30636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3" name=""/>
              <p:cNvGrpSpPr/>
              <p:nvPr/>
            </p:nvGrpSpPr>
            <p:grpSpPr>
              <a:xfrm>
                <a:off x="3505320" y="4812480"/>
                <a:ext cx="487800" cy="964080"/>
                <a:chOff x="3505320" y="4812480"/>
                <a:chExt cx="487800" cy="964080"/>
              </a:xfrm>
            </p:grpSpPr>
            <p:grpSp>
              <p:nvGrpSpPr>
                <p:cNvPr id="3504" name=""/>
                <p:cNvGrpSpPr/>
                <p:nvPr/>
              </p:nvGrpSpPr>
              <p:grpSpPr>
                <a:xfrm>
                  <a:off x="3505320" y="4954680"/>
                  <a:ext cx="254520" cy="570240"/>
                  <a:chOff x="3505320" y="4954680"/>
                  <a:chExt cx="254520" cy="570240"/>
                </a:xfrm>
              </p:grpSpPr>
              <p:sp>
                <p:nvSpPr>
                  <p:cNvPr id="3505" name=""/>
                  <p:cNvSpPr/>
                  <p:nvPr/>
                </p:nvSpPr>
                <p:spPr>
                  <a:xfrm>
                    <a:off x="3505320" y="5157000"/>
                    <a:ext cx="103680" cy="160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>
                    <a:off x="3524040" y="5315400"/>
                    <a:ext cx="136440" cy="2095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7" name=""/>
                  <p:cNvSpPr/>
                  <p:nvPr/>
                </p:nvSpPr>
                <p:spPr>
                  <a:xfrm>
                    <a:off x="3558600" y="4954680"/>
                    <a:ext cx="201240" cy="315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>
                    <a:off x="3539880" y="5182200"/>
                    <a:ext cx="70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9" name=""/>
                <p:cNvGrpSpPr/>
                <p:nvPr/>
              </p:nvGrpSpPr>
              <p:grpSpPr>
                <a:xfrm>
                  <a:off x="3590280" y="4812480"/>
                  <a:ext cx="402840" cy="964080"/>
                  <a:chOff x="3590280" y="4812480"/>
                  <a:chExt cx="402840" cy="964080"/>
                </a:xfrm>
              </p:grpSpPr>
              <p:sp>
                <p:nvSpPr>
                  <p:cNvPr id="3510" name=""/>
                  <p:cNvSpPr/>
                  <p:nvPr/>
                </p:nvSpPr>
                <p:spPr>
                  <a:xfrm>
                    <a:off x="3727080" y="4847040"/>
                    <a:ext cx="266040" cy="4226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>
                    <a:off x="3590280" y="5157000"/>
                    <a:ext cx="136800" cy="2127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2" name=""/>
                  <p:cNvSpPr/>
                  <p:nvPr/>
                </p:nvSpPr>
                <p:spPr>
                  <a:xfrm>
                    <a:off x="3623400" y="5315400"/>
                    <a:ext cx="207720" cy="3114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3" name=""/>
                  <p:cNvSpPr/>
                  <p:nvPr/>
                </p:nvSpPr>
                <p:spPr>
                  <a:xfrm>
                    <a:off x="3692520" y="5465160"/>
                    <a:ext cx="204480" cy="3114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>
                    <a:off x="3709800" y="5061960"/>
                    <a:ext cx="176400" cy="267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3871800" y="4812480"/>
                    <a:ext cx="108720" cy="154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3769560" y="5005800"/>
                    <a:ext cx="12420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>
                    <a:off x="3634200" y="5264640"/>
                    <a:ext cx="14796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18" name=""/>
                <p:cNvSpPr/>
                <p:nvPr/>
              </p:nvSpPr>
              <p:spPr>
                <a:xfrm>
                  <a:off x="3862800" y="4914360"/>
                  <a:ext cx="73800" cy="1216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9" name=""/>
              <p:cNvGrpSpPr/>
              <p:nvPr/>
            </p:nvGrpSpPr>
            <p:grpSpPr>
              <a:xfrm>
                <a:off x="3755880" y="4648320"/>
                <a:ext cx="1471680" cy="1646640"/>
                <a:chOff x="3755880" y="4648320"/>
                <a:chExt cx="1471680" cy="1646640"/>
              </a:xfrm>
            </p:grpSpPr>
            <p:sp>
              <p:nvSpPr>
                <p:cNvPr id="3520" name=""/>
                <p:cNvSpPr/>
                <p:nvPr/>
              </p:nvSpPr>
              <p:spPr>
                <a:xfrm>
                  <a:off x="4223880" y="4697280"/>
                  <a:ext cx="336960" cy="5212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4521600" y="4648320"/>
                  <a:ext cx="275760" cy="417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4787640" y="5105880"/>
                  <a:ext cx="439920" cy="6710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3925800" y="5414040"/>
                  <a:ext cx="499320" cy="7768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4658760" y="5518440"/>
                  <a:ext cx="370080" cy="568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3791880" y="5571360"/>
                  <a:ext cx="271080" cy="4118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3755880" y="5209920"/>
                  <a:ext cx="270720" cy="417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3888000" y="4795920"/>
                  <a:ext cx="442800" cy="67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4291560" y="5618520"/>
                  <a:ext cx="438120" cy="67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4858920" y="4847040"/>
                  <a:ext cx="332280" cy="5230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4756320" y="4648320"/>
                  <a:ext cx="307080" cy="4683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3873960" y="4776120"/>
                  <a:ext cx="1279080" cy="130572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32" name=""/>
            <p:cNvGrpSpPr/>
            <p:nvPr/>
          </p:nvGrpSpPr>
          <p:grpSpPr>
            <a:xfrm>
              <a:off x="3823560" y="4865400"/>
              <a:ext cx="1265400" cy="997560"/>
              <a:chOff x="3823560" y="4865400"/>
              <a:chExt cx="1265400" cy="997560"/>
            </a:xfrm>
          </p:grpSpPr>
          <p:sp>
            <p:nvSpPr>
              <p:cNvPr id="3533" name=""/>
              <p:cNvSpPr/>
              <p:nvPr/>
            </p:nvSpPr>
            <p:spPr>
              <a:xfrm>
                <a:off x="3823560" y="4865400"/>
                <a:ext cx="1265400" cy="6199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3823560" y="5244480"/>
                <a:ext cx="1233360" cy="6184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5" name=""/>
          <p:cNvGrpSpPr/>
          <p:nvPr/>
        </p:nvGrpSpPr>
        <p:grpSpPr>
          <a:xfrm>
            <a:off x="4952880" y="5181480"/>
            <a:ext cx="511200" cy="381240"/>
            <a:chOff x="4952880" y="5181480"/>
            <a:chExt cx="511200" cy="381240"/>
          </a:xfrm>
        </p:grpSpPr>
        <p:grpSp>
          <p:nvGrpSpPr>
            <p:cNvPr id="3536" name=""/>
            <p:cNvGrpSpPr/>
            <p:nvPr/>
          </p:nvGrpSpPr>
          <p:grpSpPr>
            <a:xfrm>
              <a:off x="4953600" y="5230440"/>
              <a:ext cx="322560" cy="332280"/>
              <a:chOff x="4953600" y="5230440"/>
              <a:chExt cx="322560" cy="332280"/>
            </a:xfrm>
          </p:grpSpPr>
          <p:sp>
            <p:nvSpPr>
              <p:cNvPr id="3537" name=""/>
              <p:cNvSpPr/>
              <p:nvPr/>
            </p:nvSpPr>
            <p:spPr>
              <a:xfrm>
                <a:off x="4953600" y="5230440"/>
                <a:ext cx="322560" cy="33228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953600" y="5230440"/>
                <a:ext cx="322560" cy="33228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9" name=""/>
            <p:cNvGrpSpPr/>
            <p:nvPr/>
          </p:nvGrpSpPr>
          <p:grpSpPr>
            <a:xfrm>
              <a:off x="5276160" y="5241960"/>
              <a:ext cx="186120" cy="320760"/>
              <a:chOff x="5276160" y="5241960"/>
              <a:chExt cx="186120" cy="320760"/>
            </a:xfrm>
          </p:grpSpPr>
          <p:sp>
            <p:nvSpPr>
              <p:cNvPr id="3540" name=""/>
              <p:cNvSpPr/>
              <p:nvPr/>
            </p:nvSpPr>
            <p:spPr>
              <a:xfrm>
                <a:off x="5276160" y="5241960"/>
                <a:ext cx="186120" cy="3207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5276160" y="5241960"/>
                <a:ext cx="186120" cy="3207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2" name=""/>
            <p:cNvGrpSpPr/>
            <p:nvPr/>
          </p:nvGrpSpPr>
          <p:grpSpPr>
            <a:xfrm>
              <a:off x="4952880" y="5181480"/>
              <a:ext cx="511200" cy="133560"/>
              <a:chOff x="4952880" y="5181480"/>
              <a:chExt cx="511200" cy="133560"/>
            </a:xfrm>
          </p:grpSpPr>
          <p:sp>
            <p:nvSpPr>
              <p:cNvPr id="3543" name=""/>
              <p:cNvSpPr/>
              <p:nvPr/>
            </p:nvSpPr>
            <p:spPr>
              <a:xfrm>
                <a:off x="4952880" y="518148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952880" y="518148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5" name=""/>
            <p:cNvSpPr/>
            <p:nvPr/>
          </p:nvSpPr>
          <p:spPr>
            <a:xfrm>
              <a:off x="4973040" y="5260320"/>
              <a:ext cx="2725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973040" y="5332320"/>
              <a:ext cx="272520" cy="19692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973040" y="5260320"/>
              <a:ext cx="271080" cy="175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8" name=""/>
            <p:cNvGrpSpPr/>
            <p:nvPr/>
          </p:nvGrpSpPr>
          <p:grpSpPr>
            <a:xfrm>
              <a:off x="4992120" y="5286600"/>
              <a:ext cx="132840" cy="65160"/>
              <a:chOff x="4992120" y="5286600"/>
              <a:chExt cx="132840" cy="65160"/>
            </a:xfrm>
          </p:grpSpPr>
          <p:sp>
            <p:nvSpPr>
              <p:cNvPr id="3549" name=""/>
              <p:cNvSpPr/>
              <p:nvPr/>
            </p:nvSpPr>
            <p:spPr>
              <a:xfrm>
                <a:off x="4992120" y="5286600"/>
                <a:ext cx="132840" cy="65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4992120" y="5286600"/>
                <a:ext cx="132840" cy="65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1" name=""/>
            <p:cNvGrpSpPr/>
            <p:nvPr/>
          </p:nvGrpSpPr>
          <p:grpSpPr>
            <a:xfrm>
              <a:off x="4990680" y="5356080"/>
              <a:ext cx="83160" cy="96840"/>
              <a:chOff x="4990680" y="5356080"/>
              <a:chExt cx="83160" cy="96840"/>
            </a:xfrm>
          </p:grpSpPr>
          <p:sp>
            <p:nvSpPr>
              <p:cNvPr id="3552" name=""/>
              <p:cNvSpPr/>
              <p:nvPr/>
            </p:nvSpPr>
            <p:spPr>
              <a:xfrm>
                <a:off x="4990680" y="535608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4990680" y="535608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54" name=""/>
          <p:cNvGrpSpPr/>
          <p:nvPr/>
        </p:nvGrpSpPr>
        <p:grpSpPr>
          <a:xfrm>
            <a:off x="3962520" y="5715000"/>
            <a:ext cx="507960" cy="380880"/>
            <a:chOff x="3962520" y="5715000"/>
            <a:chExt cx="507960" cy="380880"/>
          </a:xfrm>
        </p:grpSpPr>
        <p:grpSp>
          <p:nvGrpSpPr>
            <p:cNvPr id="3555" name=""/>
            <p:cNvGrpSpPr/>
            <p:nvPr/>
          </p:nvGrpSpPr>
          <p:grpSpPr>
            <a:xfrm>
              <a:off x="3963240" y="5763960"/>
              <a:ext cx="320400" cy="331920"/>
              <a:chOff x="3963240" y="5763960"/>
              <a:chExt cx="320400" cy="331920"/>
            </a:xfrm>
          </p:grpSpPr>
          <p:sp>
            <p:nvSpPr>
              <p:cNvPr id="3556" name=""/>
              <p:cNvSpPr/>
              <p:nvPr/>
            </p:nvSpPr>
            <p:spPr>
              <a:xfrm>
                <a:off x="3963240" y="5763960"/>
                <a:ext cx="32040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3963240" y="5763960"/>
                <a:ext cx="32040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8" name=""/>
            <p:cNvGrpSpPr/>
            <p:nvPr/>
          </p:nvGrpSpPr>
          <p:grpSpPr>
            <a:xfrm>
              <a:off x="4284000" y="5775120"/>
              <a:ext cx="184680" cy="320400"/>
              <a:chOff x="4284000" y="5775120"/>
              <a:chExt cx="184680" cy="320400"/>
            </a:xfrm>
          </p:grpSpPr>
          <p:sp>
            <p:nvSpPr>
              <p:cNvPr id="3559" name=""/>
              <p:cNvSpPr/>
              <p:nvPr/>
            </p:nvSpPr>
            <p:spPr>
              <a:xfrm>
                <a:off x="4284000" y="5775120"/>
                <a:ext cx="18468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4284000" y="5775120"/>
                <a:ext cx="18468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1" name=""/>
            <p:cNvGrpSpPr/>
            <p:nvPr/>
          </p:nvGrpSpPr>
          <p:grpSpPr>
            <a:xfrm>
              <a:off x="3962520" y="5715000"/>
              <a:ext cx="507960" cy="133560"/>
              <a:chOff x="3962520" y="5715000"/>
              <a:chExt cx="507960" cy="133560"/>
            </a:xfrm>
          </p:grpSpPr>
          <p:sp>
            <p:nvSpPr>
              <p:cNvPr id="3562" name=""/>
              <p:cNvSpPr/>
              <p:nvPr/>
            </p:nvSpPr>
            <p:spPr>
              <a:xfrm>
                <a:off x="3962520" y="5715000"/>
                <a:ext cx="50796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3962520" y="5715000"/>
                <a:ext cx="50796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64" name=""/>
            <p:cNvSpPr/>
            <p:nvPr/>
          </p:nvSpPr>
          <p:spPr>
            <a:xfrm>
              <a:off x="3982680" y="5793840"/>
              <a:ext cx="2707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982680" y="5865480"/>
              <a:ext cx="270720" cy="1965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982680" y="5793840"/>
              <a:ext cx="269280" cy="1753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7" name=""/>
            <p:cNvGrpSpPr/>
            <p:nvPr/>
          </p:nvGrpSpPr>
          <p:grpSpPr>
            <a:xfrm>
              <a:off x="4001400" y="5820120"/>
              <a:ext cx="132120" cy="64800"/>
              <a:chOff x="4001400" y="5820120"/>
              <a:chExt cx="132120" cy="64800"/>
            </a:xfrm>
          </p:grpSpPr>
          <p:sp>
            <p:nvSpPr>
              <p:cNvPr id="3568" name=""/>
              <p:cNvSpPr/>
              <p:nvPr/>
            </p:nvSpPr>
            <p:spPr>
              <a:xfrm>
                <a:off x="4001400" y="5820120"/>
                <a:ext cx="13212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001400" y="5820120"/>
                <a:ext cx="13212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0" name=""/>
            <p:cNvGrpSpPr/>
            <p:nvPr/>
          </p:nvGrpSpPr>
          <p:grpSpPr>
            <a:xfrm>
              <a:off x="3999960" y="5889240"/>
              <a:ext cx="82440" cy="96840"/>
              <a:chOff x="3999960" y="5889240"/>
              <a:chExt cx="82440" cy="96840"/>
            </a:xfrm>
          </p:grpSpPr>
          <p:sp>
            <p:nvSpPr>
              <p:cNvPr id="3571" name=""/>
              <p:cNvSpPr/>
              <p:nvPr/>
            </p:nvSpPr>
            <p:spPr>
              <a:xfrm>
                <a:off x="3999960" y="5889240"/>
                <a:ext cx="8244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999960" y="5889240"/>
                <a:ext cx="8244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3" name=""/>
          <p:cNvGrpSpPr/>
          <p:nvPr/>
        </p:nvGrpSpPr>
        <p:grpSpPr>
          <a:xfrm>
            <a:off x="4191120" y="5029200"/>
            <a:ext cx="511200" cy="380880"/>
            <a:chOff x="4191120" y="5029200"/>
            <a:chExt cx="511200" cy="380880"/>
          </a:xfrm>
        </p:grpSpPr>
        <p:grpSp>
          <p:nvGrpSpPr>
            <p:cNvPr id="3574" name=""/>
            <p:cNvGrpSpPr/>
            <p:nvPr/>
          </p:nvGrpSpPr>
          <p:grpSpPr>
            <a:xfrm>
              <a:off x="4191840" y="5078160"/>
              <a:ext cx="322560" cy="331920"/>
              <a:chOff x="4191840" y="5078160"/>
              <a:chExt cx="322560" cy="331920"/>
            </a:xfrm>
          </p:grpSpPr>
          <p:sp>
            <p:nvSpPr>
              <p:cNvPr id="3575" name=""/>
              <p:cNvSpPr/>
              <p:nvPr/>
            </p:nvSpPr>
            <p:spPr>
              <a:xfrm>
                <a:off x="4191840" y="507816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191840" y="507816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7" name=""/>
            <p:cNvGrpSpPr/>
            <p:nvPr/>
          </p:nvGrpSpPr>
          <p:grpSpPr>
            <a:xfrm>
              <a:off x="4514400" y="5089320"/>
              <a:ext cx="186120" cy="320400"/>
              <a:chOff x="4514400" y="5089320"/>
              <a:chExt cx="186120" cy="320400"/>
            </a:xfrm>
          </p:grpSpPr>
          <p:sp>
            <p:nvSpPr>
              <p:cNvPr id="3578" name=""/>
              <p:cNvSpPr/>
              <p:nvPr/>
            </p:nvSpPr>
            <p:spPr>
              <a:xfrm>
                <a:off x="4514400" y="508932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514400" y="508932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0" name=""/>
            <p:cNvGrpSpPr/>
            <p:nvPr/>
          </p:nvGrpSpPr>
          <p:grpSpPr>
            <a:xfrm>
              <a:off x="4191120" y="5029200"/>
              <a:ext cx="511200" cy="133560"/>
              <a:chOff x="4191120" y="5029200"/>
              <a:chExt cx="511200" cy="133560"/>
            </a:xfrm>
          </p:grpSpPr>
          <p:sp>
            <p:nvSpPr>
              <p:cNvPr id="3581" name=""/>
              <p:cNvSpPr/>
              <p:nvPr/>
            </p:nvSpPr>
            <p:spPr>
              <a:xfrm>
                <a:off x="4191120" y="502920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191120" y="502920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3" name=""/>
            <p:cNvSpPr/>
            <p:nvPr/>
          </p:nvSpPr>
          <p:spPr>
            <a:xfrm>
              <a:off x="4211280" y="5108040"/>
              <a:ext cx="2725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211280" y="5179680"/>
              <a:ext cx="272520" cy="1965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211280" y="5108040"/>
              <a:ext cx="271080" cy="1753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86" name=""/>
            <p:cNvGrpSpPr/>
            <p:nvPr/>
          </p:nvGrpSpPr>
          <p:grpSpPr>
            <a:xfrm>
              <a:off x="4230360" y="5134320"/>
              <a:ext cx="132840" cy="64800"/>
              <a:chOff x="4230360" y="5134320"/>
              <a:chExt cx="132840" cy="64800"/>
            </a:xfrm>
          </p:grpSpPr>
          <p:sp>
            <p:nvSpPr>
              <p:cNvPr id="3587" name=""/>
              <p:cNvSpPr/>
              <p:nvPr/>
            </p:nvSpPr>
            <p:spPr>
              <a:xfrm>
                <a:off x="4230360" y="513432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230360" y="513432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9" name=""/>
            <p:cNvGrpSpPr/>
            <p:nvPr/>
          </p:nvGrpSpPr>
          <p:grpSpPr>
            <a:xfrm>
              <a:off x="4228920" y="5203440"/>
              <a:ext cx="83160" cy="96840"/>
              <a:chOff x="4228920" y="5203440"/>
              <a:chExt cx="83160" cy="96840"/>
            </a:xfrm>
          </p:grpSpPr>
          <p:sp>
            <p:nvSpPr>
              <p:cNvPr id="3590" name=""/>
              <p:cNvSpPr/>
              <p:nvPr/>
            </p:nvSpPr>
            <p:spPr>
              <a:xfrm>
                <a:off x="4228920" y="520344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228920" y="520344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2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3593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3594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6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3597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9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3600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2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05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3606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3609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1" name=""/>
          <p:cNvGrpSpPr/>
          <p:nvPr/>
        </p:nvGrpSpPr>
        <p:grpSpPr>
          <a:xfrm>
            <a:off x="3657600" y="5105520"/>
            <a:ext cx="511200" cy="380880"/>
            <a:chOff x="3657600" y="5105520"/>
            <a:chExt cx="511200" cy="380880"/>
          </a:xfrm>
        </p:grpSpPr>
        <p:grpSp>
          <p:nvGrpSpPr>
            <p:cNvPr id="3612" name=""/>
            <p:cNvGrpSpPr/>
            <p:nvPr/>
          </p:nvGrpSpPr>
          <p:grpSpPr>
            <a:xfrm>
              <a:off x="3658320" y="5154480"/>
              <a:ext cx="322560" cy="331920"/>
              <a:chOff x="3658320" y="5154480"/>
              <a:chExt cx="322560" cy="331920"/>
            </a:xfrm>
          </p:grpSpPr>
          <p:sp>
            <p:nvSpPr>
              <p:cNvPr id="3613" name=""/>
              <p:cNvSpPr/>
              <p:nvPr/>
            </p:nvSpPr>
            <p:spPr>
              <a:xfrm>
                <a:off x="3658320" y="515448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3658320" y="515448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5" name=""/>
            <p:cNvGrpSpPr/>
            <p:nvPr/>
          </p:nvGrpSpPr>
          <p:grpSpPr>
            <a:xfrm>
              <a:off x="3980880" y="5165640"/>
              <a:ext cx="186120" cy="320400"/>
              <a:chOff x="3980880" y="5165640"/>
              <a:chExt cx="186120" cy="320400"/>
            </a:xfrm>
          </p:grpSpPr>
          <p:sp>
            <p:nvSpPr>
              <p:cNvPr id="3616" name=""/>
              <p:cNvSpPr/>
              <p:nvPr/>
            </p:nvSpPr>
            <p:spPr>
              <a:xfrm>
                <a:off x="3980880" y="516564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3980880" y="516564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8" name=""/>
            <p:cNvGrpSpPr/>
            <p:nvPr/>
          </p:nvGrpSpPr>
          <p:grpSpPr>
            <a:xfrm>
              <a:off x="3657600" y="5105520"/>
              <a:ext cx="511200" cy="133560"/>
              <a:chOff x="3657600" y="5105520"/>
              <a:chExt cx="511200" cy="133560"/>
            </a:xfrm>
          </p:grpSpPr>
          <p:sp>
            <p:nvSpPr>
              <p:cNvPr id="3619" name=""/>
              <p:cNvSpPr/>
              <p:nvPr/>
            </p:nvSpPr>
            <p:spPr>
              <a:xfrm>
                <a:off x="3657600" y="510552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3657600" y="510552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1" name=""/>
            <p:cNvSpPr/>
            <p:nvPr/>
          </p:nvSpPr>
          <p:spPr>
            <a:xfrm>
              <a:off x="3677760" y="5184360"/>
              <a:ext cx="2725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677760" y="5256000"/>
              <a:ext cx="272520" cy="1965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677760" y="5184360"/>
              <a:ext cx="271080" cy="1753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24" name=""/>
            <p:cNvGrpSpPr/>
            <p:nvPr/>
          </p:nvGrpSpPr>
          <p:grpSpPr>
            <a:xfrm>
              <a:off x="3696840" y="5210640"/>
              <a:ext cx="132840" cy="64800"/>
              <a:chOff x="3696840" y="5210640"/>
              <a:chExt cx="132840" cy="64800"/>
            </a:xfrm>
          </p:grpSpPr>
          <p:sp>
            <p:nvSpPr>
              <p:cNvPr id="3625" name=""/>
              <p:cNvSpPr/>
              <p:nvPr/>
            </p:nvSpPr>
            <p:spPr>
              <a:xfrm>
                <a:off x="3696840" y="52106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3696840" y="52106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7" name=""/>
            <p:cNvGrpSpPr/>
            <p:nvPr/>
          </p:nvGrpSpPr>
          <p:grpSpPr>
            <a:xfrm>
              <a:off x="3695400" y="5279760"/>
              <a:ext cx="83160" cy="96840"/>
              <a:chOff x="3695400" y="5279760"/>
              <a:chExt cx="83160" cy="96840"/>
            </a:xfrm>
          </p:grpSpPr>
          <p:sp>
            <p:nvSpPr>
              <p:cNvPr id="3628" name=""/>
              <p:cNvSpPr/>
              <p:nvPr/>
            </p:nvSpPr>
            <p:spPr>
              <a:xfrm>
                <a:off x="3695400" y="527976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3695400" y="527976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0" name=""/>
          <p:cNvGrpSpPr/>
          <p:nvPr/>
        </p:nvGrpSpPr>
        <p:grpSpPr>
          <a:xfrm>
            <a:off x="4648320" y="5486400"/>
            <a:ext cx="511200" cy="380880"/>
            <a:chOff x="4648320" y="5486400"/>
            <a:chExt cx="511200" cy="380880"/>
          </a:xfrm>
        </p:grpSpPr>
        <p:grpSp>
          <p:nvGrpSpPr>
            <p:cNvPr id="3631" name=""/>
            <p:cNvGrpSpPr/>
            <p:nvPr/>
          </p:nvGrpSpPr>
          <p:grpSpPr>
            <a:xfrm>
              <a:off x="4649040" y="5535360"/>
              <a:ext cx="322560" cy="331920"/>
              <a:chOff x="4649040" y="5535360"/>
              <a:chExt cx="322560" cy="331920"/>
            </a:xfrm>
          </p:grpSpPr>
          <p:sp>
            <p:nvSpPr>
              <p:cNvPr id="3632" name=""/>
              <p:cNvSpPr/>
              <p:nvPr/>
            </p:nvSpPr>
            <p:spPr>
              <a:xfrm>
                <a:off x="4649040" y="553536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4649040" y="553536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4" name=""/>
            <p:cNvGrpSpPr/>
            <p:nvPr/>
          </p:nvGrpSpPr>
          <p:grpSpPr>
            <a:xfrm>
              <a:off x="4971600" y="5546520"/>
              <a:ext cx="186120" cy="320400"/>
              <a:chOff x="4971600" y="5546520"/>
              <a:chExt cx="186120" cy="320400"/>
            </a:xfrm>
          </p:grpSpPr>
          <p:sp>
            <p:nvSpPr>
              <p:cNvPr id="3635" name=""/>
              <p:cNvSpPr/>
              <p:nvPr/>
            </p:nvSpPr>
            <p:spPr>
              <a:xfrm>
                <a:off x="4971600" y="554652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4971600" y="554652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7" name=""/>
            <p:cNvGrpSpPr/>
            <p:nvPr/>
          </p:nvGrpSpPr>
          <p:grpSpPr>
            <a:xfrm>
              <a:off x="4648320" y="5486400"/>
              <a:ext cx="511200" cy="133560"/>
              <a:chOff x="4648320" y="5486400"/>
              <a:chExt cx="511200" cy="133560"/>
            </a:xfrm>
          </p:grpSpPr>
          <p:sp>
            <p:nvSpPr>
              <p:cNvPr id="3638" name=""/>
              <p:cNvSpPr/>
              <p:nvPr/>
            </p:nvSpPr>
            <p:spPr>
              <a:xfrm>
                <a:off x="4648320" y="548640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4648320" y="548640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0" name=""/>
            <p:cNvSpPr/>
            <p:nvPr/>
          </p:nvSpPr>
          <p:spPr>
            <a:xfrm>
              <a:off x="4668480" y="5565240"/>
              <a:ext cx="2725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668480" y="5636880"/>
              <a:ext cx="272520" cy="1965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668480" y="5565240"/>
              <a:ext cx="271080" cy="1753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3" name=""/>
            <p:cNvGrpSpPr/>
            <p:nvPr/>
          </p:nvGrpSpPr>
          <p:grpSpPr>
            <a:xfrm>
              <a:off x="4687560" y="5591520"/>
              <a:ext cx="132840" cy="64800"/>
              <a:chOff x="4687560" y="5591520"/>
              <a:chExt cx="132840" cy="64800"/>
            </a:xfrm>
          </p:grpSpPr>
          <p:sp>
            <p:nvSpPr>
              <p:cNvPr id="3644" name=""/>
              <p:cNvSpPr/>
              <p:nvPr/>
            </p:nvSpPr>
            <p:spPr>
              <a:xfrm>
                <a:off x="4687560" y="559152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4687560" y="559152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6" name=""/>
            <p:cNvGrpSpPr/>
            <p:nvPr/>
          </p:nvGrpSpPr>
          <p:grpSpPr>
            <a:xfrm>
              <a:off x="4686120" y="5660640"/>
              <a:ext cx="83160" cy="96840"/>
              <a:chOff x="4686120" y="5660640"/>
              <a:chExt cx="83160" cy="96840"/>
            </a:xfrm>
          </p:grpSpPr>
          <p:sp>
            <p:nvSpPr>
              <p:cNvPr id="3647" name=""/>
              <p:cNvSpPr/>
              <p:nvPr/>
            </p:nvSpPr>
            <p:spPr>
              <a:xfrm>
                <a:off x="4686120" y="566064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4686120" y="566064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9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6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3657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3658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0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3661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3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3664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3670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3673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75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3676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3677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79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3680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2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3683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5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86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3688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3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3694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3697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9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3700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2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3703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5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3706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8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3709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1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5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3716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3717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9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3720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2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3723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5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6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3727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3728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0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3734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6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3737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9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3740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2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3743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5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3746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8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3749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1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3756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3757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9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3760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62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3763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65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66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3767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3768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0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3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3774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6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3777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3780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3783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5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3786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8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3789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1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5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7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3798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99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3800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6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3807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3808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0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3811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3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3814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16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9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3820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2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3823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5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3826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3827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9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3830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2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3833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5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36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3837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3838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0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3844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3847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3850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3853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3856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3859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61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5" name=""/>
          <p:cNvSpPr/>
          <p:nvPr/>
        </p:nvSpPr>
        <p:spPr>
          <a:xfrm>
            <a:off x="1906560" y="236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6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3867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3868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3871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3874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9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3880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2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3883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5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3886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3887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9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3890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2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3893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5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98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3899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1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3902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4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3905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3906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8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3909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11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3912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4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7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3918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0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3921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3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4191120" y="3638520"/>
            <a:ext cx="685800" cy="6415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2827800" y="617220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9" name=""/>
          <p:cNvGrpSpPr/>
          <p:nvPr/>
        </p:nvGrpSpPr>
        <p:grpSpPr>
          <a:xfrm>
            <a:off x="7248600" y="3124080"/>
            <a:ext cx="1107720" cy="785880"/>
            <a:chOff x="7248600" y="3124080"/>
            <a:chExt cx="1107720" cy="785880"/>
          </a:xfrm>
        </p:grpSpPr>
        <p:sp>
          <p:nvSpPr>
            <p:cNvPr id="3930" name=""/>
            <p:cNvSpPr/>
            <p:nvPr/>
          </p:nvSpPr>
          <p:spPr>
            <a:xfrm flipH="1">
              <a:off x="8003880" y="3124080"/>
              <a:ext cx="352440" cy="166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7248600" y="3562200"/>
              <a:ext cx="247680" cy="347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2" name=""/>
          <p:cNvSpPr/>
          <p:nvPr/>
        </p:nvSpPr>
        <p:spPr>
          <a:xfrm flipH="1">
            <a:off x="6629040" y="4267080"/>
            <a:ext cx="1522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 flipH="1" flipV="1">
            <a:off x="6060960" y="3303720"/>
            <a:ext cx="185760" cy="1187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 flipH="1">
            <a:off x="5410080" y="4952880"/>
            <a:ext cx="4572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533520" y="68580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8.  Next router applies internal resource check and receiv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33520" y="106668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9.  Checks approved, RESV forwarded to SBM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533520" y="144792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BM applies resource check on behalf of AP (Note: SBM could be co-located with A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33520" y="182880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1.  SBM approves resource check, RESV continues back to sen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 flipH="1">
            <a:off x="3962520" y="5010120"/>
            <a:ext cx="121896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4525560" y="4183200"/>
            <a:ext cx="4680" cy="6634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 flipH="1" flipV="1">
            <a:off x="3325680" y="5003640"/>
            <a:ext cx="331920" cy="330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 flipV="1">
            <a:off x="3276720" y="3276720"/>
            <a:ext cx="152280" cy="1295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H="1" flipV="1">
            <a:off x="2436840" y="4292640"/>
            <a:ext cx="177840" cy="25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2535120" y="3303360"/>
            <a:ext cx="717840" cy="6793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 flipH="1" flipV="1">
            <a:off x="1757520" y="3574800"/>
            <a:ext cx="234720" cy="345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 flipV="1">
            <a:off x="1582560" y="2906640"/>
            <a:ext cx="309600" cy="309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7" name=""/>
          <p:cNvGrpSpPr/>
          <p:nvPr/>
        </p:nvGrpSpPr>
        <p:grpSpPr>
          <a:xfrm>
            <a:off x="864720" y="2932200"/>
            <a:ext cx="1003320" cy="344160"/>
            <a:chOff x="864720" y="2932200"/>
            <a:chExt cx="1003320" cy="344160"/>
          </a:xfrm>
        </p:grpSpPr>
        <p:sp>
          <p:nvSpPr>
            <p:cNvPr id="3948" name=""/>
            <p:cNvSpPr/>
            <p:nvPr/>
          </p:nvSpPr>
          <p:spPr>
            <a:xfrm flipH="1">
              <a:off x="1599840" y="2932200"/>
              <a:ext cx="268200" cy="268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H="1" flipV="1">
              <a:off x="864720" y="3126960"/>
              <a:ext cx="358920" cy="149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"/>
          <p:cNvSpPr/>
          <p:nvPr/>
        </p:nvSpPr>
        <p:spPr>
          <a:xfrm>
            <a:off x="3076560" y="1590840"/>
            <a:ext cx="2835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2" name=""/>
          <p:cNvGrpSpPr/>
          <p:nvPr/>
        </p:nvGrpSpPr>
        <p:grpSpPr>
          <a:xfrm>
            <a:off x="4583160" y="2763720"/>
            <a:ext cx="4560840" cy="3335400"/>
            <a:chOff x="4583160" y="2763720"/>
            <a:chExt cx="4560840" cy="3335400"/>
          </a:xfrm>
        </p:grpSpPr>
        <p:sp>
          <p:nvSpPr>
            <p:cNvPr id="3953" name=""/>
            <p:cNvSpPr/>
            <p:nvPr/>
          </p:nvSpPr>
          <p:spPr>
            <a:xfrm>
              <a:off x="6172200" y="399384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2.  RESV message arrives from network, indicating successful admission contro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583160" y="2763720"/>
              <a:ext cx="0" cy="3335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55" name=""/>
          <p:cNvGrpSpPr/>
          <p:nvPr/>
        </p:nvGrpSpPr>
        <p:grpSpPr>
          <a:xfrm>
            <a:off x="4572000" y="1603440"/>
            <a:ext cx="4446720" cy="2287080"/>
            <a:chOff x="4572000" y="1603440"/>
            <a:chExt cx="4446720" cy="2287080"/>
          </a:xfrm>
        </p:grpSpPr>
        <p:sp>
          <p:nvSpPr>
            <p:cNvPr id="3956" name=""/>
            <p:cNvSpPr/>
            <p:nvPr/>
          </p:nvSpPr>
          <p:spPr>
            <a:xfrm>
              <a:off x="6172200" y="2973600"/>
              <a:ext cx="284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3. QoS SP indicates successful admission control to 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572000" y="1603440"/>
              <a:ext cx="0" cy="54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8" name=""/>
          <p:cNvSpPr/>
          <p:nvPr/>
        </p:nvSpPr>
        <p:spPr>
          <a:xfrm>
            <a:off x="3733920" y="3124080"/>
            <a:ext cx="2044440" cy="9907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524600" y="12193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Sock2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3429000" y="76212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1143000" y="3127320"/>
            <a:ext cx="2835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2" name=""/>
          <p:cNvGrpSpPr/>
          <p:nvPr/>
        </p:nvGrpSpPr>
        <p:grpSpPr>
          <a:xfrm>
            <a:off x="3782880" y="1908000"/>
            <a:ext cx="5284800" cy="1219320"/>
            <a:chOff x="3782880" y="1908000"/>
            <a:chExt cx="5284800" cy="1219320"/>
          </a:xfrm>
        </p:grpSpPr>
        <p:sp>
          <p:nvSpPr>
            <p:cNvPr id="3963" name=""/>
            <p:cNvSpPr/>
            <p:nvPr/>
          </p:nvSpPr>
          <p:spPr>
            <a:xfrm>
              <a:off x="6172200" y="190800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4.  QoS SP invokes greedy traffic control (mark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782880" y="2746080"/>
              <a:ext cx="0" cy="381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5" name=""/>
          <p:cNvSpPr/>
          <p:nvPr/>
        </p:nvSpPr>
        <p:spPr>
          <a:xfrm>
            <a:off x="684360" y="273060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ffic Control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560760" y="213048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 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3657600" y="579132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8" name=""/>
          <p:cNvGrpSpPr/>
          <p:nvPr/>
        </p:nvGrpSpPr>
        <p:grpSpPr>
          <a:xfrm>
            <a:off x="4876920" y="914400"/>
            <a:ext cx="4419000" cy="4950000"/>
            <a:chOff x="4876920" y="914400"/>
            <a:chExt cx="4419000" cy="4950000"/>
          </a:xfrm>
        </p:grpSpPr>
        <p:sp>
          <p:nvSpPr>
            <p:cNvPr id="3969" name=""/>
            <p:cNvSpPr/>
            <p:nvPr/>
          </p:nvSpPr>
          <p:spPr>
            <a:xfrm>
              <a:off x="4876920" y="4308840"/>
              <a:ext cx="0" cy="15555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449760" y="914400"/>
              <a:ext cx="284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5.  Transmitted data is marked high prio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1" name=""/>
          <p:cNvSpPr/>
          <p:nvPr/>
        </p:nvSpPr>
        <p:spPr>
          <a:xfrm>
            <a:off x="3505320" y="4419720"/>
            <a:ext cx="2286000" cy="606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Schedu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1371600" y="5410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C S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3124080" y="5562720"/>
            <a:ext cx="1067040" cy="75960"/>
          </a:xfrm>
          <a:prstGeom prst="rightArrow">
            <a:avLst>
              <a:gd name="adj1" fmla="val 50000"/>
              <a:gd name="adj2" fmla="val 351185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1828800" y="43434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990720" y="4114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D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0" y="1600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ckets tagged with DSCP by RSV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2819520" y="1905120"/>
            <a:ext cx="1143000" cy="75960"/>
          </a:xfrm>
          <a:prstGeom prst="rightArrow">
            <a:avLst>
              <a:gd name="adj1" fmla="val 50000"/>
              <a:gd name="adj2" fmla="val 376185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2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3993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3994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3997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9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4000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02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03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4004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4005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7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0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4011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3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4014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6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4017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4020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2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4023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5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4026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8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4033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4034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6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4037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9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4040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43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4044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4045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7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0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4051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3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4054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6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4057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9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4060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2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4063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5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4066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68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2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4073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4074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76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4077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79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4080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2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83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4084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4085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6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7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0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4091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3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4094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6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4097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9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4100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2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4103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5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4106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08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2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5" name=""/>
          <p:cNvGrpSpPr/>
          <p:nvPr/>
        </p:nvGrpSpPr>
        <p:grpSpPr>
          <a:xfrm>
            <a:off x="3581280" y="4952880"/>
            <a:ext cx="2022120" cy="1428480"/>
            <a:chOff x="3581280" y="4952880"/>
            <a:chExt cx="2022120" cy="1428480"/>
          </a:xfrm>
        </p:grpSpPr>
        <p:grpSp>
          <p:nvGrpSpPr>
            <p:cNvPr id="4116" name=""/>
            <p:cNvGrpSpPr/>
            <p:nvPr/>
          </p:nvGrpSpPr>
          <p:grpSpPr>
            <a:xfrm>
              <a:off x="3581280" y="4952880"/>
              <a:ext cx="2022120" cy="1428480"/>
              <a:chOff x="3581280" y="4952880"/>
              <a:chExt cx="2022120" cy="1428480"/>
            </a:xfrm>
          </p:grpSpPr>
          <p:grpSp>
            <p:nvGrpSpPr>
              <p:cNvPr id="4117" name=""/>
              <p:cNvGrpSpPr/>
              <p:nvPr/>
            </p:nvGrpSpPr>
            <p:grpSpPr>
              <a:xfrm>
                <a:off x="4774680" y="5080680"/>
                <a:ext cx="828720" cy="1229040"/>
                <a:chOff x="4774680" y="5080680"/>
                <a:chExt cx="828720" cy="1229040"/>
              </a:xfrm>
            </p:grpSpPr>
            <p:grpSp>
              <p:nvGrpSpPr>
                <p:cNvPr id="4118" name=""/>
                <p:cNvGrpSpPr/>
                <p:nvPr/>
              </p:nvGrpSpPr>
              <p:grpSpPr>
                <a:xfrm>
                  <a:off x="5099040" y="5080680"/>
                  <a:ext cx="504360" cy="988200"/>
                  <a:chOff x="5099040" y="5080680"/>
                  <a:chExt cx="504360" cy="988200"/>
                </a:xfrm>
              </p:grpSpPr>
              <p:grpSp>
                <p:nvGrpSpPr>
                  <p:cNvPr id="4119" name=""/>
                  <p:cNvGrpSpPr/>
                  <p:nvPr/>
                </p:nvGrpSpPr>
                <p:grpSpPr>
                  <a:xfrm>
                    <a:off x="5236200" y="5218200"/>
                    <a:ext cx="367200" cy="712800"/>
                    <a:chOff x="5236200" y="5218200"/>
                    <a:chExt cx="367200" cy="712800"/>
                  </a:xfrm>
                </p:grpSpPr>
                <p:grpSp>
                  <p:nvGrpSpPr>
                    <p:cNvPr id="4120" name=""/>
                    <p:cNvGrpSpPr/>
                    <p:nvPr/>
                  </p:nvGrpSpPr>
                  <p:grpSpPr>
                    <a:xfrm>
                      <a:off x="5236200" y="5218200"/>
                      <a:ext cx="367200" cy="712800"/>
                      <a:chOff x="5236200" y="5218200"/>
                      <a:chExt cx="367200" cy="712800"/>
                    </a:xfrm>
                  </p:grpSpPr>
                  <p:grpSp>
                    <p:nvGrpSpPr>
                      <p:cNvPr id="4121" name=""/>
                      <p:cNvGrpSpPr/>
                      <p:nvPr/>
                    </p:nvGrpSpPr>
                    <p:grpSpPr>
                      <a:xfrm>
                        <a:off x="5333400" y="5263920"/>
                        <a:ext cx="270000" cy="579600"/>
                        <a:chOff x="5333400" y="5263920"/>
                        <a:chExt cx="270000" cy="579600"/>
                      </a:xfrm>
                    </p:grpSpPr>
                    <p:grpSp>
                      <p:nvGrpSpPr>
                        <p:cNvPr id="4122" name=""/>
                        <p:cNvGrpSpPr/>
                        <p:nvPr/>
                      </p:nvGrpSpPr>
                      <p:grpSpPr>
                        <a:xfrm>
                          <a:off x="5366520" y="5263920"/>
                          <a:ext cx="236880" cy="579600"/>
                          <a:chOff x="5366520" y="5263920"/>
                          <a:chExt cx="236880" cy="579600"/>
                        </a:xfrm>
                      </p:grpSpPr>
                      <p:sp>
                        <p:nvSpPr>
                          <p:cNvPr id="4123" name=""/>
                          <p:cNvSpPr/>
                          <p:nvPr/>
                        </p:nvSpPr>
                        <p:spPr>
                          <a:xfrm>
                            <a:off x="5500080" y="561600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4" name=""/>
                          <p:cNvSpPr/>
                          <p:nvPr/>
                        </p:nvSpPr>
                        <p:spPr>
                          <a:xfrm>
                            <a:off x="5396400" y="566064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5" name=""/>
                          <p:cNvSpPr/>
                          <p:nvPr/>
                        </p:nvSpPr>
                        <p:spPr>
                          <a:xfrm>
                            <a:off x="5465520" y="539352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6" name=""/>
                          <p:cNvSpPr/>
                          <p:nvPr/>
                        </p:nvSpPr>
                        <p:spPr>
                          <a:xfrm>
                            <a:off x="5366520" y="526392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7" name=""/>
                          <p:cNvSpPr/>
                          <p:nvPr/>
                        </p:nvSpPr>
                        <p:spPr>
                          <a:xfrm>
                            <a:off x="5465520" y="539352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128" name=""/>
                        <p:cNvSpPr/>
                        <p:nvPr/>
                      </p:nvSpPr>
                      <p:spPr>
                        <a:xfrm>
                          <a:off x="5333400" y="543888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29" name=""/>
                        <p:cNvSpPr/>
                        <p:nvPr/>
                      </p:nvSpPr>
                      <p:spPr>
                        <a:xfrm>
                          <a:off x="5333400" y="561600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30" name=""/>
                        <p:cNvSpPr/>
                        <p:nvPr/>
                      </p:nvSpPr>
                      <p:spPr>
                        <a:xfrm>
                          <a:off x="5377320" y="536004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131" name=""/>
                      <p:cNvSpPr/>
                      <p:nvPr/>
                    </p:nvSpPr>
                    <p:spPr>
                      <a:xfrm>
                        <a:off x="5333400" y="579348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2" name=""/>
                      <p:cNvSpPr/>
                      <p:nvPr/>
                    </p:nvSpPr>
                    <p:spPr>
                      <a:xfrm>
                        <a:off x="5236200" y="521820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3" name=""/>
                      <p:cNvSpPr/>
                      <p:nvPr/>
                    </p:nvSpPr>
                    <p:spPr>
                      <a:xfrm>
                        <a:off x="5367960" y="575712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34" name=""/>
                    <p:cNvSpPr/>
                    <p:nvPr/>
                  </p:nvSpPr>
                  <p:spPr>
                    <a:xfrm>
                      <a:off x="5357520" y="531576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5" name=""/>
                  <p:cNvGrpSpPr/>
                  <p:nvPr/>
                </p:nvGrpSpPr>
                <p:grpSpPr>
                  <a:xfrm>
                    <a:off x="5099040" y="5080680"/>
                    <a:ext cx="338400" cy="894600"/>
                    <a:chOff x="5099040" y="5080680"/>
                    <a:chExt cx="338400" cy="894600"/>
                  </a:xfrm>
                </p:grpSpPr>
                <p:sp>
                  <p:nvSpPr>
                    <p:cNvPr id="4136" name=""/>
                    <p:cNvSpPr/>
                    <p:nvPr/>
                  </p:nvSpPr>
                  <p:spPr>
                    <a:xfrm>
                      <a:off x="5130720" y="561672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7" name=""/>
                    <p:cNvSpPr/>
                    <p:nvPr/>
                  </p:nvSpPr>
                  <p:spPr>
                    <a:xfrm>
                      <a:off x="5165280" y="534924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8" name=""/>
                    <p:cNvSpPr/>
                    <p:nvPr/>
                  </p:nvSpPr>
                  <p:spPr>
                    <a:xfrm>
                      <a:off x="5099040" y="508068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9" name=""/>
                    <p:cNvSpPr/>
                    <p:nvPr/>
                  </p:nvSpPr>
                  <p:spPr>
                    <a:xfrm>
                      <a:off x="5235840" y="526392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0" name=""/>
                    <p:cNvSpPr/>
                    <p:nvPr/>
                  </p:nvSpPr>
                  <p:spPr>
                    <a:xfrm>
                      <a:off x="5165280" y="522468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1" name=""/>
                    <p:cNvSpPr/>
                    <p:nvPr/>
                  </p:nvSpPr>
                  <p:spPr>
                    <a:xfrm>
                      <a:off x="5258160" y="569124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42" name=""/>
                  <p:cNvSpPr/>
                  <p:nvPr/>
                </p:nvSpPr>
                <p:spPr>
                  <a:xfrm>
                    <a:off x="5099040" y="5884200"/>
                    <a:ext cx="14148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3" name=""/>
                  <p:cNvSpPr/>
                  <p:nvPr/>
                </p:nvSpPr>
                <p:spPr>
                  <a:xfrm>
                    <a:off x="5199840" y="5860440"/>
                    <a:ext cx="7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4" name=""/>
                <p:cNvSpPr/>
                <p:nvPr/>
              </p:nvSpPr>
              <p:spPr>
                <a:xfrm>
                  <a:off x="4774680" y="608220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4935240" y="608220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5026680" y="601236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4890960" y="597600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8" name=""/>
              <p:cNvGrpSpPr/>
              <p:nvPr/>
            </p:nvGrpSpPr>
            <p:grpSpPr>
              <a:xfrm>
                <a:off x="3581280" y="5095080"/>
                <a:ext cx="487800" cy="836640"/>
                <a:chOff x="3581280" y="5095080"/>
                <a:chExt cx="487800" cy="836640"/>
              </a:xfrm>
            </p:grpSpPr>
            <p:grpSp>
              <p:nvGrpSpPr>
                <p:cNvPr id="4149" name=""/>
                <p:cNvGrpSpPr/>
                <p:nvPr/>
              </p:nvGrpSpPr>
              <p:grpSpPr>
                <a:xfrm>
                  <a:off x="3581280" y="5218200"/>
                  <a:ext cx="254520" cy="494640"/>
                  <a:chOff x="3581280" y="5218200"/>
                  <a:chExt cx="254520" cy="494640"/>
                </a:xfrm>
              </p:grpSpPr>
              <p:sp>
                <p:nvSpPr>
                  <p:cNvPr id="4150" name=""/>
                  <p:cNvSpPr/>
                  <p:nvPr/>
                </p:nvSpPr>
                <p:spPr>
                  <a:xfrm>
                    <a:off x="3581280" y="539388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>
                    <a:off x="3600000" y="5531040"/>
                    <a:ext cx="136440" cy="181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3634560" y="5218200"/>
                    <a:ext cx="201240" cy="2736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3615840" y="541584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4" name=""/>
                <p:cNvGrpSpPr/>
                <p:nvPr/>
              </p:nvGrpSpPr>
              <p:grpSpPr>
                <a:xfrm>
                  <a:off x="3666240" y="5095080"/>
                  <a:ext cx="402840" cy="836640"/>
                  <a:chOff x="3666240" y="5095080"/>
                  <a:chExt cx="402840" cy="836640"/>
                </a:xfrm>
              </p:grpSpPr>
              <p:sp>
                <p:nvSpPr>
                  <p:cNvPr id="4155" name=""/>
                  <p:cNvSpPr/>
                  <p:nvPr/>
                </p:nvSpPr>
                <p:spPr>
                  <a:xfrm>
                    <a:off x="3803040" y="512496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"/>
                  <p:cNvSpPr/>
                  <p:nvPr/>
                </p:nvSpPr>
                <p:spPr>
                  <a:xfrm>
                    <a:off x="3666240" y="539424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3699360" y="553140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3768480" y="566136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>
                    <a:off x="3785760" y="531144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>
                    <a:off x="3947760" y="509508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3845520" y="526284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>
                    <a:off x="3710160" y="548748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3" name=""/>
                <p:cNvSpPr/>
                <p:nvPr/>
              </p:nvSpPr>
              <p:spPr>
                <a:xfrm>
                  <a:off x="3938760" y="518364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4" name=""/>
              <p:cNvGrpSpPr/>
              <p:nvPr/>
            </p:nvGrpSpPr>
            <p:grpSpPr>
              <a:xfrm>
                <a:off x="3831840" y="4952880"/>
                <a:ext cx="1472040" cy="1428480"/>
                <a:chOff x="3831840" y="4952880"/>
                <a:chExt cx="1472040" cy="1428480"/>
              </a:xfrm>
            </p:grpSpPr>
            <p:sp>
              <p:nvSpPr>
                <p:cNvPr id="4165" name=""/>
                <p:cNvSpPr/>
                <p:nvPr/>
              </p:nvSpPr>
              <p:spPr>
                <a:xfrm>
                  <a:off x="4299840" y="499536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6" name=""/>
                <p:cNvSpPr/>
                <p:nvPr/>
              </p:nvSpPr>
              <p:spPr>
                <a:xfrm>
                  <a:off x="4597560" y="495288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>
                  <a:off x="4863960" y="534996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"/>
                <p:cNvSpPr/>
                <p:nvPr/>
              </p:nvSpPr>
              <p:spPr>
                <a:xfrm>
                  <a:off x="4001760" y="561708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9" name=""/>
                <p:cNvSpPr/>
                <p:nvPr/>
              </p:nvSpPr>
              <p:spPr>
                <a:xfrm>
                  <a:off x="4735080" y="570780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>
                  <a:off x="3867840" y="575352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1" name=""/>
                <p:cNvSpPr/>
                <p:nvPr/>
              </p:nvSpPr>
              <p:spPr>
                <a:xfrm>
                  <a:off x="3831840" y="543996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2" name=""/>
                <p:cNvSpPr/>
                <p:nvPr/>
              </p:nvSpPr>
              <p:spPr>
                <a:xfrm>
                  <a:off x="3963960" y="508068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4367520" y="579456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4" name=""/>
                <p:cNvSpPr/>
                <p:nvPr/>
              </p:nvSpPr>
              <p:spPr>
                <a:xfrm>
                  <a:off x="4935240" y="512532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5" name=""/>
                <p:cNvSpPr/>
                <p:nvPr/>
              </p:nvSpPr>
              <p:spPr>
                <a:xfrm>
                  <a:off x="4832640" y="495288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3949920" y="5063400"/>
                  <a:ext cx="1279440" cy="113256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77" name=""/>
            <p:cNvGrpSpPr/>
            <p:nvPr/>
          </p:nvGrpSpPr>
          <p:grpSpPr>
            <a:xfrm>
              <a:off x="3899520" y="5141160"/>
              <a:ext cx="1265760" cy="865080"/>
              <a:chOff x="3899520" y="5141160"/>
              <a:chExt cx="1265760" cy="865080"/>
            </a:xfrm>
          </p:grpSpPr>
          <p:sp>
            <p:nvSpPr>
              <p:cNvPr id="4178" name=""/>
              <p:cNvSpPr/>
              <p:nvPr/>
            </p:nvSpPr>
            <p:spPr>
              <a:xfrm>
                <a:off x="3899520" y="5141160"/>
                <a:ext cx="1265760" cy="537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899520" y="5469840"/>
                <a:ext cx="1233720" cy="536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0" name=""/>
          <p:cNvGrpSpPr/>
          <p:nvPr/>
        </p:nvGrpSpPr>
        <p:grpSpPr>
          <a:xfrm>
            <a:off x="5029200" y="5181480"/>
            <a:ext cx="511200" cy="330480"/>
            <a:chOff x="5029200" y="5181480"/>
            <a:chExt cx="511200" cy="330480"/>
          </a:xfrm>
        </p:grpSpPr>
        <p:grpSp>
          <p:nvGrpSpPr>
            <p:cNvPr id="4181" name=""/>
            <p:cNvGrpSpPr/>
            <p:nvPr/>
          </p:nvGrpSpPr>
          <p:grpSpPr>
            <a:xfrm>
              <a:off x="5029920" y="5223960"/>
              <a:ext cx="322560" cy="288000"/>
              <a:chOff x="5029920" y="5223960"/>
              <a:chExt cx="322560" cy="288000"/>
            </a:xfrm>
          </p:grpSpPr>
          <p:sp>
            <p:nvSpPr>
              <p:cNvPr id="4182" name=""/>
              <p:cNvSpPr/>
              <p:nvPr/>
            </p:nvSpPr>
            <p:spPr>
              <a:xfrm>
                <a:off x="5029920" y="52239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029920" y="52239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4" name=""/>
            <p:cNvGrpSpPr/>
            <p:nvPr/>
          </p:nvGrpSpPr>
          <p:grpSpPr>
            <a:xfrm>
              <a:off x="5352480" y="5233680"/>
              <a:ext cx="186120" cy="278280"/>
              <a:chOff x="5352480" y="5233680"/>
              <a:chExt cx="186120" cy="278280"/>
            </a:xfrm>
          </p:grpSpPr>
          <p:sp>
            <p:nvSpPr>
              <p:cNvPr id="4185" name=""/>
              <p:cNvSpPr/>
              <p:nvPr/>
            </p:nvSpPr>
            <p:spPr>
              <a:xfrm>
                <a:off x="5352480" y="52336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5352480" y="52336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7" name=""/>
            <p:cNvGrpSpPr/>
            <p:nvPr/>
          </p:nvGrpSpPr>
          <p:grpSpPr>
            <a:xfrm>
              <a:off x="5029200" y="5181480"/>
              <a:ext cx="511200" cy="115920"/>
              <a:chOff x="5029200" y="5181480"/>
              <a:chExt cx="511200" cy="115920"/>
            </a:xfrm>
          </p:grpSpPr>
          <p:sp>
            <p:nvSpPr>
              <p:cNvPr id="4188" name=""/>
              <p:cNvSpPr/>
              <p:nvPr/>
            </p:nvSpPr>
            <p:spPr>
              <a:xfrm>
                <a:off x="5029200" y="51814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5029200" y="51814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90" name=""/>
            <p:cNvSpPr/>
            <p:nvPr/>
          </p:nvSpPr>
          <p:spPr>
            <a:xfrm>
              <a:off x="5049360" y="52498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049360" y="53121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049360" y="52498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3" name=""/>
            <p:cNvGrpSpPr/>
            <p:nvPr/>
          </p:nvGrpSpPr>
          <p:grpSpPr>
            <a:xfrm>
              <a:off x="5068440" y="5272560"/>
              <a:ext cx="132840" cy="56160"/>
              <a:chOff x="5068440" y="5272560"/>
              <a:chExt cx="132840" cy="56160"/>
            </a:xfrm>
          </p:grpSpPr>
          <p:sp>
            <p:nvSpPr>
              <p:cNvPr id="4194" name=""/>
              <p:cNvSpPr/>
              <p:nvPr/>
            </p:nvSpPr>
            <p:spPr>
              <a:xfrm>
                <a:off x="5068440" y="52725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5068440" y="52725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6" name=""/>
            <p:cNvGrpSpPr/>
            <p:nvPr/>
          </p:nvGrpSpPr>
          <p:grpSpPr>
            <a:xfrm>
              <a:off x="5067000" y="5332680"/>
              <a:ext cx="83160" cy="84240"/>
              <a:chOff x="5067000" y="5332680"/>
              <a:chExt cx="83160" cy="84240"/>
            </a:xfrm>
          </p:grpSpPr>
          <p:sp>
            <p:nvSpPr>
              <p:cNvPr id="4197" name=""/>
              <p:cNvSpPr/>
              <p:nvPr/>
            </p:nvSpPr>
            <p:spPr>
              <a:xfrm>
                <a:off x="5067000" y="53326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5067000" y="53326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9" name=""/>
          <p:cNvGrpSpPr/>
          <p:nvPr/>
        </p:nvGrpSpPr>
        <p:grpSpPr>
          <a:xfrm>
            <a:off x="3886200" y="5638680"/>
            <a:ext cx="507960" cy="330480"/>
            <a:chOff x="3886200" y="5638680"/>
            <a:chExt cx="507960" cy="330480"/>
          </a:xfrm>
        </p:grpSpPr>
        <p:grpSp>
          <p:nvGrpSpPr>
            <p:cNvPr id="4200" name=""/>
            <p:cNvGrpSpPr/>
            <p:nvPr/>
          </p:nvGrpSpPr>
          <p:grpSpPr>
            <a:xfrm>
              <a:off x="3886920" y="5681160"/>
              <a:ext cx="320400" cy="288000"/>
              <a:chOff x="3886920" y="5681160"/>
              <a:chExt cx="320400" cy="288000"/>
            </a:xfrm>
          </p:grpSpPr>
          <p:sp>
            <p:nvSpPr>
              <p:cNvPr id="4201" name=""/>
              <p:cNvSpPr/>
              <p:nvPr/>
            </p:nvSpPr>
            <p:spPr>
              <a:xfrm>
                <a:off x="3886920" y="56811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886920" y="56811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3" name=""/>
            <p:cNvGrpSpPr/>
            <p:nvPr/>
          </p:nvGrpSpPr>
          <p:grpSpPr>
            <a:xfrm>
              <a:off x="4207680" y="5690880"/>
              <a:ext cx="184680" cy="278280"/>
              <a:chOff x="4207680" y="5690880"/>
              <a:chExt cx="184680" cy="278280"/>
            </a:xfrm>
          </p:grpSpPr>
          <p:sp>
            <p:nvSpPr>
              <p:cNvPr id="4204" name=""/>
              <p:cNvSpPr/>
              <p:nvPr/>
            </p:nvSpPr>
            <p:spPr>
              <a:xfrm>
                <a:off x="4207680" y="56908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4207680" y="56908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6" name=""/>
            <p:cNvGrpSpPr/>
            <p:nvPr/>
          </p:nvGrpSpPr>
          <p:grpSpPr>
            <a:xfrm>
              <a:off x="3886200" y="5638680"/>
              <a:ext cx="507960" cy="115920"/>
              <a:chOff x="3886200" y="5638680"/>
              <a:chExt cx="507960" cy="115920"/>
            </a:xfrm>
          </p:grpSpPr>
          <p:sp>
            <p:nvSpPr>
              <p:cNvPr id="4207" name=""/>
              <p:cNvSpPr/>
              <p:nvPr/>
            </p:nvSpPr>
            <p:spPr>
              <a:xfrm>
                <a:off x="3886200" y="56386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886200" y="56386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09" name=""/>
            <p:cNvSpPr/>
            <p:nvPr/>
          </p:nvSpPr>
          <p:spPr>
            <a:xfrm>
              <a:off x="3906360" y="57070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906360" y="57693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906360" y="57070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3925080" y="5729760"/>
              <a:ext cx="132120" cy="56160"/>
              <a:chOff x="3925080" y="5729760"/>
              <a:chExt cx="132120" cy="56160"/>
            </a:xfrm>
          </p:grpSpPr>
          <p:sp>
            <p:nvSpPr>
              <p:cNvPr id="4213" name=""/>
              <p:cNvSpPr/>
              <p:nvPr/>
            </p:nvSpPr>
            <p:spPr>
              <a:xfrm>
                <a:off x="3925080" y="57297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925080" y="57297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5" name=""/>
            <p:cNvGrpSpPr/>
            <p:nvPr/>
          </p:nvGrpSpPr>
          <p:grpSpPr>
            <a:xfrm>
              <a:off x="3923640" y="5789880"/>
              <a:ext cx="82440" cy="84240"/>
              <a:chOff x="3923640" y="5789880"/>
              <a:chExt cx="82440" cy="84240"/>
            </a:xfrm>
          </p:grpSpPr>
          <p:sp>
            <p:nvSpPr>
              <p:cNvPr id="4216" name=""/>
              <p:cNvSpPr/>
              <p:nvPr/>
            </p:nvSpPr>
            <p:spPr>
              <a:xfrm>
                <a:off x="3923640" y="57898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923640" y="57898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8" name=""/>
          <p:cNvGrpSpPr/>
          <p:nvPr/>
        </p:nvGrpSpPr>
        <p:grpSpPr>
          <a:xfrm>
            <a:off x="4419720" y="5334120"/>
            <a:ext cx="511200" cy="330120"/>
            <a:chOff x="4419720" y="5334120"/>
            <a:chExt cx="511200" cy="330120"/>
          </a:xfrm>
        </p:grpSpPr>
        <p:grpSp>
          <p:nvGrpSpPr>
            <p:cNvPr id="4219" name=""/>
            <p:cNvGrpSpPr/>
            <p:nvPr/>
          </p:nvGrpSpPr>
          <p:grpSpPr>
            <a:xfrm>
              <a:off x="4420440" y="5376600"/>
              <a:ext cx="322560" cy="287640"/>
              <a:chOff x="4420440" y="5376600"/>
              <a:chExt cx="322560" cy="287640"/>
            </a:xfrm>
          </p:grpSpPr>
          <p:sp>
            <p:nvSpPr>
              <p:cNvPr id="4220" name=""/>
              <p:cNvSpPr/>
              <p:nvPr/>
            </p:nvSpPr>
            <p:spPr>
              <a:xfrm>
                <a:off x="4420440" y="53766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420440" y="53766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2" name=""/>
            <p:cNvGrpSpPr/>
            <p:nvPr/>
          </p:nvGrpSpPr>
          <p:grpSpPr>
            <a:xfrm>
              <a:off x="4743000" y="5386320"/>
              <a:ext cx="186120" cy="277920"/>
              <a:chOff x="4743000" y="5386320"/>
              <a:chExt cx="186120" cy="277920"/>
            </a:xfrm>
          </p:grpSpPr>
          <p:sp>
            <p:nvSpPr>
              <p:cNvPr id="4223" name=""/>
              <p:cNvSpPr/>
              <p:nvPr/>
            </p:nvSpPr>
            <p:spPr>
              <a:xfrm>
                <a:off x="4743000" y="53863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743000" y="53863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5" name=""/>
            <p:cNvGrpSpPr/>
            <p:nvPr/>
          </p:nvGrpSpPr>
          <p:grpSpPr>
            <a:xfrm>
              <a:off x="4419720" y="5334120"/>
              <a:ext cx="511200" cy="115920"/>
              <a:chOff x="4419720" y="5334120"/>
              <a:chExt cx="511200" cy="115920"/>
            </a:xfrm>
          </p:grpSpPr>
          <p:sp>
            <p:nvSpPr>
              <p:cNvPr id="4226" name=""/>
              <p:cNvSpPr/>
              <p:nvPr/>
            </p:nvSpPr>
            <p:spPr>
              <a:xfrm>
                <a:off x="4419720" y="53341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419720" y="53341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28" name=""/>
            <p:cNvSpPr/>
            <p:nvPr/>
          </p:nvSpPr>
          <p:spPr>
            <a:xfrm>
              <a:off x="4439880" y="54025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4439880" y="54644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439880" y="54025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1" name=""/>
            <p:cNvGrpSpPr/>
            <p:nvPr/>
          </p:nvGrpSpPr>
          <p:grpSpPr>
            <a:xfrm>
              <a:off x="4458960" y="5425200"/>
              <a:ext cx="132840" cy="56160"/>
              <a:chOff x="4458960" y="5425200"/>
              <a:chExt cx="132840" cy="56160"/>
            </a:xfrm>
          </p:grpSpPr>
          <p:sp>
            <p:nvSpPr>
              <p:cNvPr id="4232" name=""/>
              <p:cNvSpPr/>
              <p:nvPr/>
            </p:nvSpPr>
            <p:spPr>
              <a:xfrm>
                <a:off x="4458960" y="54252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458960" y="54252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34" name=""/>
            <p:cNvGrpSpPr/>
            <p:nvPr/>
          </p:nvGrpSpPr>
          <p:grpSpPr>
            <a:xfrm>
              <a:off x="4457520" y="5485320"/>
              <a:ext cx="83160" cy="83880"/>
              <a:chOff x="4457520" y="5485320"/>
              <a:chExt cx="83160" cy="83880"/>
            </a:xfrm>
          </p:grpSpPr>
          <p:sp>
            <p:nvSpPr>
              <p:cNvPr id="4235" name=""/>
              <p:cNvSpPr/>
              <p:nvPr/>
            </p:nvSpPr>
            <p:spPr>
              <a:xfrm>
                <a:off x="4457520" y="54853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457520" y="54853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7" name=""/>
          <p:cNvGrpSpPr/>
          <p:nvPr/>
        </p:nvGrpSpPr>
        <p:grpSpPr>
          <a:xfrm>
            <a:off x="3657600" y="5105520"/>
            <a:ext cx="511200" cy="330120"/>
            <a:chOff x="3657600" y="5105520"/>
            <a:chExt cx="511200" cy="330120"/>
          </a:xfrm>
        </p:grpSpPr>
        <p:grpSp>
          <p:nvGrpSpPr>
            <p:cNvPr id="4238" name=""/>
            <p:cNvGrpSpPr/>
            <p:nvPr/>
          </p:nvGrpSpPr>
          <p:grpSpPr>
            <a:xfrm>
              <a:off x="3658320" y="5148000"/>
              <a:ext cx="322560" cy="287640"/>
              <a:chOff x="3658320" y="5148000"/>
              <a:chExt cx="322560" cy="287640"/>
            </a:xfrm>
          </p:grpSpPr>
          <p:sp>
            <p:nvSpPr>
              <p:cNvPr id="4239" name=""/>
              <p:cNvSpPr/>
              <p:nvPr/>
            </p:nvSpPr>
            <p:spPr>
              <a:xfrm>
                <a:off x="36583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6583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1" name=""/>
            <p:cNvGrpSpPr/>
            <p:nvPr/>
          </p:nvGrpSpPr>
          <p:grpSpPr>
            <a:xfrm>
              <a:off x="3980880" y="5157720"/>
              <a:ext cx="186120" cy="277920"/>
              <a:chOff x="3980880" y="5157720"/>
              <a:chExt cx="186120" cy="277920"/>
            </a:xfrm>
          </p:grpSpPr>
          <p:sp>
            <p:nvSpPr>
              <p:cNvPr id="4242" name=""/>
              <p:cNvSpPr/>
              <p:nvPr/>
            </p:nvSpPr>
            <p:spPr>
              <a:xfrm>
                <a:off x="39808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9808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4" name=""/>
            <p:cNvGrpSpPr/>
            <p:nvPr/>
          </p:nvGrpSpPr>
          <p:grpSpPr>
            <a:xfrm>
              <a:off x="3657600" y="5105520"/>
              <a:ext cx="511200" cy="115920"/>
              <a:chOff x="3657600" y="5105520"/>
              <a:chExt cx="511200" cy="115920"/>
            </a:xfrm>
          </p:grpSpPr>
          <p:sp>
            <p:nvSpPr>
              <p:cNvPr id="4245" name=""/>
              <p:cNvSpPr/>
              <p:nvPr/>
            </p:nvSpPr>
            <p:spPr>
              <a:xfrm>
                <a:off x="36576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6576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47" name=""/>
            <p:cNvSpPr/>
            <p:nvPr/>
          </p:nvSpPr>
          <p:spPr>
            <a:xfrm>
              <a:off x="367776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67776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67776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0" name=""/>
            <p:cNvGrpSpPr/>
            <p:nvPr/>
          </p:nvGrpSpPr>
          <p:grpSpPr>
            <a:xfrm>
              <a:off x="3696840" y="5196600"/>
              <a:ext cx="132840" cy="56160"/>
              <a:chOff x="3696840" y="5196600"/>
              <a:chExt cx="132840" cy="56160"/>
            </a:xfrm>
          </p:grpSpPr>
          <p:sp>
            <p:nvSpPr>
              <p:cNvPr id="4251" name=""/>
              <p:cNvSpPr/>
              <p:nvPr/>
            </p:nvSpPr>
            <p:spPr>
              <a:xfrm>
                <a:off x="36968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6968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3" name=""/>
            <p:cNvGrpSpPr/>
            <p:nvPr/>
          </p:nvGrpSpPr>
          <p:grpSpPr>
            <a:xfrm>
              <a:off x="3695400" y="5256720"/>
              <a:ext cx="83160" cy="83880"/>
              <a:chOff x="3695400" y="5256720"/>
              <a:chExt cx="83160" cy="83880"/>
            </a:xfrm>
          </p:grpSpPr>
          <p:sp>
            <p:nvSpPr>
              <p:cNvPr id="4254" name=""/>
              <p:cNvSpPr/>
              <p:nvPr/>
            </p:nvSpPr>
            <p:spPr>
              <a:xfrm>
                <a:off x="36954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6954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6" name=""/>
          <p:cNvGrpSpPr/>
          <p:nvPr/>
        </p:nvGrpSpPr>
        <p:grpSpPr>
          <a:xfrm>
            <a:off x="4572000" y="5791320"/>
            <a:ext cx="511200" cy="330120"/>
            <a:chOff x="4572000" y="5791320"/>
            <a:chExt cx="511200" cy="330120"/>
          </a:xfrm>
        </p:grpSpPr>
        <p:grpSp>
          <p:nvGrpSpPr>
            <p:cNvPr id="4257" name=""/>
            <p:cNvGrpSpPr/>
            <p:nvPr/>
          </p:nvGrpSpPr>
          <p:grpSpPr>
            <a:xfrm>
              <a:off x="4572720" y="5833800"/>
              <a:ext cx="322560" cy="287640"/>
              <a:chOff x="4572720" y="5833800"/>
              <a:chExt cx="322560" cy="287640"/>
            </a:xfrm>
          </p:grpSpPr>
          <p:sp>
            <p:nvSpPr>
              <p:cNvPr id="4258" name=""/>
              <p:cNvSpPr/>
              <p:nvPr/>
            </p:nvSpPr>
            <p:spPr>
              <a:xfrm>
                <a:off x="4572720" y="58338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4572720" y="58338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4895280" y="5843520"/>
              <a:ext cx="186120" cy="277920"/>
              <a:chOff x="4895280" y="5843520"/>
              <a:chExt cx="186120" cy="277920"/>
            </a:xfrm>
          </p:grpSpPr>
          <p:sp>
            <p:nvSpPr>
              <p:cNvPr id="4261" name=""/>
              <p:cNvSpPr/>
              <p:nvPr/>
            </p:nvSpPr>
            <p:spPr>
              <a:xfrm>
                <a:off x="4895280" y="58435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895280" y="58435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"/>
            <p:cNvGrpSpPr/>
            <p:nvPr/>
          </p:nvGrpSpPr>
          <p:grpSpPr>
            <a:xfrm>
              <a:off x="4572000" y="5791320"/>
              <a:ext cx="511200" cy="115920"/>
              <a:chOff x="4572000" y="5791320"/>
              <a:chExt cx="511200" cy="115920"/>
            </a:xfrm>
          </p:grpSpPr>
          <p:sp>
            <p:nvSpPr>
              <p:cNvPr id="4264" name=""/>
              <p:cNvSpPr/>
              <p:nvPr/>
            </p:nvSpPr>
            <p:spPr>
              <a:xfrm>
                <a:off x="4572000" y="57913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572000" y="57913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6" name=""/>
            <p:cNvSpPr/>
            <p:nvPr/>
          </p:nvSpPr>
          <p:spPr>
            <a:xfrm>
              <a:off x="4592160" y="58597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4592160" y="59216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4592160" y="58597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69" name=""/>
            <p:cNvGrpSpPr/>
            <p:nvPr/>
          </p:nvGrpSpPr>
          <p:grpSpPr>
            <a:xfrm>
              <a:off x="4611240" y="5882400"/>
              <a:ext cx="132840" cy="56160"/>
              <a:chOff x="4611240" y="5882400"/>
              <a:chExt cx="132840" cy="56160"/>
            </a:xfrm>
          </p:grpSpPr>
          <p:sp>
            <p:nvSpPr>
              <p:cNvPr id="4270" name=""/>
              <p:cNvSpPr/>
              <p:nvPr/>
            </p:nvSpPr>
            <p:spPr>
              <a:xfrm>
                <a:off x="4611240" y="58824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611240" y="58824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2" name=""/>
            <p:cNvGrpSpPr/>
            <p:nvPr/>
          </p:nvGrpSpPr>
          <p:grpSpPr>
            <a:xfrm>
              <a:off x="4609800" y="5942520"/>
              <a:ext cx="83160" cy="83880"/>
              <a:chOff x="4609800" y="5942520"/>
              <a:chExt cx="83160" cy="83880"/>
            </a:xfrm>
          </p:grpSpPr>
          <p:sp>
            <p:nvSpPr>
              <p:cNvPr id="4273" name=""/>
              <p:cNvSpPr/>
              <p:nvPr/>
            </p:nvSpPr>
            <p:spPr>
              <a:xfrm>
                <a:off x="4609800" y="59425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609800" y="59425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5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2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4283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4284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6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4287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9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4290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92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4294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4295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7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0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4301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3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4304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6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4307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9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4310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12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4313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15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4316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8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4323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4324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6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4327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9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4330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2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33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4334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4335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7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0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4341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3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4344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6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4347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9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4350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2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4353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5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4356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58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2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4363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4364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6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4367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9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4370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2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73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4374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4375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7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0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4381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3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4384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6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4387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9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4390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2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4393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5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4396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98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2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4" name=""/>
          <p:cNvGrpSpPr/>
          <p:nvPr/>
        </p:nvGrpSpPr>
        <p:grpSpPr>
          <a:xfrm>
            <a:off x="1219320" y="3192480"/>
            <a:ext cx="6781680" cy="407880"/>
            <a:chOff x="1219320" y="3192480"/>
            <a:chExt cx="6781680" cy="407880"/>
          </a:xfrm>
        </p:grpSpPr>
        <p:grpSp>
          <p:nvGrpSpPr>
            <p:cNvPr id="4405" name=""/>
            <p:cNvGrpSpPr/>
            <p:nvPr/>
          </p:nvGrpSpPr>
          <p:grpSpPr>
            <a:xfrm>
              <a:off x="1219320" y="3219480"/>
              <a:ext cx="533160" cy="380880"/>
              <a:chOff x="1219320" y="3219480"/>
              <a:chExt cx="533160" cy="380880"/>
            </a:xfrm>
          </p:grpSpPr>
          <p:sp>
            <p:nvSpPr>
              <p:cNvPr id="4406" name=""/>
              <p:cNvSpPr/>
              <p:nvPr/>
            </p:nvSpPr>
            <p:spPr>
              <a:xfrm>
                <a:off x="1219320" y="3219480"/>
                <a:ext cx="533160" cy="380880"/>
              </a:xfrm>
              <a:prstGeom prst="rect">
                <a:avLst/>
              </a:prstGeom>
              <a:gradFill rotWithShape="0">
                <a:gsLst>
                  <a:gs pos="0">
                    <a:srgbClr val="2f2f75"/>
                  </a:gs>
                  <a:gs pos="100000">
                    <a:srgbClr val="6666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07" name=""/>
              <p:cNvGrpSpPr/>
              <p:nvPr/>
            </p:nvGrpSpPr>
            <p:grpSpPr>
              <a:xfrm>
                <a:off x="1289520" y="3293280"/>
                <a:ext cx="399240" cy="247680"/>
                <a:chOff x="1289520" y="3293280"/>
                <a:chExt cx="399240" cy="247680"/>
              </a:xfrm>
            </p:grpSpPr>
            <p:sp>
              <p:nvSpPr>
                <p:cNvPr id="4408" name=""/>
                <p:cNvSpPr/>
                <p:nvPr/>
              </p:nvSpPr>
              <p:spPr>
                <a:xfrm>
                  <a:off x="1351800" y="3293280"/>
                  <a:ext cx="27720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 flipH="1">
                  <a:off x="1344240" y="3293280"/>
                  <a:ext cx="27648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>
                  <a:off x="1613880" y="3297240"/>
                  <a:ext cx="69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>
                  <a:off x="1622880" y="3538800"/>
                  <a:ext cx="65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>
                  <a:off x="1299240" y="3297240"/>
                  <a:ext cx="63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>
                  <a:off x="1289520" y="3538800"/>
                  <a:ext cx="64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4" name=""/>
            <p:cNvGrpSpPr/>
            <p:nvPr/>
          </p:nvGrpSpPr>
          <p:grpSpPr>
            <a:xfrm>
              <a:off x="7467480" y="3192480"/>
              <a:ext cx="533520" cy="380880"/>
              <a:chOff x="7467480" y="3192480"/>
              <a:chExt cx="533520" cy="380880"/>
            </a:xfrm>
          </p:grpSpPr>
          <p:sp>
            <p:nvSpPr>
              <p:cNvPr id="4415" name=""/>
              <p:cNvSpPr/>
              <p:nvPr/>
            </p:nvSpPr>
            <p:spPr>
              <a:xfrm flipH="1">
                <a:off x="7467480" y="3192480"/>
                <a:ext cx="533520" cy="380880"/>
              </a:xfrm>
              <a:prstGeom prst="rect">
                <a:avLst/>
              </a:prstGeom>
              <a:gradFill rotWithShape="0">
                <a:gsLst>
                  <a:gs pos="0">
                    <a:srgbClr val="2f2f75"/>
                  </a:gs>
                  <a:gs pos="100000">
                    <a:srgbClr val="6666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16" name=""/>
              <p:cNvGrpSpPr/>
              <p:nvPr/>
            </p:nvGrpSpPr>
            <p:grpSpPr>
              <a:xfrm>
                <a:off x="7531200" y="3266280"/>
                <a:ext cx="399240" cy="247680"/>
                <a:chOff x="7531200" y="3266280"/>
                <a:chExt cx="399240" cy="247680"/>
              </a:xfrm>
            </p:grpSpPr>
            <p:sp>
              <p:nvSpPr>
                <p:cNvPr id="4417" name=""/>
                <p:cNvSpPr/>
                <p:nvPr/>
              </p:nvSpPr>
              <p:spPr>
                <a:xfrm flipH="1">
                  <a:off x="7590960" y="3266280"/>
                  <a:ext cx="27720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>
                  <a:off x="7599240" y="3266280"/>
                  <a:ext cx="27648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 flipH="1">
                  <a:off x="7536960" y="3270240"/>
                  <a:ext cx="69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 flipH="1">
                  <a:off x="7531200" y="3511800"/>
                  <a:ext cx="65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 flipH="1">
                  <a:off x="7857720" y="3270240"/>
                  <a:ext cx="63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 flipH="1">
                  <a:off x="7866000" y="3511800"/>
                  <a:ext cx="64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23" name=""/>
          <p:cNvGrpSpPr/>
          <p:nvPr/>
        </p:nvGrpSpPr>
        <p:grpSpPr>
          <a:xfrm>
            <a:off x="1828800" y="3860640"/>
            <a:ext cx="5562720" cy="1263960"/>
            <a:chOff x="1828800" y="3860640"/>
            <a:chExt cx="5562720" cy="1263960"/>
          </a:xfrm>
        </p:grpSpPr>
        <p:grpSp>
          <p:nvGrpSpPr>
            <p:cNvPr id="4424" name=""/>
            <p:cNvGrpSpPr/>
            <p:nvPr/>
          </p:nvGrpSpPr>
          <p:grpSpPr>
            <a:xfrm>
              <a:off x="1828800" y="3887640"/>
              <a:ext cx="735120" cy="479520"/>
              <a:chOff x="1828800" y="3887640"/>
              <a:chExt cx="735120" cy="479520"/>
            </a:xfrm>
          </p:grpSpPr>
          <p:grpSp>
            <p:nvGrpSpPr>
              <p:cNvPr id="4425" name=""/>
              <p:cNvGrpSpPr/>
              <p:nvPr/>
            </p:nvGrpSpPr>
            <p:grpSpPr>
              <a:xfrm>
                <a:off x="1829880" y="3949200"/>
                <a:ext cx="464040" cy="417960"/>
                <a:chOff x="1829880" y="3949200"/>
                <a:chExt cx="464040" cy="417960"/>
              </a:xfrm>
            </p:grpSpPr>
            <p:sp>
              <p:nvSpPr>
                <p:cNvPr id="4426" name=""/>
                <p:cNvSpPr/>
                <p:nvPr/>
              </p:nvSpPr>
              <p:spPr>
                <a:xfrm>
                  <a:off x="1829880" y="3949200"/>
                  <a:ext cx="464040" cy="41796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>
                  <a:off x="1829880" y="3949200"/>
                  <a:ext cx="464040" cy="41796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8" name=""/>
              <p:cNvGrpSpPr/>
              <p:nvPr/>
            </p:nvGrpSpPr>
            <p:grpSpPr>
              <a:xfrm>
                <a:off x="2293920" y="3963600"/>
                <a:ext cx="267480" cy="403560"/>
                <a:chOff x="2293920" y="3963600"/>
                <a:chExt cx="267480" cy="403560"/>
              </a:xfrm>
            </p:grpSpPr>
            <p:sp>
              <p:nvSpPr>
                <p:cNvPr id="4429" name=""/>
                <p:cNvSpPr/>
                <p:nvPr/>
              </p:nvSpPr>
              <p:spPr>
                <a:xfrm>
                  <a:off x="2293920" y="3963600"/>
                  <a:ext cx="267480" cy="4035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>
                  <a:off x="2293920" y="3963600"/>
                  <a:ext cx="267480" cy="4035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1" name=""/>
              <p:cNvGrpSpPr/>
              <p:nvPr/>
            </p:nvGrpSpPr>
            <p:grpSpPr>
              <a:xfrm>
                <a:off x="1828800" y="3887640"/>
                <a:ext cx="735120" cy="168120"/>
                <a:chOff x="1828800" y="3887640"/>
                <a:chExt cx="735120" cy="168120"/>
              </a:xfrm>
            </p:grpSpPr>
            <p:sp>
              <p:nvSpPr>
                <p:cNvPr id="4432" name=""/>
                <p:cNvSpPr/>
                <p:nvPr/>
              </p:nvSpPr>
              <p:spPr>
                <a:xfrm>
                  <a:off x="1828800" y="38876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>
                  <a:off x="1828800" y="38876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4" name=""/>
              <p:cNvSpPr/>
              <p:nvPr/>
            </p:nvSpPr>
            <p:spPr>
              <a:xfrm>
                <a:off x="1857960" y="3987000"/>
                <a:ext cx="391680" cy="33804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57960" y="4077360"/>
                <a:ext cx="391680" cy="2476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960" y="3987000"/>
                <a:ext cx="389520" cy="2206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7" name=""/>
              <p:cNvGrpSpPr/>
              <p:nvPr/>
            </p:nvGrpSpPr>
            <p:grpSpPr>
              <a:xfrm>
                <a:off x="1885320" y="4020120"/>
                <a:ext cx="191160" cy="81720"/>
                <a:chOff x="1885320" y="4020120"/>
                <a:chExt cx="191160" cy="81720"/>
              </a:xfrm>
            </p:grpSpPr>
            <p:sp>
              <p:nvSpPr>
                <p:cNvPr id="4438" name=""/>
                <p:cNvSpPr/>
                <p:nvPr/>
              </p:nvSpPr>
              <p:spPr>
                <a:xfrm>
                  <a:off x="1885320" y="402012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>
                  <a:off x="1885320" y="402012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0" name=""/>
              <p:cNvGrpSpPr/>
              <p:nvPr/>
            </p:nvGrpSpPr>
            <p:grpSpPr>
              <a:xfrm>
                <a:off x="1883160" y="4107240"/>
                <a:ext cx="119520" cy="122040"/>
                <a:chOff x="1883160" y="4107240"/>
                <a:chExt cx="119520" cy="122040"/>
              </a:xfrm>
            </p:grpSpPr>
            <p:sp>
              <p:nvSpPr>
                <p:cNvPr id="4441" name=""/>
                <p:cNvSpPr/>
                <p:nvPr/>
              </p:nvSpPr>
              <p:spPr>
                <a:xfrm>
                  <a:off x="1883160" y="410724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2" name=""/>
                <p:cNvSpPr/>
                <p:nvPr/>
              </p:nvSpPr>
              <p:spPr>
                <a:xfrm>
                  <a:off x="1883160" y="410724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43" name=""/>
            <p:cNvGrpSpPr/>
            <p:nvPr/>
          </p:nvGrpSpPr>
          <p:grpSpPr>
            <a:xfrm>
              <a:off x="2438280" y="4492800"/>
              <a:ext cx="990720" cy="631800"/>
              <a:chOff x="2438280" y="4492800"/>
              <a:chExt cx="990720" cy="631800"/>
            </a:xfrm>
          </p:grpSpPr>
          <p:grpSp>
            <p:nvGrpSpPr>
              <p:cNvPr id="4444" name=""/>
              <p:cNvGrpSpPr/>
              <p:nvPr/>
            </p:nvGrpSpPr>
            <p:grpSpPr>
              <a:xfrm>
                <a:off x="2439720" y="4574160"/>
                <a:ext cx="624960" cy="550440"/>
                <a:chOff x="2439720" y="4574160"/>
                <a:chExt cx="624960" cy="550440"/>
              </a:xfrm>
            </p:grpSpPr>
            <p:sp>
              <p:nvSpPr>
                <p:cNvPr id="4445" name=""/>
                <p:cNvSpPr/>
                <p:nvPr/>
              </p:nvSpPr>
              <p:spPr>
                <a:xfrm>
                  <a:off x="2439720" y="4574160"/>
                  <a:ext cx="624960" cy="55044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6" name=""/>
                <p:cNvSpPr/>
                <p:nvPr/>
              </p:nvSpPr>
              <p:spPr>
                <a:xfrm>
                  <a:off x="2439720" y="4574160"/>
                  <a:ext cx="624960" cy="55044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7" name=""/>
              <p:cNvGrpSpPr/>
              <p:nvPr/>
            </p:nvGrpSpPr>
            <p:grpSpPr>
              <a:xfrm>
                <a:off x="3065040" y="4592880"/>
                <a:ext cx="360360" cy="531720"/>
                <a:chOff x="3065040" y="4592880"/>
                <a:chExt cx="360360" cy="531720"/>
              </a:xfrm>
            </p:grpSpPr>
            <p:sp>
              <p:nvSpPr>
                <p:cNvPr id="4448" name=""/>
                <p:cNvSpPr/>
                <p:nvPr/>
              </p:nvSpPr>
              <p:spPr>
                <a:xfrm>
                  <a:off x="3065040" y="4592880"/>
                  <a:ext cx="360360" cy="53172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9" name=""/>
                <p:cNvSpPr/>
                <p:nvPr/>
              </p:nvSpPr>
              <p:spPr>
                <a:xfrm>
                  <a:off x="3065040" y="4592880"/>
                  <a:ext cx="360360" cy="53172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0" name=""/>
              <p:cNvGrpSpPr/>
              <p:nvPr/>
            </p:nvGrpSpPr>
            <p:grpSpPr>
              <a:xfrm>
                <a:off x="2438280" y="4492800"/>
                <a:ext cx="990720" cy="221760"/>
                <a:chOff x="2438280" y="4492800"/>
                <a:chExt cx="990720" cy="221760"/>
              </a:xfrm>
            </p:grpSpPr>
            <p:sp>
              <p:nvSpPr>
                <p:cNvPr id="4451" name=""/>
                <p:cNvSpPr/>
                <p:nvPr/>
              </p:nvSpPr>
              <p:spPr>
                <a:xfrm>
                  <a:off x="2438280" y="4492800"/>
                  <a:ext cx="990720" cy="22176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2" name=""/>
                <p:cNvSpPr/>
                <p:nvPr/>
              </p:nvSpPr>
              <p:spPr>
                <a:xfrm>
                  <a:off x="2438280" y="4492800"/>
                  <a:ext cx="990720" cy="22176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3" name=""/>
              <p:cNvSpPr/>
              <p:nvPr/>
            </p:nvSpPr>
            <p:spPr>
              <a:xfrm>
                <a:off x="2477520" y="4623840"/>
                <a:ext cx="527760" cy="44532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2477520" y="4742640"/>
                <a:ext cx="527760" cy="32616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2477520" y="4623840"/>
                <a:ext cx="525240" cy="2908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56" name=""/>
              <p:cNvGrpSpPr/>
              <p:nvPr/>
            </p:nvGrpSpPr>
            <p:grpSpPr>
              <a:xfrm>
                <a:off x="2514240" y="4667040"/>
                <a:ext cx="257760" cy="107640"/>
                <a:chOff x="2514240" y="4667040"/>
                <a:chExt cx="257760" cy="107640"/>
              </a:xfrm>
            </p:grpSpPr>
            <p:sp>
              <p:nvSpPr>
                <p:cNvPr id="4457" name=""/>
                <p:cNvSpPr/>
                <p:nvPr/>
              </p:nvSpPr>
              <p:spPr>
                <a:xfrm>
                  <a:off x="2514240" y="466704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8" name=""/>
                <p:cNvSpPr/>
                <p:nvPr/>
              </p:nvSpPr>
              <p:spPr>
                <a:xfrm>
                  <a:off x="2514240" y="466704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9" name=""/>
              <p:cNvGrpSpPr/>
              <p:nvPr/>
            </p:nvGrpSpPr>
            <p:grpSpPr>
              <a:xfrm>
                <a:off x="2511720" y="4781880"/>
                <a:ext cx="161280" cy="160920"/>
                <a:chOff x="2511720" y="4781880"/>
                <a:chExt cx="161280" cy="160920"/>
              </a:xfrm>
            </p:grpSpPr>
            <p:sp>
              <p:nvSpPr>
                <p:cNvPr id="4460" name=""/>
                <p:cNvSpPr/>
                <p:nvPr/>
              </p:nvSpPr>
              <p:spPr>
                <a:xfrm>
                  <a:off x="2511720" y="4781880"/>
                  <a:ext cx="161280" cy="16092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1" name=""/>
                <p:cNvSpPr/>
                <p:nvPr/>
              </p:nvSpPr>
              <p:spPr>
                <a:xfrm>
                  <a:off x="2511720" y="4781880"/>
                  <a:ext cx="161280" cy="16092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62" name=""/>
            <p:cNvGrpSpPr/>
            <p:nvPr/>
          </p:nvGrpSpPr>
          <p:grpSpPr>
            <a:xfrm>
              <a:off x="6656400" y="3860640"/>
              <a:ext cx="735120" cy="479520"/>
              <a:chOff x="6656400" y="3860640"/>
              <a:chExt cx="735120" cy="479520"/>
            </a:xfrm>
          </p:grpSpPr>
          <p:grpSp>
            <p:nvGrpSpPr>
              <p:cNvPr id="4463" name=""/>
              <p:cNvGrpSpPr/>
              <p:nvPr/>
            </p:nvGrpSpPr>
            <p:grpSpPr>
              <a:xfrm>
                <a:off x="6926400" y="3922200"/>
                <a:ext cx="464040" cy="417960"/>
                <a:chOff x="6926400" y="3922200"/>
                <a:chExt cx="464040" cy="417960"/>
              </a:xfrm>
            </p:grpSpPr>
            <p:sp>
              <p:nvSpPr>
                <p:cNvPr id="4464" name=""/>
                <p:cNvSpPr/>
                <p:nvPr/>
              </p:nvSpPr>
              <p:spPr>
                <a:xfrm flipH="1">
                  <a:off x="6926040" y="3922200"/>
                  <a:ext cx="464040" cy="41796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5" name=""/>
                <p:cNvSpPr/>
                <p:nvPr/>
              </p:nvSpPr>
              <p:spPr>
                <a:xfrm flipH="1">
                  <a:off x="6926040" y="3922200"/>
                  <a:ext cx="464040" cy="41796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6" name=""/>
              <p:cNvGrpSpPr/>
              <p:nvPr/>
            </p:nvGrpSpPr>
            <p:grpSpPr>
              <a:xfrm>
                <a:off x="6658920" y="3936600"/>
                <a:ext cx="267480" cy="403560"/>
                <a:chOff x="6658920" y="3936600"/>
                <a:chExt cx="267480" cy="403560"/>
              </a:xfrm>
            </p:grpSpPr>
            <p:sp>
              <p:nvSpPr>
                <p:cNvPr id="4467" name=""/>
                <p:cNvSpPr/>
                <p:nvPr/>
              </p:nvSpPr>
              <p:spPr>
                <a:xfrm flipH="1">
                  <a:off x="6658560" y="3936600"/>
                  <a:ext cx="267480" cy="4035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8" name=""/>
                <p:cNvSpPr/>
                <p:nvPr/>
              </p:nvSpPr>
              <p:spPr>
                <a:xfrm flipH="1">
                  <a:off x="6658560" y="3936600"/>
                  <a:ext cx="267480" cy="4035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9" name=""/>
              <p:cNvGrpSpPr/>
              <p:nvPr/>
            </p:nvGrpSpPr>
            <p:grpSpPr>
              <a:xfrm>
                <a:off x="6656400" y="3860640"/>
                <a:ext cx="735120" cy="168120"/>
                <a:chOff x="6656400" y="3860640"/>
                <a:chExt cx="735120" cy="168120"/>
              </a:xfrm>
            </p:grpSpPr>
            <p:sp>
              <p:nvSpPr>
                <p:cNvPr id="4470" name=""/>
                <p:cNvSpPr/>
                <p:nvPr/>
              </p:nvSpPr>
              <p:spPr>
                <a:xfrm flipH="1">
                  <a:off x="6656400" y="38606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1" name=""/>
                <p:cNvSpPr/>
                <p:nvPr/>
              </p:nvSpPr>
              <p:spPr>
                <a:xfrm flipH="1">
                  <a:off x="6656400" y="38606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2" name=""/>
              <p:cNvSpPr/>
              <p:nvPr/>
            </p:nvSpPr>
            <p:spPr>
              <a:xfrm flipH="1">
                <a:off x="6970680" y="3960000"/>
                <a:ext cx="391680" cy="33804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>
                <a:off x="6970680" y="4050360"/>
                <a:ext cx="391680" cy="2476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H="1">
                <a:off x="6972840" y="3960000"/>
                <a:ext cx="389520" cy="2206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75" name=""/>
              <p:cNvGrpSpPr/>
              <p:nvPr/>
            </p:nvGrpSpPr>
            <p:grpSpPr>
              <a:xfrm>
                <a:off x="7143840" y="3993120"/>
                <a:ext cx="191160" cy="81720"/>
                <a:chOff x="7143840" y="3993120"/>
                <a:chExt cx="191160" cy="81720"/>
              </a:xfrm>
            </p:grpSpPr>
            <p:sp>
              <p:nvSpPr>
                <p:cNvPr id="4476" name=""/>
                <p:cNvSpPr/>
                <p:nvPr/>
              </p:nvSpPr>
              <p:spPr>
                <a:xfrm flipH="1">
                  <a:off x="7143480" y="399312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 flipH="1">
                  <a:off x="7143480" y="399312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8" name=""/>
              <p:cNvGrpSpPr/>
              <p:nvPr/>
            </p:nvGrpSpPr>
            <p:grpSpPr>
              <a:xfrm>
                <a:off x="7217640" y="4080240"/>
                <a:ext cx="119520" cy="122040"/>
                <a:chOff x="7217640" y="4080240"/>
                <a:chExt cx="119520" cy="122040"/>
              </a:xfrm>
            </p:grpSpPr>
            <p:sp>
              <p:nvSpPr>
                <p:cNvPr id="4479" name=""/>
                <p:cNvSpPr/>
                <p:nvPr/>
              </p:nvSpPr>
              <p:spPr>
                <a:xfrm flipH="1">
                  <a:off x="7217640" y="408024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 flipH="1">
                  <a:off x="7217640" y="408024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81" name=""/>
            <p:cNvGrpSpPr/>
            <p:nvPr/>
          </p:nvGrpSpPr>
          <p:grpSpPr>
            <a:xfrm>
              <a:off x="5790960" y="4465800"/>
              <a:ext cx="990360" cy="631800"/>
              <a:chOff x="5790960" y="4465800"/>
              <a:chExt cx="990360" cy="631800"/>
            </a:xfrm>
          </p:grpSpPr>
          <p:grpSp>
            <p:nvGrpSpPr>
              <p:cNvPr id="4482" name=""/>
              <p:cNvGrpSpPr/>
              <p:nvPr/>
            </p:nvGrpSpPr>
            <p:grpSpPr>
              <a:xfrm>
                <a:off x="6154920" y="4547160"/>
                <a:ext cx="624960" cy="550440"/>
                <a:chOff x="6154920" y="4547160"/>
                <a:chExt cx="624960" cy="550440"/>
              </a:xfrm>
            </p:grpSpPr>
            <p:sp>
              <p:nvSpPr>
                <p:cNvPr id="4483" name=""/>
                <p:cNvSpPr/>
                <p:nvPr/>
              </p:nvSpPr>
              <p:spPr>
                <a:xfrm flipH="1">
                  <a:off x="6154920" y="4547160"/>
                  <a:ext cx="624960" cy="55044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H="1">
                  <a:off x="6154920" y="4547160"/>
                  <a:ext cx="624960" cy="55044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5" name=""/>
              <p:cNvGrpSpPr/>
              <p:nvPr/>
            </p:nvGrpSpPr>
            <p:grpSpPr>
              <a:xfrm>
                <a:off x="5794560" y="4565880"/>
                <a:ext cx="360360" cy="531720"/>
                <a:chOff x="5794560" y="4565880"/>
                <a:chExt cx="360360" cy="531720"/>
              </a:xfrm>
            </p:grpSpPr>
            <p:sp>
              <p:nvSpPr>
                <p:cNvPr id="4486" name=""/>
                <p:cNvSpPr/>
                <p:nvPr/>
              </p:nvSpPr>
              <p:spPr>
                <a:xfrm flipH="1">
                  <a:off x="5794200" y="4565880"/>
                  <a:ext cx="360360" cy="53172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 flipH="1">
                  <a:off x="5794200" y="4565880"/>
                  <a:ext cx="360360" cy="53172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8" name=""/>
              <p:cNvGrpSpPr/>
              <p:nvPr/>
            </p:nvGrpSpPr>
            <p:grpSpPr>
              <a:xfrm>
                <a:off x="5790960" y="4465800"/>
                <a:ext cx="990360" cy="221760"/>
                <a:chOff x="5790960" y="4465800"/>
                <a:chExt cx="990360" cy="221760"/>
              </a:xfrm>
            </p:grpSpPr>
            <p:sp>
              <p:nvSpPr>
                <p:cNvPr id="4489" name=""/>
                <p:cNvSpPr/>
                <p:nvPr/>
              </p:nvSpPr>
              <p:spPr>
                <a:xfrm flipH="1">
                  <a:off x="5790600" y="4465800"/>
                  <a:ext cx="990360" cy="22176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 flipH="1">
                  <a:off x="5790600" y="4465800"/>
                  <a:ext cx="990360" cy="22176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1" name=""/>
              <p:cNvSpPr/>
              <p:nvPr/>
            </p:nvSpPr>
            <p:spPr>
              <a:xfrm flipH="1">
                <a:off x="6214320" y="4596840"/>
                <a:ext cx="527760" cy="44532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H="1">
                <a:off x="6214320" y="4715640"/>
                <a:ext cx="527760" cy="32616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H="1">
                <a:off x="6217200" y="4596840"/>
                <a:ext cx="524880" cy="2908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4" name=""/>
              <p:cNvGrpSpPr/>
              <p:nvPr/>
            </p:nvGrpSpPr>
            <p:grpSpPr>
              <a:xfrm>
                <a:off x="6447600" y="4640040"/>
                <a:ext cx="257760" cy="107640"/>
                <a:chOff x="6447600" y="4640040"/>
                <a:chExt cx="257760" cy="107640"/>
              </a:xfrm>
            </p:grpSpPr>
            <p:sp>
              <p:nvSpPr>
                <p:cNvPr id="4495" name=""/>
                <p:cNvSpPr/>
                <p:nvPr/>
              </p:nvSpPr>
              <p:spPr>
                <a:xfrm flipH="1">
                  <a:off x="6447600" y="464004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6" name=""/>
                <p:cNvSpPr/>
                <p:nvPr/>
              </p:nvSpPr>
              <p:spPr>
                <a:xfrm flipH="1">
                  <a:off x="6447600" y="464004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7" name=""/>
              <p:cNvGrpSpPr/>
              <p:nvPr/>
            </p:nvGrpSpPr>
            <p:grpSpPr>
              <a:xfrm>
                <a:off x="6546960" y="4754880"/>
                <a:ext cx="160920" cy="160920"/>
                <a:chOff x="6546960" y="4754880"/>
                <a:chExt cx="160920" cy="160920"/>
              </a:xfrm>
            </p:grpSpPr>
            <p:sp>
              <p:nvSpPr>
                <p:cNvPr id="4498" name=""/>
                <p:cNvSpPr/>
                <p:nvPr/>
              </p:nvSpPr>
              <p:spPr>
                <a:xfrm flipH="1">
                  <a:off x="6546600" y="4754880"/>
                  <a:ext cx="160920" cy="16092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9" name=""/>
                <p:cNvSpPr/>
                <p:nvPr/>
              </p:nvSpPr>
              <p:spPr>
                <a:xfrm flipH="1">
                  <a:off x="6546600" y="4754880"/>
                  <a:ext cx="160920" cy="16092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00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4501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4502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4505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07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4508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10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13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4514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6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4517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9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4520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4521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3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4524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6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4527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29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32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4533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5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4536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8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4539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4540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2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4543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5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4546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48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1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4552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54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4555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7" name=""/>
          <p:cNvSpPr/>
          <p:nvPr/>
        </p:nvSpPr>
        <p:spPr>
          <a:xfrm>
            <a:off x="2980080" y="624852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838080" y="3124080"/>
            <a:ext cx="398520" cy="203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457200" y="83808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ckets passing through AP and switch are allotted resources based on 802.1p mark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1757520" y="3600360"/>
            <a:ext cx="258480" cy="333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2401920" y="4254480"/>
            <a:ext cx="208080" cy="298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3303720" y="5010120"/>
            <a:ext cx="506160" cy="476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3886200" y="5315040"/>
            <a:ext cx="1295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 flipV="1">
            <a:off x="5334120" y="4952880"/>
            <a:ext cx="53316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 flipV="1">
            <a:off x="6593040" y="4267080"/>
            <a:ext cx="188640" cy="247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 flipV="1">
            <a:off x="7261200" y="3574800"/>
            <a:ext cx="235080" cy="322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 flipV="1">
            <a:off x="8004240" y="3123720"/>
            <a:ext cx="301680" cy="1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57200" y="1143000"/>
            <a:ext cx="8381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ckets passing through RSVP capable routers are allotted resources based on classification information conveyed in RSVP messag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457200" y="1676520"/>
            <a:ext cx="8381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ckets passing through Diff-Serv network are allotted resources based on DS-field (TOS) marking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1" name=""/>
          <p:cNvGrpSpPr/>
          <p:nvPr/>
        </p:nvGrpSpPr>
        <p:grpSpPr>
          <a:xfrm>
            <a:off x="1219320" y="3187800"/>
            <a:ext cx="6781680" cy="407880"/>
            <a:chOff x="1219320" y="3187800"/>
            <a:chExt cx="6781680" cy="407880"/>
          </a:xfrm>
        </p:grpSpPr>
        <p:grpSp>
          <p:nvGrpSpPr>
            <p:cNvPr id="4572" name=""/>
            <p:cNvGrpSpPr/>
            <p:nvPr/>
          </p:nvGrpSpPr>
          <p:grpSpPr>
            <a:xfrm>
              <a:off x="1219320" y="3214800"/>
              <a:ext cx="533160" cy="380880"/>
              <a:chOff x="1219320" y="3214800"/>
              <a:chExt cx="533160" cy="380880"/>
            </a:xfrm>
          </p:grpSpPr>
          <p:sp>
            <p:nvSpPr>
              <p:cNvPr id="4573" name=""/>
              <p:cNvSpPr/>
              <p:nvPr/>
            </p:nvSpPr>
            <p:spPr>
              <a:xfrm>
                <a:off x="1219320" y="3214800"/>
                <a:ext cx="53316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74" name=""/>
              <p:cNvGrpSpPr/>
              <p:nvPr/>
            </p:nvGrpSpPr>
            <p:grpSpPr>
              <a:xfrm>
                <a:off x="1289520" y="3288600"/>
                <a:ext cx="399240" cy="247680"/>
                <a:chOff x="1289520" y="3288600"/>
                <a:chExt cx="399240" cy="247680"/>
              </a:xfrm>
            </p:grpSpPr>
            <p:sp>
              <p:nvSpPr>
                <p:cNvPr id="4575" name=""/>
                <p:cNvSpPr/>
                <p:nvPr/>
              </p:nvSpPr>
              <p:spPr>
                <a:xfrm>
                  <a:off x="1351800" y="3288600"/>
                  <a:ext cx="27720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 flipH="1">
                  <a:off x="1344240" y="3288600"/>
                  <a:ext cx="27648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>
                  <a:off x="1613880" y="3292560"/>
                  <a:ext cx="69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1622880" y="3534120"/>
                  <a:ext cx="65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>
                  <a:off x="1299240" y="3292560"/>
                  <a:ext cx="63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1289520" y="3534120"/>
                  <a:ext cx="64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1" name=""/>
            <p:cNvGrpSpPr/>
            <p:nvPr/>
          </p:nvGrpSpPr>
          <p:grpSpPr>
            <a:xfrm>
              <a:off x="7467480" y="3187800"/>
              <a:ext cx="533520" cy="380880"/>
              <a:chOff x="7467480" y="3187800"/>
              <a:chExt cx="533520" cy="380880"/>
            </a:xfrm>
          </p:grpSpPr>
          <p:sp>
            <p:nvSpPr>
              <p:cNvPr id="4582" name=""/>
              <p:cNvSpPr/>
              <p:nvPr/>
            </p:nvSpPr>
            <p:spPr>
              <a:xfrm flipH="1">
                <a:off x="7467480" y="3187800"/>
                <a:ext cx="53352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83" name=""/>
              <p:cNvGrpSpPr/>
              <p:nvPr/>
            </p:nvGrpSpPr>
            <p:grpSpPr>
              <a:xfrm>
                <a:off x="7531200" y="3261600"/>
                <a:ext cx="399240" cy="247680"/>
                <a:chOff x="7531200" y="3261600"/>
                <a:chExt cx="399240" cy="247680"/>
              </a:xfrm>
            </p:grpSpPr>
            <p:sp>
              <p:nvSpPr>
                <p:cNvPr id="4584" name=""/>
                <p:cNvSpPr/>
                <p:nvPr/>
              </p:nvSpPr>
              <p:spPr>
                <a:xfrm flipH="1">
                  <a:off x="7590960" y="3261600"/>
                  <a:ext cx="27720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5" name=""/>
                <p:cNvSpPr/>
                <p:nvPr/>
              </p:nvSpPr>
              <p:spPr>
                <a:xfrm>
                  <a:off x="7599240" y="3261600"/>
                  <a:ext cx="27648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6" name=""/>
                <p:cNvSpPr/>
                <p:nvPr/>
              </p:nvSpPr>
              <p:spPr>
                <a:xfrm flipH="1">
                  <a:off x="7536960" y="3265560"/>
                  <a:ext cx="69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 flipH="1">
                  <a:off x="7531200" y="3507120"/>
                  <a:ext cx="65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 flipH="1">
                  <a:off x="7857720" y="3265560"/>
                  <a:ext cx="63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9" name=""/>
                <p:cNvSpPr/>
                <p:nvPr/>
              </p:nvSpPr>
              <p:spPr>
                <a:xfrm flipH="1">
                  <a:off x="7866000" y="3507120"/>
                  <a:ext cx="64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90" name=""/>
          <p:cNvGrpSpPr/>
          <p:nvPr/>
        </p:nvGrpSpPr>
        <p:grpSpPr>
          <a:xfrm>
            <a:off x="1841400" y="3849840"/>
            <a:ext cx="5562720" cy="1263240"/>
            <a:chOff x="1841400" y="3849840"/>
            <a:chExt cx="5562720" cy="1263240"/>
          </a:xfrm>
        </p:grpSpPr>
        <p:grpSp>
          <p:nvGrpSpPr>
            <p:cNvPr id="4591" name=""/>
            <p:cNvGrpSpPr/>
            <p:nvPr/>
          </p:nvGrpSpPr>
          <p:grpSpPr>
            <a:xfrm>
              <a:off x="1841400" y="3876480"/>
              <a:ext cx="735120" cy="479160"/>
              <a:chOff x="1841400" y="3876480"/>
              <a:chExt cx="735120" cy="479160"/>
            </a:xfrm>
          </p:grpSpPr>
          <p:grpSp>
            <p:nvGrpSpPr>
              <p:cNvPr id="4592" name=""/>
              <p:cNvGrpSpPr/>
              <p:nvPr/>
            </p:nvGrpSpPr>
            <p:grpSpPr>
              <a:xfrm>
                <a:off x="1842480" y="3938040"/>
                <a:ext cx="464040" cy="417600"/>
                <a:chOff x="1842480" y="3938040"/>
                <a:chExt cx="464040" cy="417600"/>
              </a:xfrm>
            </p:grpSpPr>
            <p:sp>
              <p:nvSpPr>
                <p:cNvPr id="4593" name=""/>
                <p:cNvSpPr/>
                <p:nvPr/>
              </p:nvSpPr>
              <p:spPr>
                <a:xfrm>
                  <a:off x="1842480" y="3938040"/>
                  <a:ext cx="464040" cy="41760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4" name=""/>
                <p:cNvSpPr/>
                <p:nvPr/>
              </p:nvSpPr>
              <p:spPr>
                <a:xfrm>
                  <a:off x="1842480" y="3938040"/>
                  <a:ext cx="464040" cy="41760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5" name=""/>
              <p:cNvGrpSpPr/>
              <p:nvPr/>
            </p:nvGrpSpPr>
            <p:grpSpPr>
              <a:xfrm>
                <a:off x="2306520" y="3952440"/>
                <a:ext cx="267480" cy="403200"/>
                <a:chOff x="2306520" y="3952440"/>
                <a:chExt cx="267480" cy="403200"/>
              </a:xfrm>
            </p:grpSpPr>
            <p:sp>
              <p:nvSpPr>
                <p:cNvPr id="4596" name=""/>
                <p:cNvSpPr/>
                <p:nvPr/>
              </p:nvSpPr>
              <p:spPr>
                <a:xfrm>
                  <a:off x="2306520" y="3952440"/>
                  <a:ext cx="267480" cy="40320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7" name=""/>
                <p:cNvSpPr/>
                <p:nvPr/>
              </p:nvSpPr>
              <p:spPr>
                <a:xfrm>
                  <a:off x="2306520" y="3952440"/>
                  <a:ext cx="267480" cy="40320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8" name=""/>
              <p:cNvGrpSpPr/>
              <p:nvPr/>
            </p:nvGrpSpPr>
            <p:grpSpPr>
              <a:xfrm>
                <a:off x="1841400" y="3876480"/>
                <a:ext cx="735120" cy="168120"/>
                <a:chOff x="1841400" y="3876480"/>
                <a:chExt cx="735120" cy="168120"/>
              </a:xfrm>
            </p:grpSpPr>
            <p:sp>
              <p:nvSpPr>
                <p:cNvPr id="4599" name=""/>
                <p:cNvSpPr/>
                <p:nvPr/>
              </p:nvSpPr>
              <p:spPr>
                <a:xfrm>
                  <a:off x="1841400" y="387648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0" name=""/>
                <p:cNvSpPr/>
                <p:nvPr/>
              </p:nvSpPr>
              <p:spPr>
                <a:xfrm>
                  <a:off x="1841400" y="387648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1" name=""/>
              <p:cNvSpPr/>
              <p:nvPr/>
            </p:nvSpPr>
            <p:spPr>
              <a:xfrm>
                <a:off x="1870560" y="3975840"/>
                <a:ext cx="391680" cy="3376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1870560" y="4065840"/>
                <a:ext cx="391680" cy="24732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870560" y="3975840"/>
                <a:ext cx="389520" cy="2206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04" name=""/>
              <p:cNvGrpSpPr/>
              <p:nvPr/>
            </p:nvGrpSpPr>
            <p:grpSpPr>
              <a:xfrm>
                <a:off x="1897920" y="4008600"/>
                <a:ext cx="191160" cy="81720"/>
                <a:chOff x="1897920" y="4008600"/>
                <a:chExt cx="191160" cy="81720"/>
              </a:xfrm>
            </p:grpSpPr>
            <p:sp>
              <p:nvSpPr>
                <p:cNvPr id="4605" name=""/>
                <p:cNvSpPr/>
                <p:nvPr/>
              </p:nvSpPr>
              <p:spPr>
                <a:xfrm>
                  <a:off x="1897920" y="400860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6" name=""/>
                <p:cNvSpPr/>
                <p:nvPr/>
              </p:nvSpPr>
              <p:spPr>
                <a:xfrm>
                  <a:off x="1897920" y="400860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7" name=""/>
              <p:cNvGrpSpPr/>
              <p:nvPr/>
            </p:nvGrpSpPr>
            <p:grpSpPr>
              <a:xfrm>
                <a:off x="1895760" y="4095720"/>
                <a:ext cx="119520" cy="122040"/>
                <a:chOff x="1895760" y="4095720"/>
                <a:chExt cx="119520" cy="122040"/>
              </a:xfrm>
            </p:grpSpPr>
            <p:sp>
              <p:nvSpPr>
                <p:cNvPr id="4608" name=""/>
                <p:cNvSpPr/>
                <p:nvPr/>
              </p:nvSpPr>
              <p:spPr>
                <a:xfrm>
                  <a:off x="1895760" y="409572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1895760" y="409572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0" name=""/>
            <p:cNvGrpSpPr/>
            <p:nvPr/>
          </p:nvGrpSpPr>
          <p:grpSpPr>
            <a:xfrm>
              <a:off x="2450880" y="4481640"/>
              <a:ext cx="990720" cy="631440"/>
              <a:chOff x="2450880" y="4481640"/>
              <a:chExt cx="990720" cy="631440"/>
            </a:xfrm>
          </p:grpSpPr>
          <p:grpSp>
            <p:nvGrpSpPr>
              <p:cNvPr id="4611" name=""/>
              <p:cNvGrpSpPr/>
              <p:nvPr/>
            </p:nvGrpSpPr>
            <p:grpSpPr>
              <a:xfrm>
                <a:off x="2452320" y="4562640"/>
                <a:ext cx="624960" cy="550080"/>
                <a:chOff x="2452320" y="4562640"/>
                <a:chExt cx="624960" cy="550080"/>
              </a:xfrm>
            </p:grpSpPr>
            <p:sp>
              <p:nvSpPr>
                <p:cNvPr id="4612" name=""/>
                <p:cNvSpPr/>
                <p:nvPr/>
              </p:nvSpPr>
              <p:spPr>
                <a:xfrm>
                  <a:off x="2452320" y="4562640"/>
                  <a:ext cx="624960" cy="550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>
                  <a:off x="2452320" y="4562640"/>
                  <a:ext cx="624960" cy="550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4" name=""/>
              <p:cNvGrpSpPr/>
              <p:nvPr/>
            </p:nvGrpSpPr>
            <p:grpSpPr>
              <a:xfrm>
                <a:off x="3077640" y="4581720"/>
                <a:ext cx="360360" cy="531360"/>
                <a:chOff x="3077640" y="4581720"/>
                <a:chExt cx="360360" cy="531360"/>
              </a:xfrm>
            </p:grpSpPr>
            <p:sp>
              <p:nvSpPr>
                <p:cNvPr id="4615" name=""/>
                <p:cNvSpPr/>
                <p:nvPr/>
              </p:nvSpPr>
              <p:spPr>
                <a:xfrm>
                  <a:off x="3077640" y="4581720"/>
                  <a:ext cx="360360" cy="5313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>
                  <a:off x="3077640" y="4581720"/>
                  <a:ext cx="360360" cy="5313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7" name=""/>
              <p:cNvGrpSpPr/>
              <p:nvPr/>
            </p:nvGrpSpPr>
            <p:grpSpPr>
              <a:xfrm>
                <a:off x="2450880" y="4481640"/>
                <a:ext cx="990720" cy="221400"/>
                <a:chOff x="2450880" y="4481640"/>
                <a:chExt cx="990720" cy="221400"/>
              </a:xfrm>
            </p:grpSpPr>
            <p:sp>
              <p:nvSpPr>
                <p:cNvPr id="4618" name=""/>
                <p:cNvSpPr/>
                <p:nvPr/>
              </p:nvSpPr>
              <p:spPr>
                <a:xfrm>
                  <a:off x="2450880" y="4481640"/>
                  <a:ext cx="990720" cy="22140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>
                  <a:off x="2450880" y="4481640"/>
                  <a:ext cx="990720" cy="22140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0" name=""/>
              <p:cNvSpPr/>
              <p:nvPr/>
            </p:nvSpPr>
            <p:spPr>
              <a:xfrm>
                <a:off x="2490120" y="4612320"/>
                <a:ext cx="527760" cy="44496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2490120" y="4731120"/>
                <a:ext cx="527760" cy="32616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2490120" y="4612320"/>
                <a:ext cx="525240" cy="2908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23" name=""/>
              <p:cNvGrpSpPr/>
              <p:nvPr/>
            </p:nvGrpSpPr>
            <p:grpSpPr>
              <a:xfrm>
                <a:off x="2526840" y="4655880"/>
                <a:ext cx="257760" cy="107640"/>
                <a:chOff x="2526840" y="4655880"/>
                <a:chExt cx="257760" cy="107640"/>
              </a:xfrm>
            </p:grpSpPr>
            <p:sp>
              <p:nvSpPr>
                <p:cNvPr id="4624" name=""/>
                <p:cNvSpPr/>
                <p:nvPr/>
              </p:nvSpPr>
              <p:spPr>
                <a:xfrm>
                  <a:off x="2526840" y="465588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5" name=""/>
                <p:cNvSpPr/>
                <p:nvPr/>
              </p:nvSpPr>
              <p:spPr>
                <a:xfrm>
                  <a:off x="2526840" y="465588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6" name=""/>
              <p:cNvGrpSpPr/>
              <p:nvPr/>
            </p:nvGrpSpPr>
            <p:grpSpPr>
              <a:xfrm>
                <a:off x="2524320" y="4770720"/>
                <a:ext cx="161280" cy="160560"/>
                <a:chOff x="2524320" y="4770720"/>
                <a:chExt cx="161280" cy="160560"/>
              </a:xfrm>
            </p:grpSpPr>
            <p:sp>
              <p:nvSpPr>
                <p:cNvPr id="4627" name=""/>
                <p:cNvSpPr/>
                <p:nvPr/>
              </p:nvSpPr>
              <p:spPr>
                <a:xfrm>
                  <a:off x="2524320" y="4770720"/>
                  <a:ext cx="161280" cy="1605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8" name=""/>
                <p:cNvSpPr/>
                <p:nvPr/>
              </p:nvSpPr>
              <p:spPr>
                <a:xfrm>
                  <a:off x="2524320" y="4770720"/>
                  <a:ext cx="161280" cy="1605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29" name=""/>
            <p:cNvGrpSpPr/>
            <p:nvPr/>
          </p:nvGrpSpPr>
          <p:grpSpPr>
            <a:xfrm>
              <a:off x="6669000" y="3849840"/>
              <a:ext cx="735120" cy="479160"/>
              <a:chOff x="6669000" y="3849840"/>
              <a:chExt cx="735120" cy="479160"/>
            </a:xfrm>
          </p:grpSpPr>
          <p:grpSp>
            <p:nvGrpSpPr>
              <p:cNvPr id="4630" name=""/>
              <p:cNvGrpSpPr/>
              <p:nvPr/>
            </p:nvGrpSpPr>
            <p:grpSpPr>
              <a:xfrm>
                <a:off x="6939000" y="3911400"/>
                <a:ext cx="464040" cy="417600"/>
                <a:chOff x="6939000" y="3911400"/>
                <a:chExt cx="464040" cy="417600"/>
              </a:xfrm>
            </p:grpSpPr>
            <p:sp>
              <p:nvSpPr>
                <p:cNvPr id="4631" name=""/>
                <p:cNvSpPr/>
                <p:nvPr/>
              </p:nvSpPr>
              <p:spPr>
                <a:xfrm flipH="1">
                  <a:off x="6938640" y="3911400"/>
                  <a:ext cx="464040" cy="41760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 flipH="1">
                  <a:off x="6938640" y="3911400"/>
                  <a:ext cx="464040" cy="41760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3" name=""/>
              <p:cNvGrpSpPr/>
              <p:nvPr/>
            </p:nvGrpSpPr>
            <p:grpSpPr>
              <a:xfrm>
                <a:off x="6671520" y="3925800"/>
                <a:ext cx="267480" cy="403200"/>
                <a:chOff x="6671520" y="3925800"/>
                <a:chExt cx="267480" cy="403200"/>
              </a:xfrm>
            </p:grpSpPr>
            <p:sp>
              <p:nvSpPr>
                <p:cNvPr id="4634" name=""/>
                <p:cNvSpPr/>
                <p:nvPr/>
              </p:nvSpPr>
              <p:spPr>
                <a:xfrm flipH="1">
                  <a:off x="6671160" y="3925800"/>
                  <a:ext cx="267480" cy="40320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 flipH="1">
                  <a:off x="6671160" y="3925800"/>
                  <a:ext cx="267480" cy="40320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6" name=""/>
              <p:cNvGrpSpPr/>
              <p:nvPr/>
            </p:nvGrpSpPr>
            <p:grpSpPr>
              <a:xfrm>
                <a:off x="6669000" y="3849840"/>
                <a:ext cx="735120" cy="168120"/>
                <a:chOff x="6669000" y="3849840"/>
                <a:chExt cx="735120" cy="168120"/>
              </a:xfrm>
            </p:grpSpPr>
            <p:sp>
              <p:nvSpPr>
                <p:cNvPr id="4637" name=""/>
                <p:cNvSpPr/>
                <p:nvPr/>
              </p:nvSpPr>
              <p:spPr>
                <a:xfrm flipH="1">
                  <a:off x="6669000" y="38498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 flipH="1">
                  <a:off x="6669000" y="38498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39" name=""/>
              <p:cNvSpPr/>
              <p:nvPr/>
            </p:nvSpPr>
            <p:spPr>
              <a:xfrm flipH="1">
                <a:off x="6983280" y="3949200"/>
                <a:ext cx="391680" cy="3376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 flipH="1">
                <a:off x="6983280" y="4039200"/>
                <a:ext cx="391680" cy="24732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H="1">
                <a:off x="6985440" y="3949200"/>
                <a:ext cx="389520" cy="2206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42" name=""/>
              <p:cNvGrpSpPr/>
              <p:nvPr/>
            </p:nvGrpSpPr>
            <p:grpSpPr>
              <a:xfrm>
                <a:off x="7156440" y="3981960"/>
                <a:ext cx="191160" cy="81720"/>
                <a:chOff x="7156440" y="3981960"/>
                <a:chExt cx="191160" cy="81720"/>
              </a:xfrm>
            </p:grpSpPr>
            <p:sp>
              <p:nvSpPr>
                <p:cNvPr id="4643" name=""/>
                <p:cNvSpPr/>
                <p:nvPr/>
              </p:nvSpPr>
              <p:spPr>
                <a:xfrm flipH="1">
                  <a:off x="7156080" y="398196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 flipH="1">
                  <a:off x="7156080" y="398196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7230240" y="4069080"/>
                <a:ext cx="119520" cy="122040"/>
                <a:chOff x="7230240" y="4069080"/>
                <a:chExt cx="119520" cy="122040"/>
              </a:xfrm>
            </p:grpSpPr>
            <p:sp>
              <p:nvSpPr>
                <p:cNvPr id="4646" name=""/>
                <p:cNvSpPr/>
                <p:nvPr/>
              </p:nvSpPr>
              <p:spPr>
                <a:xfrm flipH="1">
                  <a:off x="7230240" y="406908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 flipH="1">
                  <a:off x="7230240" y="406908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8" name=""/>
            <p:cNvGrpSpPr/>
            <p:nvPr/>
          </p:nvGrpSpPr>
          <p:grpSpPr>
            <a:xfrm>
              <a:off x="5803560" y="4454640"/>
              <a:ext cx="990360" cy="631440"/>
              <a:chOff x="5803560" y="4454640"/>
              <a:chExt cx="990360" cy="631440"/>
            </a:xfrm>
          </p:grpSpPr>
          <p:grpSp>
            <p:nvGrpSpPr>
              <p:cNvPr id="4649" name=""/>
              <p:cNvGrpSpPr/>
              <p:nvPr/>
            </p:nvGrpSpPr>
            <p:grpSpPr>
              <a:xfrm>
                <a:off x="6167520" y="4535640"/>
                <a:ext cx="624960" cy="550080"/>
                <a:chOff x="6167520" y="4535640"/>
                <a:chExt cx="624960" cy="550080"/>
              </a:xfrm>
            </p:grpSpPr>
            <p:sp>
              <p:nvSpPr>
                <p:cNvPr id="4650" name=""/>
                <p:cNvSpPr/>
                <p:nvPr/>
              </p:nvSpPr>
              <p:spPr>
                <a:xfrm flipH="1">
                  <a:off x="6167520" y="4535640"/>
                  <a:ext cx="624960" cy="550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 flipH="1">
                  <a:off x="6167520" y="4535640"/>
                  <a:ext cx="624960" cy="550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2" name=""/>
              <p:cNvGrpSpPr/>
              <p:nvPr/>
            </p:nvGrpSpPr>
            <p:grpSpPr>
              <a:xfrm>
                <a:off x="5807160" y="4554720"/>
                <a:ext cx="360360" cy="531360"/>
                <a:chOff x="5807160" y="4554720"/>
                <a:chExt cx="360360" cy="531360"/>
              </a:xfrm>
            </p:grpSpPr>
            <p:sp>
              <p:nvSpPr>
                <p:cNvPr id="4653" name=""/>
                <p:cNvSpPr/>
                <p:nvPr/>
              </p:nvSpPr>
              <p:spPr>
                <a:xfrm flipH="1">
                  <a:off x="5806800" y="4554720"/>
                  <a:ext cx="360360" cy="5313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 flipH="1">
                  <a:off x="5806800" y="4554720"/>
                  <a:ext cx="360360" cy="5313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5" name=""/>
              <p:cNvGrpSpPr/>
              <p:nvPr/>
            </p:nvGrpSpPr>
            <p:grpSpPr>
              <a:xfrm>
                <a:off x="5803560" y="4454640"/>
                <a:ext cx="990360" cy="221400"/>
                <a:chOff x="5803560" y="4454640"/>
                <a:chExt cx="990360" cy="221400"/>
              </a:xfrm>
            </p:grpSpPr>
            <p:sp>
              <p:nvSpPr>
                <p:cNvPr id="4656" name=""/>
                <p:cNvSpPr/>
                <p:nvPr/>
              </p:nvSpPr>
              <p:spPr>
                <a:xfrm flipH="1">
                  <a:off x="5803200" y="4454640"/>
                  <a:ext cx="990360" cy="22140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 flipH="1">
                  <a:off x="5803200" y="4454640"/>
                  <a:ext cx="990360" cy="22140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8" name=""/>
              <p:cNvSpPr/>
              <p:nvPr/>
            </p:nvSpPr>
            <p:spPr>
              <a:xfrm flipH="1">
                <a:off x="6226920" y="4585320"/>
                <a:ext cx="527760" cy="44496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 flipH="1">
                <a:off x="6226920" y="4704120"/>
                <a:ext cx="527760" cy="32616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 flipH="1">
                <a:off x="6229800" y="4585320"/>
                <a:ext cx="524880" cy="2908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61" name=""/>
              <p:cNvGrpSpPr/>
              <p:nvPr/>
            </p:nvGrpSpPr>
            <p:grpSpPr>
              <a:xfrm>
                <a:off x="6460200" y="4628880"/>
                <a:ext cx="257760" cy="107640"/>
                <a:chOff x="6460200" y="4628880"/>
                <a:chExt cx="257760" cy="107640"/>
              </a:xfrm>
            </p:grpSpPr>
            <p:sp>
              <p:nvSpPr>
                <p:cNvPr id="4662" name=""/>
                <p:cNvSpPr/>
                <p:nvPr/>
              </p:nvSpPr>
              <p:spPr>
                <a:xfrm flipH="1">
                  <a:off x="6460200" y="462888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 flipH="1">
                  <a:off x="6460200" y="462888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6559560" y="4743720"/>
                <a:ext cx="160920" cy="160560"/>
                <a:chOff x="6559560" y="4743720"/>
                <a:chExt cx="160920" cy="160560"/>
              </a:xfrm>
            </p:grpSpPr>
            <p:sp>
              <p:nvSpPr>
                <p:cNvPr id="4665" name=""/>
                <p:cNvSpPr/>
                <p:nvPr/>
              </p:nvSpPr>
              <p:spPr>
                <a:xfrm flipH="1">
                  <a:off x="6559200" y="4743720"/>
                  <a:ext cx="160920" cy="1605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 flipH="1">
                  <a:off x="6559200" y="4743720"/>
                  <a:ext cx="160920" cy="1605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67" name=""/>
          <p:cNvSpPr/>
          <p:nvPr/>
        </p:nvSpPr>
        <p:spPr>
          <a:xfrm>
            <a:off x="1746000" y="30481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/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710560" cy="7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What to Expec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152280" y="1441440"/>
            <a:ext cx="8763120" cy="495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greedy traffic control (e.g. shaping) always applied immediate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edy traffic control (priority boost) applied after network appro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ess overridden by network administr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 effort until th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cation will be notified upon network approval/den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ial of reservation does not prohibit sending, just means no QoS assur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81960" cy="7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Service Type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1" name="PlaceHolder 2"/>
          <p:cNvSpPr>
            <a:spLocks noGrp="1"/>
          </p:cNvSpPr>
          <p:nvPr>
            <p:ph/>
          </p:nvPr>
        </p:nvSpPr>
        <p:spPr>
          <a:xfrm>
            <a:off x="336240" y="1415520"/>
            <a:ext cx="8480520" cy="500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 effort = DCSP of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ault f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ypically requested by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pri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 borrows from other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led load = DCSP of 5 or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s service equivalent to lightly load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pri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aranteed service  = DCSP of 5 or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aranteed delay bou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ri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819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SVP Token Bucket Paramet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4520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bucket specification (TSpec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ken ra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tes of IP datagrams per second (1 bytes per second to 40 terabytes per second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cket dept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tes (1 byte to 250 gigabyte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ak traffic ra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tes of IP datagrams per second (1 byte per second to 40 terabytes per second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policed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t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ximum packet si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t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 specification (RSpec) – for guaranteed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quired service ra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eater than or equal to token ra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ack ter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fference between desired delay and the delay obtained using the required service ra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5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QoS for Qualitative Application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0284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qualitative QoS, traffic is marked for high priority without negotiating with the network = DCSP of 5 or 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a-priori knowledge of traffic rou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knowledge of traffic volu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, use IEEE 802.1p mar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/>
          </p:nvPr>
        </p:nvSpPr>
        <p:spPr>
          <a:xfrm>
            <a:off x="380520" y="934560"/>
            <a:ext cx="8502840" cy="546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work management applications call TC API = DCSP of 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e priority, shaping on behalf of ap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sification according to port, address,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loop - must be based on estimates of traffic patterns, statistics, and heuris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, use average rate, peak rate, and burst si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"/>
          <p:cNvSpPr/>
          <p:nvPr/>
        </p:nvSpPr>
        <p:spPr>
          <a:xfrm>
            <a:off x="2251080" y="2336760"/>
            <a:ext cx="2835360" cy="1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8" name=""/>
          <p:cNvGrpSpPr/>
          <p:nvPr/>
        </p:nvGrpSpPr>
        <p:grpSpPr>
          <a:xfrm>
            <a:off x="3733920" y="3048120"/>
            <a:ext cx="1294920" cy="2590560"/>
            <a:chOff x="3733920" y="3048120"/>
            <a:chExt cx="1294920" cy="2590560"/>
          </a:xfrm>
        </p:grpSpPr>
        <p:sp>
          <p:nvSpPr>
            <p:cNvPr id="4679" name=""/>
            <p:cNvSpPr/>
            <p:nvPr/>
          </p:nvSpPr>
          <p:spPr>
            <a:xfrm>
              <a:off x="4303440" y="3507840"/>
              <a:ext cx="7254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3733920" y="3048120"/>
              <a:ext cx="0" cy="25905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1" name=""/>
          <p:cNvGrpSpPr/>
          <p:nvPr/>
        </p:nvGrpSpPr>
        <p:grpSpPr>
          <a:xfrm>
            <a:off x="3657600" y="1463760"/>
            <a:ext cx="3908520" cy="1058760"/>
            <a:chOff x="3657600" y="1463760"/>
            <a:chExt cx="3908520" cy="1058760"/>
          </a:xfrm>
        </p:grpSpPr>
        <p:sp>
          <p:nvSpPr>
            <p:cNvPr id="4682" name=""/>
            <p:cNvSpPr/>
            <p:nvPr/>
          </p:nvSpPr>
          <p:spPr>
            <a:xfrm>
              <a:off x="5383080" y="1463760"/>
              <a:ext cx="2183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3657600" y="1860480"/>
              <a:ext cx="0" cy="662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4" name=""/>
          <p:cNvSpPr/>
          <p:nvPr/>
        </p:nvSpPr>
        <p:spPr>
          <a:xfrm>
            <a:off x="2590920" y="3581280"/>
            <a:ext cx="2044440" cy="7621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2590920" y="5638680"/>
            <a:ext cx="204444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699120" y="196524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Sock2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2646360" y="136836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228600" y="3505320"/>
            <a:ext cx="2835360" cy="14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9" name=""/>
          <p:cNvGrpSpPr/>
          <p:nvPr/>
        </p:nvGrpSpPr>
        <p:grpSpPr>
          <a:xfrm>
            <a:off x="2590920" y="2438280"/>
            <a:ext cx="4952520" cy="990720"/>
            <a:chOff x="2590920" y="2438280"/>
            <a:chExt cx="4952520" cy="990720"/>
          </a:xfrm>
        </p:grpSpPr>
        <p:sp>
          <p:nvSpPr>
            <p:cNvPr id="4690" name=""/>
            <p:cNvSpPr/>
            <p:nvPr/>
          </p:nvSpPr>
          <p:spPr>
            <a:xfrm>
              <a:off x="5056200" y="2438280"/>
              <a:ext cx="2487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2590920" y="3047760"/>
              <a:ext cx="0" cy="381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2" name=""/>
          <p:cNvSpPr/>
          <p:nvPr/>
        </p:nvSpPr>
        <p:spPr>
          <a:xfrm>
            <a:off x="2666880" y="251460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 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-1440" y="312408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ffic Control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2362320" y="4495680"/>
            <a:ext cx="2666880" cy="685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chedu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457200" y="5334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 S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2209680" y="5486400"/>
            <a:ext cx="1067040" cy="76320"/>
          </a:xfrm>
          <a:prstGeom prst="rightArrow">
            <a:avLst>
              <a:gd name="adj1" fmla="val 50000"/>
              <a:gd name="adj2" fmla="val 349528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838080" y="43434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52280" y="4114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D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9" name=""/>
          <p:cNvGrpSpPr/>
          <p:nvPr/>
        </p:nvGrpSpPr>
        <p:grpSpPr>
          <a:xfrm>
            <a:off x="7315200" y="1467000"/>
            <a:ext cx="1066320" cy="2037600"/>
            <a:chOff x="7315200" y="1467000"/>
            <a:chExt cx="1066320" cy="2037600"/>
          </a:xfrm>
        </p:grpSpPr>
        <p:sp>
          <p:nvSpPr>
            <p:cNvPr id="4700" name=""/>
            <p:cNvSpPr/>
            <p:nvPr/>
          </p:nvSpPr>
          <p:spPr>
            <a:xfrm>
              <a:off x="7786440" y="1467000"/>
              <a:ext cx="59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315200" y="2230560"/>
              <a:ext cx="0" cy="127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2" name=""/>
          <p:cNvSpPr/>
          <p:nvPr/>
        </p:nvSpPr>
        <p:spPr>
          <a:xfrm>
            <a:off x="6248520" y="3581280"/>
            <a:ext cx="2044440" cy="7621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6269040" y="564192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6324480" y="137160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5" name=""/>
          <p:cNvGrpSpPr/>
          <p:nvPr/>
        </p:nvGrpSpPr>
        <p:grpSpPr>
          <a:xfrm>
            <a:off x="7315200" y="4343400"/>
            <a:ext cx="1294920" cy="1295280"/>
            <a:chOff x="7315200" y="4343400"/>
            <a:chExt cx="1294920" cy="1295280"/>
          </a:xfrm>
        </p:grpSpPr>
        <p:sp>
          <p:nvSpPr>
            <p:cNvPr id="4706" name=""/>
            <p:cNvSpPr/>
            <p:nvPr/>
          </p:nvSpPr>
          <p:spPr>
            <a:xfrm>
              <a:off x="7884720" y="4573080"/>
              <a:ext cx="72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315200" y="4343400"/>
              <a:ext cx="0" cy="1295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8" name=""/>
          <p:cNvSpPr/>
          <p:nvPr/>
        </p:nvSpPr>
        <p:spPr>
          <a:xfrm>
            <a:off x="304920" y="236232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ckets tagged with DSCP by RSV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2057400" y="2438280"/>
            <a:ext cx="1143000" cy="76320"/>
          </a:xfrm>
          <a:prstGeom prst="rightArrow">
            <a:avLst>
              <a:gd name="adj1" fmla="val 50000"/>
              <a:gd name="adj2" fmla="val 37441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5105520" y="198108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ckets tagged with DSCP by Application can be 802.1p or 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6553080" y="2209680"/>
            <a:ext cx="609840" cy="76320"/>
          </a:xfrm>
          <a:prstGeom prst="rightArrow">
            <a:avLst>
              <a:gd name="adj1" fmla="val 50000"/>
              <a:gd name="adj2" fmla="val 199764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1219320" y="685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SVP Signaled Quantitative and Qualitative: Guaranteed or Controlled Load or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019920" y="6858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-RSVP Signaled Qualitative: 802.1p or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34240" cy="7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Signaling Scenario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02840" cy="498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e the type of service they n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ify resources at that servic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work devices along the rou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req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for resource availa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apply policy che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install state to recognize flow (RSV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ve/deny req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 resource availability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70680" y="2440080"/>
            <a:ext cx="19836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605480" y="3809880"/>
            <a:ext cx="1440" cy="59868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86080" y="2438280"/>
            <a:ext cx="152280" cy="14479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23960" y="2437920"/>
            <a:ext cx="762120" cy="7621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685880" y="4343040"/>
            <a:ext cx="1555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38160" y="3429000"/>
            <a:ext cx="38448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448000" y="4038120"/>
            <a:ext cx="15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52360" y="3809520"/>
            <a:ext cx="38448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09560" y="3352320"/>
            <a:ext cx="30816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374920" y="4419360"/>
            <a:ext cx="22536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09200" y="205740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 rot="20268600">
            <a:off x="5191200" y="413388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990880" y="343980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117080" y="187308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47440" y="2305080"/>
            <a:ext cx="415800" cy="18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98120" y="261468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762200" y="274320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82680" y="268560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381400" y="2771280"/>
            <a:ext cx="12672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838160" y="3049560"/>
            <a:ext cx="735120" cy="479520"/>
            <a:chOff x="1838160" y="3049560"/>
            <a:chExt cx="735120" cy="479520"/>
          </a:xfrm>
        </p:grpSpPr>
        <p:grpSp>
          <p:nvGrpSpPr>
            <p:cNvPr id="69" name=""/>
            <p:cNvGrpSpPr/>
            <p:nvPr/>
          </p:nvGrpSpPr>
          <p:grpSpPr>
            <a:xfrm>
              <a:off x="1839240" y="3111120"/>
              <a:ext cx="464040" cy="417960"/>
              <a:chOff x="1839240" y="3111120"/>
              <a:chExt cx="464040" cy="417960"/>
            </a:xfrm>
          </p:grpSpPr>
          <p:sp>
            <p:nvSpPr>
              <p:cNvPr id="70" name=""/>
              <p:cNvSpPr/>
              <p:nvPr/>
            </p:nvSpPr>
            <p:spPr>
              <a:xfrm>
                <a:off x="1839240" y="311112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39240" y="311112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303280" y="3125520"/>
              <a:ext cx="267480" cy="403560"/>
              <a:chOff x="2303280" y="3125520"/>
              <a:chExt cx="267480" cy="403560"/>
            </a:xfrm>
          </p:grpSpPr>
          <p:sp>
            <p:nvSpPr>
              <p:cNvPr id="73" name=""/>
              <p:cNvSpPr/>
              <p:nvPr/>
            </p:nvSpPr>
            <p:spPr>
              <a:xfrm>
                <a:off x="2303280" y="312552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03280" y="312552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838160" y="3049560"/>
              <a:ext cx="735120" cy="168120"/>
              <a:chOff x="1838160" y="3049560"/>
              <a:chExt cx="735120" cy="168120"/>
            </a:xfrm>
          </p:grpSpPr>
          <p:sp>
            <p:nvSpPr>
              <p:cNvPr id="76" name=""/>
              <p:cNvSpPr/>
              <p:nvPr/>
            </p:nvSpPr>
            <p:spPr>
              <a:xfrm>
                <a:off x="1838160" y="304956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38160" y="304956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867320" y="314892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67320" y="323928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67320" y="314892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894680" y="3182040"/>
              <a:ext cx="191160" cy="81720"/>
              <a:chOff x="1894680" y="3182040"/>
              <a:chExt cx="191160" cy="81720"/>
            </a:xfrm>
          </p:grpSpPr>
          <p:sp>
            <p:nvSpPr>
              <p:cNvPr id="82" name=""/>
              <p:cNvSpPr/>
              <p:nvPr/>
            </p:nvSpPr>
            <p:spPr>
              <a:xfrm>
                <a:off x="1894680" y="318204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94680" y="318204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892520" y="3269160"/>
              <a:ext cx="119520" cy="122040"/>
              <a:chOff x="1892520" y="3269160"/>
              <a:chExt cx="119520" cy="122040"/>
            </a:xfrm>
          </p:grpSpPr>
          <p:sp>
            <p:nvSpPr>
              <p:cNvPr id="85" name=""/>
              <p:cNvSpPr/>
              <p:nvPr/>
            </p:nvSpPr>
            <p:spPr>
              <a:xfrm>
                <a:off x="1892520" y="326916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892520" y="326916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444600" y="2598840"/>
            <a:ext cx="512640" cy="546120"/>
            <a:chOff x="444600" y="2598840"/>
            <a:chExt cx="512640" cy="546120"/>
          </a:xfrm>
        </p:grpSpPr>
        <p:grpSp>
          <p:nvGrpSpPr>
            <p:cNvPr id="88" name=""/>
            <p:cNvGrpSpPr/>
            <p:nvPr/>
          </p:nvGrpSpPr>
          <p:grpSpPr>
            <a:xfrm>
              <a:off x="444600" y="2951280"/>
              <a:ext cx="176040" cy="193680"/>
              <a:chOff x="444600" y="2951280"/>
              <a:chExt cx="176040" cy="193680"/>
            </a:xfrm>
          </p:grpSpPr>
          <p:sp>
            <p:nvSpPr>
              <p:cNvPr id="89" name=""/>
              <p:cNvSpPr/>
              <p:nvPr/>
            </p:nvSpPr>
            <p:spPr>
              <a:xfrm>
                <a:off x="444600" y="295128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4600" y="295128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44600" y="2879640"/>
              <a:ext cx="512640" cy="176400"/>
              <a:chOff x="444600" y="2879640"/>
              <a:chExt cx="512640" cy="176400"/>
            </a:xfrm>
          </p:grpSpPr>
          <p:sp>
            <p:nvSpPr>
              <p:cNvPr id="92" name=""/>
              <p:cNvSpPr/>
              <p:nvPr/>
            </p:nvSpPr>
            <p:spPr>
              <a:xfrm>
                <a:off x="444600" y="287964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44600" y="287964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20640" y="2967840"/>
              <a:ext cx="336600" cy="176760"/>
              <a:chOff x="620640" y="2967840"/>
              <a:chExt cx="336600" cy="176760"/>
            </a:xfrm>
          </p:grpSpPr>
          <p:sp>
            <p:nvSpPr>
              <p:cNvPr id="95" name=""/>
              <p:cNvSpPr/>
              <p:nvPr/>
            </p:nvSpPr>
            <p:spPr>
              <a:xfrm>
                <a:off x="620640" y="296784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640" y="296784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36480" y="305136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809280" y="2988720"/>
              <a:ext cx="131760" cy="89640"/>
              <a:chOff x="809280" y="2988720"/>
              <a:chExt cx="131760" cy="896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809280" y="2988720"/>
                <a:ext cx="131760" cy="89640"/>
                <a:chOff x="809280" y="2988720"/>
                <a:chExt cx="131760" cy="896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09280" y="2988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9280" y="2988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 flipH="1">
                <a:off x="809280" y="301968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5720" y="303588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55720" y="300960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65120" y="2598840"/>
              <a:ext cx="308520" cy="301680"/>
              <a:chOff x="465120" y="2598840"/>
              <a:chExt cx="308520" cy="301680"/>
            </a:xfrm>
          </p:grpSpPr>
          <p:sp>
            <p:nvSpPr>
              <p:cNvPr id="106" name=""/>
              <p:cNvSpPr/>
              <p:nvPr/>
            </p:nvSpPr>
            <p:spPr>
              <a:xfrm>
                <a:off x="465120" y="259884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5120" y="259884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0920" y="2677680"/>
              <a:ext cx="100440" cy="331200"/>
              <a:chOff x="520920" y="2677680"/>
              <a:chExt cx="100440" cy="331200"/>
            </a:xfrm>
          </p:grpSpPr>
          <p:sp>
            <p:nvSpPr>
              <p:cNvPr id="109" name=""/>
              <p:cNvSpPr/>
              <p:nvPr/>
            </p:nvSpPr>
            <p:spPr>
              <a:xfrm>
                <a:off x="520920" y="267768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0920" y="267768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20920" y="2609640"/>
              <a:ext cx="417240" cy="122400"/>
              <a:chOff x="520920" y="2609640"/>
              <a:chExt cx="417240" cy="122400"/>
            </a:xfrm>
          </p:grpSpPr>
          <p:sp>
            <p:nvSpPr>
              <p:cNvPr id="112" name=""/>
              <p:cNvSpPr/>
              <p:nvPr/>
            </p:nvSpPr>
            <p:spPr>
              <a:xfrm>
                <a:off x="520920" y="260964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0920" y="260964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55560" y="2944080"/>
              <a:ext cx="220320" cy="66960"/>
              <a:chOff x="655560" y="2944080"/>
              <a:chExt cx="220320" cy="66960"/>
            </a:xfrm>
          </p:grpSpPr>
          <p:sp>
            <p:nvSpPr>
              <p:cNvPr id="115" name=""/>
              <p:cNvSpPr/>
              <p:nvPr/>
            </p:nvSpPr>
            <p:spPr>
              <a:xfrm>
                <a:off x="655560" y="294408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560" y="294408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21360" y="2656440"/>
              <a:ext cx="316440" cy="353160"/>
              <a:chOff x="621360" y="2656440"/>
              <a:chExt cx="316440" cy="35316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60" y="265644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1360" y="265644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67440" y="2696400"/>
              <a:ext cx="230760" cy="257400"/>
              <a:chOff x="667440" y="2696400"/>
              <a:chExt cx="230760" cy="257400"/>
            </a:xfrm>
          </p:grpSpPr>
          <p:sp>
            <p:nvSpPr>
              <p:cNvPr id="121" name=""/>
              <p:cNvSpPr/>
              <p:nvPr/>
            </p:nvSpPr>
            <p:spPr>
              <a:xfrm>
                <a:off x="667440" y="269640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7440" y="269640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76440" y="271404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440" y="271404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9840" y="277092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2520" y="275220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0600" y="1924200"/>
            <a:ext cx="512640" cy="546120"/>
            <a:chOff x="390600" y="1924200"/>
            <a:chExt cx="512640" cy="546120"/>
          </a:xfrm>
        </p:grpSpPr>
        <p:grpSp>
          <p:nvGrpSpPr>
            <p:cNvPr id="128" name=""/>
            <p:cNvGrpSpPr/>
            <p:nvPr/>
          </p:nvGrpSpPr>
          <p:grpSpPr>
            <a:xfrm>
              <a:off x="390600" y="2276640"/>
              <a:ext cx="176040" cy="193680"/>
              <a:chOff x="390600" y="2276640"/>
              <a:chExt cx="176040" cy="193680"/>
            </a:xfrm>
          </p:grpSpPr>
          <p:sp>
            <p:nvSpPr>
              <p:cNvPr id="129" name=""/>
              <p:cNvSpPr/>
              <p:nvPr/>
            </p:nvSpPr>
            <p:spPr>
              <a:xfrm>
                <a:off x="390600" y="227664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0600" y="227664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90600" y="2205000"/>
              <a:ext cx="512640" cy="176400"/>
              <a:chOff x="390600" y="2205000"/>
              <a:chExt cx="512640" cy="176400"/>
            </a:xfrm>
          </p:grpSpPr>
          <p:sp>
            <p:nvSpPr>
              <p:cNvPr id="132" name=""/>
              <p:cNvSpPr/>
              <p:nvPr/>
            </p:nvSpPr>
            <p:spPr>
              <a:xfrm>
                <a:off x="390600" y="220500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0600" y="220500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66640" y="2293200"/>
              <a:ext cx="336600" cy="176760"/>
              <a:chOff x="566640" y="2293200"/>
              <a:chExt cx="336600" cy="176760"/>
            </a:xfrm>
          </p:grpSpPr>
          <p:sp>
            <p:nvSpPr>
              <p:cNvPr id="135" name=""/>
              <p:cNvSpPr/>
              <p:nvPr/>
            </p:nvSpPr>
            <p:spPr>
              <a:xfrm>
                <a:off x="566640" y="229320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6640" y="229320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82480" y="237672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55280" y="2314080"/>
              <a:ext cx="131760" cy="89640"/>
              <a:chOff x="755280" y="2314080"/>
              <a:chExt cx="131760" cy="896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755280" y="2314080"/>
                <a:ext cx="131760" cy="89640"/>
                <a:chOff x="755280" y="2314080"/>
                <a:chExt cx="131760" cy="89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55280" y="231408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5280" y="231408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 flipH="1">
                <a:off x="755280" y="234504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1720" y="236124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1720" y="233496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11120" y="1924200"/>
              <a:ext cx="308520" cy="301680"/>
              <a:chOff x="411120" y="1924200"/>
              <a:chExt cx="308520" cy="301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11120" y="192420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1120" y="192420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6920" y="2003040"/>
              <a:ext cx="100440" cy="331200"/>
              <a:chOff x="466920" y="2003040"/>
              <a:chExt cx="100440" cy="331200"/>
            </a:xfrm>
          </p:grpSpPr>
          <p:sp>
            <p:nvSpPr>
              <p:cNvPr id="149" name=""/>
              <p:cNvSpPr/>
              <p:nvPr/>
            </p:nvSpPr>
            <p:spPr>
              <a:xfrm>
                <a:off x="466920" y="200304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6920" y="200304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66920" y="1935000"/>
              <a:ext cx="417240" cy="122400"/>
              <a:chOff x="466920" y="1935000"/>
              <a:chExt cx="417240" cy="122400"/>
            </a:xfrm>
          </p:grpSpPr>
          <p:sp>
            <p:nvSpPr>
              <p:cNvPr id="152" name=""/>
              <p:cNvSpPr/>
              <p:nvPr/>
            </p:nvSpPr>
            <p:spPr>
              <a:xfrm>
                <a:off x="466920" y="193500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6920" y="193500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01560" y="2269440"/>
              <a:ext cx="220320" cy="66960"/>
              <a:chOff x="601560" y="2269440"/>
              <a:chExt cx="220320" cy="66960"/>
            </a:xfrm>
          </p:grpSpPr>
          <p:sp>
            <p:nvSpPr>
              <p:cNvPr id="155" name=""/>
              <p:cNvSpPr/>
              <p:nvPr/>
            </p:nvSpPr>
            <p:spPr>
              <a:xfrm>
                <a:off x="601560" y="226944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560" y="226944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567360" y="1981800"/>
              <a:ext cx="316440" cy="353160"/>
              <a:chOff x="567360" y="1981800"/>
              <a:chExt cx="316440" cy="35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567360" y="198180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7360" y="198180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13440" y="2021760"/>
              <a:ext cx="230760" cy="257400"/>
              <a:chOff x="613440" y="2021760"/>
              <a:chExt cx="230760" cy="257400"/>
            </a:xfrm>
          </p:grpSpPr>
          <p:sp>
            <p:nvSpPr>
              <p:cNvPr id="161" name=""/>
              <p:cNvSpPr/>
              <p:nvPr/>
            </p:nvSpPr>
            <p:spPr>
              <a:xfrm>
                <a:off x="613440" y="202176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3440" y="202176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22440" y="203940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2440" y="203940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840" y="20962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8520" y="207756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15840" y="1569960"/>
            <a:ext cx="511200" cy="546120"/>
            <a:chOff x="915840" y="1569960"/>
            <a:chExt cx="511200" cy="546120"/>
          </a:xfrm>
        </p:grpSpPr>
        <p:grpSp>
          <p:nvGrpSpPr>
            <p:cNvPr id="168" name=""/>
            <p:cNvGrpSpPr/>
            <p:nvPr/>
          </p:nvGrpSpPr>
          <p:grpSpPr>
            <a:xfrm>
              <a:off x="915840" y="1922400"/>
              <a:ext cx="175320" cy="193680"/>
              <a:chOff x="915840" y="1922400"/>
              <a:chExt cx="175320" cy="193680"/>
            </a:xfrm>
          </p:grpSpPr>
          <p:sp>
            <p:nvSpPr>
              <p:cNvPr id="169" name=""/>
              <p:cNvSpPr/>
              <p:nvPr/>
            </p:nvSpPr>
            <p:spPr>
              <a:xfrm>
                <a:off x="915840" y="192240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15840" y="192240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915840" y="1850760"/>
              <a:ext cx="511200" cy="176400"/>
              <a:chOff x="915840" y="1850760"/>
              <a:chExt cx="511200" cy="176400"/>
            </a:xfrm>
          </p:grpSpPr>
          <p:sp>
            <p:nvSpPr>
              <p:cNvPr id="172" name=""/>
              <p:cNvSpPr/>
              <p:nvPr/>
            </p:nvSpPr>
            <p:spPr>
              <a:xfrm>
                <a:off x="915840" y="185076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915840" y="185076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091160" y="1938960"/>
              <a:ext cx="335520" cy="176760"/>
              <a:chOff x="1091160" y="1938960"/>
              <a:chExt cx="335520" cy="176760"/>
            </a:xfrm>
          </p:grpSpPr>
          <p:sp>
            <p:nvSpPr>
              <p:cNvPr id="175" name=""/>
              <p:cNvSpPr/>
              <p:nvPr/>
            </p:nvSpPr>
            <p:spPr>
              <a:xfrm>
                <a:off x="1091160" y="193896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91160" y="193896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107000" y="202248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279080" y="1959840"/>
              <a:ext cx="131760" cy="89640"/>
              <a:chOff x="1279080" y="1959840"/>
              <a:chExt cx="131760" cy="8964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1279440" y="1959840"/>
                <a:ext cx="131400" cy="89640"/>
                <a:chOff x="1279440" y="1959840"/>
                <a:chExt cx="131400" cy="896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279440" y="195984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279440" y="195984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H="1">
                <a:off x="1279080" y="199080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25520" y="200700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25520" y="198072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936360" y="1569960"/>
              <a:ext cx="307800" cy="301680"/>
              <a:chOff x="936360" y="1569960"/>
              <a:chExt cx="307800" cy="301680"/>
            </a:xfrm>
          </p:grpSpPr>
          <p:sp>
            <p:nvSpPr>
              <p:cNvPr id="186" name=""/>
              <p:cNvSpPr/>
              <p:nvPr/>
            </p:nvSpPr>
            <p:spPr>
              <a:xfrm>
                <a:off x="936360" y="156996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36360" y="156996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91800" y="1648800"/>
              <a:ext cx="100080" cy="331200"/>
              <a:chOff x="991800" y="1648800"/>
              <a:chExt cx="100080" cy="331200"/>
            </a:xfrm>
          </p:grpSpPr>
          <p:sp>
            <p:nvSpPr>
              <p:cNvPr id="189" name=""/>
              <p:cNvSpPr/>
              <p:nvPr/>
            </p:nvSpPr>
            <p:spPr>
              <a:xfrm>
                <a:off x="991800" y="164880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91800" y="164880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991800" y="1580760"/>
              <a:ext cx="416160" cy="122400"/>
              <a:chOff x="991800" y="1580760"/>
              <a:chExt cx="416160" cy="122400"/>
            </a:xfrm>
          </p:grpSpPr>
          <p:sp>
            <p:nvSpPr>
              <p:cNvPr id="192" name=""/>
              <p:cNvSpPr/>
              <p:nvPr/>
            </p:nvSpPr>
            <p:spPr>
              <a:xfrm>
                <a:off x="991800" y="158076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91800" y="158076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126080" y="1915200"/>
              <a:ext cx="219600" cy="66960"/>
              <a:chOff x="1126080" y="1915200"/>
              <a:chExt cx="219600" cy="66960"/>
            </a:xfrm>
          </p:grpSpPr>
          <p:sp>
            <p:nvSpPr>
              <p:cNvPr id="195" name=""/>
              <p:cNvSpPr/>
              <p:nvPr/>
            </p:nvSpPr>
            <p:spPr>
              <a:xfrm>
                <a:off x="1126080" y="191520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26080" y="191520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092240" y="1627560"/>
              <a:ext cx="315720" cy="353160"/>
              <a:chOff x="1092240" y="1627560"/>
              <a:chExt cx="315720" cy="353160"/>
            </a:xfrm>
          </p:grpSpPr>
          <p:sp>
            <p:nvSpPr>
              <p:cNvPr id="198" name=""/>
              <p:cNvSpPr/>
              <p:nvPr/>
            </p:nvSpPr>
            <p:spPr>
              <a:xfrm>
                <a:off x="1092240" y="162756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92240" y="162756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137960" y="1667520"/>
              <a:ext cx="230040" cy="257400"/>
              <a:chOff x="1137960" y="1667520"/>
              <a:chExt cx="230040" cy="257400"/>
            </a:xfrm>
          </p:grpSpPr>
          <p:sp>
            <p:nvSpPr>
              <p:cNvPr id="201" name=""/>
              <p:cNvSpPr/>
              <p:nvPr/>
            </p:nvSpPr>
            <p:spPr>
              <a:xfrm>
                <a:off x="1137960" y="166752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37960" y="166752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146960" y="168516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6960" y="168516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70360" y="174204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93040" y="172332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H="1" flipV="1">
            <a:off x="2430360" y="344916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55880" y="333828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8680" y="2381400"/>
            <a:ext cx="533520" cy="380880"/>
            <a:chOff x="1228680" y="2381400"/>
            <a:chExt cx="533520" cy="380880"/>
          </a:xfrm>
        </p:grpSpPr>
        <p:sp>
          <p:nvSpPr>
            <p:cNvPr id="210" name=""/>
            <p:cNvSpPr/>
            <p:nvPr/>
          </p:nvSpPr>
          <p:spPr>
            <a:xfrm>
              <a:off x="1228680" y="238140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299240" y="2455200"/>
              <a:ext cx="399240" cy="247680"/>
              <a:chOff x="1299240" y="2455200"/>
              <a:chExt cx="399240" cy="247680"/>
            </a:xfrm>
          </p:grpSpPr>
          <p:sp>
            <p:nvSpPr>
              <p:cNvPr id="212" name=""/>
              <p:cNvSpPr/>
              <p:nvPr/>
            </p:nvSpPr>
            <p:spPr>
              <a:xfrm>
                <a:off x="1361520" y="245520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353960" y="245520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23600" y="245916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32600" y="270072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08960" y="245916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9240" y="270072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 flipV="1" rot="1331400">
            <a:off x="3030480" y="423468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591000" y="4286160"/>
            <a:ext cx="2021760" cy="1428480"/>
            <a:chOff x="3591000" y="4286160"/>
            <a:chExt cx="2021760" cy="1428480"/>
          </a:xfrm>
        </p:grpSpPr>
        <p:grpSp>
          <p:nvGrpSpPr>
            <p:cNvPr id="220" name=""/>
            <p:cNvGrpSpPr/>
            <p:nvPr/>
          </p:nvGrpSpPr>
          <p:grpSpPr>
            <a:xfrm>
              <a:off x="3591000" y="4286160"/>
              <a:ext cx="2021760" cy="1428480"/>
              <a:chOff x="3591000" y="4286160"/>
              <a:chExt cx="2021760" cy="14284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4784040" y="4413960"/>
                <a:ext cx="828720" cy="1229040"/>
                <a:chOff x="4784040" y="4413960"/>
                <a:chExt cx="828720" cy="122904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5108400" y="4413960"/>
                  <a:ext cx="504360" cy="988200"/>
                  <a:chOff x="5108400" y="4413960"/>
                  <a:chExt cx="504360" cy="988200"/>
                </a:xfrm>
              </p:grpSpPr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5245560" y="4551480"/>
                    <a:ext cx="367200" cy="712800"/>
                    <a:chOff x="5245560" y="4551480"/>
                    <a:chExt cx="367200" cy="712800"/>
                  </a:xfrm>
                </p:grpSpPr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5245560" y="4551480"/>
                      <a:ext cx="367200" cy="712800"/>
                      <a:chOff x="5245560" y="4551480"/>
                      <a:chExt cx="367200" cy="71280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5342760" y="4597200"/>
                        <a:ext cx="270000" cy="579600"/>
                        <a:chOff x="5342760" y="4597200"/>
                        <a:chExt cx="270000" cy="579600"/>
                      </a:xfrm>
                    </p:grpSpPr>
                    <p:grpSp>
                      <p:nvGrpSpPr>
                        <p:cNvPr id="226" name=""/>
                        <p:cNvGrpSpPr/>
                        <p:nvPr/>
                      </p:nvGrpSpPr>
                      <p:grpSpPr>
                        <a:xfrm>
                          <a:off x="5375880" y="4597200"/>
                          <a:ext cx="236880" cy="579600"/>
                          <a:chOff x="5375880" y="4597200"/>
                          <a:chExt cx="236880" cy="579600"/>
                        </a:xfrm>
                      </p:grpSpPr>
                      <p:sp>
                        <p:nvSpPr>
                          <p:cNvPr id="227" name=""/>
                          <p:cNvSpPr/>
                          <p:nvPr/>
                        </p:nvSpPr>
                        <p:spPr>
                          <a:xfrm>
                            <a:off x="5509440" y="494928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8" name=""/>
                          <p:cNvSpPr/>
                          <p:nvPr/>
                        </p:nvSpPr>
                        <p:spPr>
                          <a:xfrm>
                            <a:off x="5405760" y="499392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" name=""/>
                          <p:cNvSpPr/>
                          <p:nvPr/>
                        </p:nvSpPr>
                        <p:spPr>
                          <a:xfrm>
                            <a:off x="5474880" y="472680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0" name=""/>
                          <p:cNvSpPr/>
                          <p:nvPr/>
                        </p:nvSpPr>
                        <p:spPr>
                          <a:xfrm>
                            <a:off x="5375880" y="459720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1" name=""/>
                          <p:cNvSpPr/>
                          <p:nvPr/>
                        </p:nvSpPr>
                        <p:spPr>
                          <a:xfrm>
                            <a:off x="5474880" y="472680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5342760" y="477216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5342760" y="494928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5386680" y="469332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5342760" y="512676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5245560" y="455148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5377320" y="509040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366880" y="464904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108400" y="4413960"/>
                    <a:ext cx="338400" cy="894600"/>
                    <a:chOff x="5108400" y="4413960"/>
                    <a:chExt cx="338400" cy="89460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140080" y="495000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5174640" y="468252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108400" y="441396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245200" y="459720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174640" y="455796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267520" y="502452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5108400" y="5217480"/>
                    <a:ext cx="14148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209200" y="5193720"/>
                    <a:ext cx="7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4784040" y="541548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944600" y="54154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036040" y="534564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00320" y="530928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591000" y="4428360"/>
                <a:ext cx="487800" cy="836640"/>
                <a:chOff x="3591000" y="4428360"/>
                <a:chExt cx="487800" cy="8366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3591000" y="4551480"/>
                  <a:ext cx="254520" cy="494640"/>
                  <a:chOff x="3591000" y="4551480"/>
                  <a:chExt cx="254520" cy="4946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3591000" y="472716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609720" y="4864320"/>
                    <a:ext cx="136440" cy="181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644280" y="4551480"/>
                    <a:ext cx="201240" cy="2736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625560" y="474912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3675960" y="4428360"/>
                  <a:ext cx="402840" cy="836640"/>
                  <a:chOff x="3675960" y="4428360"/>
                  <a:chExt cx="402840" cy="8366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3812760" y="445824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675960" y="472752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709080" y="486468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778200" y="499464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795480" y="464472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957480" y="442836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855240" y="459612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719880" y="482076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3948480" y="451692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841560" y="4286160"/>
                <a:ext cx="1471680" cy="1428480"/>
                <a:chOff x="3841560" y="4286160"/>
                <a:chExt cx="1471680" cy="1428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309560" y="432864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607280" y="428616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73320" y="468324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011480" y="4950360"/>
                  <a:ext cx="49932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744440" y="504108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77560" y="508680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41560" y="477324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973680" y="4413960"/>
                  <a:ext cx="44280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377240" y="512784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44600" y="445860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842000" y="428616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59640" y="4396680"/>
                  <a:ext cx="1279080" cy="113256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" name=""/>
            <p:cNvGrpSpPr/>
            <p:nvPr/>
          </p:nvGrpSpPr>
          <p:grpSpPr>
            <a:xfrm>
              <a:off x="3909240" y="4474440"/>
              <a:ext cx="1265400" cy="865080"/>
              <a:chOff x="3909240" y="4474440"/>
              <a:chExt cx="1265400" cy="865080"/>
            </a:xfrm>
          </p:grpSpPr>
          <p:sp>
            <p:nvSpPr>
              <p:cNvPr id="282" name=""/>
              <p:cNvSpPr/>
              <p:nvPr/>
            </p:nvSpPr>
            <p:spPr>
              <a:xfrm>
                <a:off x="3909240" y="4474440"/>
                <a:ext cx="1265400" cy="537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09240" y="4803120"/>
                <a:ext cx="1233360" cy="536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5038560" y="4514760"/>
            <a:ext cx="511200" cy="330120"/>
            <a:chOff x="5038560" y="4514760"/>
            <a:chExt cx="511200" cy="330120"/>
          </a:xfrm>
        </p:grpSpPr>
        <p:grpSp>
          <p:nvGrpSpPr>
            <p:cNvPr id="285" name=""/>
            <p:cNvGrpSpPr/>
            <p:nvPr/>
          </p:nvGrpSpPr>
          <p:grpSpPr>
            <a:xfrm>
              <a:off x="5039280" y="4557240"/>
              <a:ext cx="322560" cy="287640"/>
              <a:chOff x="5039280" y="4557240"/>
              <a:chExt cx="322560" cy="287640"/>
            </a:xfrm>
          </p:grpSpPr>
          <p:sp>
            <p:nvSpPr>
              <p:cNvPr id="286" name=""/>
              <p:cNvSpPr/>
              <p:nvPr/>
            </p:nvSpPr>
            <p:spPr>
              <a:xfrm>
                <a:off x="5039280" y="455724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39280" y="455724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361840" y="4566960"/>
              <a:ext cx="186120" cy="277920"/>
              <a:chOff x="5361840" y="4566960"/>
              <a:chExt cx="186120" cy="277920"/>
            </a:xfrm>
          </p:grpSpPr>
          <p:sp>
            <p:nvSpPr>
              <p:cNvPr id="289" name=""/>
              <p:cNvSpPr/>
              <p:nvPr/>
            </p:nvSpPr>
            <p:spPr>
              <a:xfrm>
                <a:off x="5361840" y="456696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61840" y="456696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038560" y="4514760"/>
              <a:ext cx="511200" cy="115920"/>
              <a:chOff x="5038560" y="4514760"/>
              <a:chExt cx="511200" cy="115920"/>
            </a:xfrm>
          </p:grpSpPr>
          <p:sp>
            <p:nvSpPr>
              <p:cNvPr id="292" name=""/>
              <p:cNvSpPr/>
              <p:nvPr/>
            </p:nvSpPr>
            <p:spPr>
              <a:xfrm>
                <a:off x="5038560" y="451476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038560" y="451476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058720" y="458316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58720" y="464508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8720" y="458316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077800" y="4605840"/>
              <a:ext cx="132840" cy="56160"/>
              <a:chOff x="5077800" y="4605840"/>
              <a:chExt cx="132840" cy="56160"/>
            </a:xfrm>
          </p:grpSpPr>
          <p:sp>
            <p:nvSpPr>
              <p:cNvPr id="298" name=""/>
              <p:cNvSpPr/>
              <p:nvPr/>
            </p:nvSpPr>
            <p:spPr>
              <a:xfrm>
                <a:off x="5077800" y="460584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77800" y="460584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076360" y="4665960"/>
              <a:ext cx="83160" cy="83880"/>
              <a:chOff x="5076360" y="4665960"/>
              <a:chExt cx="83160" cy="83880"/>
            </a:xfrm>
          </p:grpSpPr>
          <p:sp>
            <p:nvSpPr>
              <p:cNvPr id="301" name=""/>
              <p:cNvSpPr/>
              <p:nvPr/>
            </p:nvSpPr>
            <p:spPr>
              <a:xfrm>
                <a:off x="5076360" y="466596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76360" y="466596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895560" y="4971960"/>
            <a:ext cx="508320" cy="330120"/>
            <a:chOff x="3895560" y="4971960"/>
            <a:chExt cx="508320" cy="330120"/>
          </a:xfrm>
        </p:grpSpPr>
        <p:grpSp>
          <p:nvGrpSpPr>
            <p:cNvPr id="304" name=""/>
            <p:cNvGrpSpPr/>
            <p:nvPr/>
          </p:nvGrpSpPr>
          <p:grpSpPr>
            <a:xfrm>
              <a:off x="3896280" y="5014440"/>
              <a:ext cx="320760" cy="287640"/>
              <a:chOff x="3896280" y="5014440"/>
              <a:chExt cx="320760" cy="287640"/>
            </a:xfrm>
          </p:grpSpPr>
          <p:sp>
            <p:nvSpPr>
              <p:cNvPr id="305" name=""/>
              <p:cNvSpPr/>
              <p:nvPr/>
            </p:nvSpPr>
            <p:spPr>
              <a:xfrm>
                <a:off x="3896280" y="5014440"/>
                <a:ext cx="3207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96280" y="5014440"/>
                <a:ext cx="3207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217040" y="5024160"/>
              <a:ext cx="185040" cy="277920"/>
              <a:chOff x="4217040" y="5024160"/>
              <a:chExt cx="18504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4217040" y="5024160"/>
                <a:ext cx="18504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17040" y="5024160"/>
                <a:ext cx="18504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895560" y="4971960"/>
              <a:ext cx="508320" cy="115920"/>
              <a:chOff x="3895560" y="4971960"/>
              <a:chExt cx="508320" cy="115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895560" y="4971960"/>
                <a:ext cx="50832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95560" y="4971960"/>
                <a:ext cx="50832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3915720" y="504036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15720" y="510228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15720" y="504036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934440" y="5063040"/>
              <a:ext cx="132120" cy="56160"/>
              <a:chOff x="3934440" y="5063040"/>
              <a:chExt cx="132120" cy="56160"/>
            </a:xfrm>
          </p:grpSpPr>
          <p:sp>
            <p:nvSpPr>
              <p:cNvPr id="317" name=""/>
              <p:cNvSpPr/>
              <p:nvPr/>
            </p:nvSpPr>
            <p:spPr>
              <a:xfrm>
                <a:off x="3934440" y="506304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34440" y="506304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933000" y="5123160"/>
              <a:ext cx="82440" cy="83880"/>
              <a:chOff x="3933000" y="5123160"/>
              <a:chExt cx="82440" cy="83880"/>
            </a:xfrm>
          </p:grpSpPr>
          <p:sp>
            <p:nvSpPr>
              <p:cNvPr id="320" name=""/>
              <p:cNvSpPr/>
              <p:nvPr/>
            </p:nvSpPr>
            <p:spPr>
              <a:xfrm>
                <a:off x="3933000" y="512316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33000" y="512316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429080" y="4667400"/>
            <a:ext cx="511200" cy="330120"/>
            <a:chOff x="4429080" y="4667400"/>
            <a:chExt cx="511200" cy="330120"/>
          </a:xfrm>
        </p:grpSpPr>
        <p:grpSp>
          <p:nvGrpSpPr>
            <p:cNvPr id="323" name=""/>
            <p:cNvGrpSpPr/>
            <p:nvPr/>
          </p:nvGrpSpPr>
          <p:grpSpPr>
            <a:xfrm>
              <a:off x="4429800" y="4709880"/>
              <a:ext cx="322560" cy="287640"/>
              <a:chOff x="4429800" y="4709880"/>
              <a:chExt cx="322560" cy="287640"/>
            </a:xfrm>
          </p:grpSpPr>
          <p:sp>
            <p:nvSpPr>
              <p:cNvPr id="324" name=""/>
              <p:cNvSpPr/>
              <p:nvPr/>
            </p:nvSpPr>
            <p:spPr>
              <a:xfrm>
                <a:off x="4429800" y="47098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29800" y="47098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752360" y="4719600"/>
              <a:ext cx="186120" cy="277920"/>
              <a:chOff x="4752360" y="4719600"/>
              <a:chExt cx="186120" cy="277920"/>
            </a:xfrm>
          </p:grpSpPr>
          <p:sp>
            <p:nvSpPr>
              <p:cNvPr id="327" name=""/>
              <p:cNvSpPr/>
              <p:nvPr/>
            </p:nvSpPr>
            <p:spPr>
              <a:xfrm>
                <a:off x="4752360" y="47196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2360" y="47196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4429080" y="4667400"/>
              <a:ext cx="511200" cy="115920"/>
              <a:chOff x="4429080" y="4667400"/>
              <a:chExt cx="511200" cy="11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4429080" y="46674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29080" y="46674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449240" y="47358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49240" y="47977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49240" y="47358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4468320" y="4758480"/>
              <a:ext cx="132840" cy="56160"/>
              <a:chOff x="4468320" y="4758480"/>
              <a:chExt cx="132840" cy="56160"/>
            </a:xfrm>
          </p:grpSpPr>
          <p:sp>
            <p:nvSpPr>
              <p:cNvPr id="336" name=""/>
              <p:cNvSpPr/>
              <p:nvPr/>
            </p:nvSpPr>
            <p:spPr>
              <a:xfrm>
                <a:off x="4468320" y="47584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68320" y="47584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4466880" y="4818600"/>
              <a:ext cx="83160" cy="83880"/>
              <a:chOff x="4466880" y="4818600"/>
              <a:chExt cx="83160" cy="83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466880" y="48186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66880" y="48186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2448000" y="3654360"/>
            <a:ext cx="990360" cy="631800"/>
            <a:chOff x="2448000" y="3654360"/>
            <a:chExt cx="990360" cy="631800"/>
          </a:xfrm>
        </p:grpSpPr>
        <p:grpSp>
          <p:nvGrpSpPr>
            <p:cNvPr id="342" name=""/>
            <p:cNvGrpSpPr/>
            <p:nvPr/>
          </p:nvGrpSpPr>
          <p:grpSpPr>
            <a:xfrm>
              <a:off x="2449440" y="3735720"/>
              <a:ext cx="624960" cy="550440"/>
              <a:chOff x="2449440" y="3735720"/>
              <a:chExt cx="624960" cy="550440"/>
            </a:xfrm>
          </p:grpSpPr>
          <p:sp>
            <p:nvSpPr>
              <p:cNvPr id="343" name=""/>
              <p:cNvSpPr/>
              <p:nvPr/>
            </p:nvSpPr>
            <p:spPr>
              <a:xfrm>
                <a:off x="2449440" y="373572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49440" y="373572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074400" y="3754440"/>
              <a:ext cx="360360" cy="531720"/>
              <a:chOff x="3074400" y="3754440"/>
              <a:chExt cx="36036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3074400" y="375444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74400" y="375444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448000" y="3654360"/>
              <a:ext cx="990360" cy="221760"/>
              <a:chOff x="2448000" y="3654360"/>
              <a:chExt cx="990360" cy="221760"/>
            </a:xfrm>
          </p:grpSpPr>
          <p:sp>
            <p:nvSpPr>
              <p:cNvPr id="349" name=""/>
              <p:cNvSpPr/>
              <p:nvPr/>
            </p:nvSpPr>
            <p:spPr>
              <a:xfrm>
                <a:off x="2448000" y="365436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448000" y="365436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487240" y="378540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87240" y="390420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87240" y="378540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523960" y="3828600"/>
              <a:ext cx="257760" cy="107640"/>
              <a:chOff x="2523960" y="3828600"/>
              <a:chExt cx="257760" cy="107640"/>
            </a:xfrm>
          </p:grpSpPr>
          <p:sp>
            <p:nvSpPr>
              <p:cNvPr id="355" name=""/>
              <p:cNvSpPr/>
              <p:nvPr/>
            </p:nvSpPr>
            <p:spPr>
              <a:xfrm>
                <a:off x="2523960" y="382860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23960" y="382860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521440" y="3943440"/>
              <a:ext cx="160920" cy="160920"/>
              <a:chOff x="2521440" y="3943440"/>
              <a:chExt cx="160920" cy="160920"/>
            </a:xfrm>
          </p:grpSpPr>
          <p:sp>
            <p:nvSpPr>
              <p:cNvPr id="358" name=""/>
              <p:cNvSpPr/>
              <p:nvPr/>
            </p:nvSpPr>
            <p:spPr>
              <a:xfrm>
                <a:off x="2521440" y="394344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21440" y="394344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3666960" y="4438800"/>
            <a:ext cx="511200" cy="330120"/>
            <a:chOff x="3666960" y="4438800"/>
            <a:chExt cx="511200" cy="330120"/>
          </a:xfrm>
        </p:grpSpPr>
        <p:grpSp>
          <p:nvGrpSpPr>
            <p:cNvPr id="361" name=""/>
            <p:cNvGrpSpPr/>
            <p:nvPr/>
          </p:nvGrpSpPr>
          <p:grpSpPr>
            <a:xfrm>
              <a:off x="3667680" y="4481280"/>
              <a:ext cx="322560" cy="287640"/>
              <a:chOff x="3667680" y="4481280"/>
              <a:chExt cx="322560" cy="287640"/>
            </a:xfrm>
          </p:grpSpPr>
          <p:sp>
            <p:nvSpPr>
              <p:cNvPr id="362" name=""/>
              <p:cNvSpPr/>
              <p:nvPr/>
            </p:nvSpPr>
            <p:spPr>
              <a:xfrm>
                <a:off x="3667680" y="4481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67680" y="4481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3990240" y="4491000"/>
              <a:ext cx="186120" cy="277920"/>
              <a:chOff x="3990240" y="4491000"/>
              <a:chExt cx="186120" cy="277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990240" y="4491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90240" y="4491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666960" y="4438800"/>
              <a:ext cx="511200" cy="115920"/>
              <a:chOff x="3666960" y="4438800"/>
              <a:chExt cx="511200" cy="115920"/>
            </a:xfrm>
          </p:grpSpPr>
          <p:sp>
            <p:nvSpPr>
              <p:cNvPr id="368" name=""/>
              <p:cNvSpPr/>
              <p:nvPr/>
            </p:nvSpPr>
            <p:spPr>
              <a:xfrm>
                <a:off x="3666960" y="4438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66960" y="4438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687120" y="4507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7120" y="4569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87120" y="4507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706200" y="4529880"/>
              <a:ext cx="132840" cy="56160"/>
              <a:chOff x="3706200" y="4529880"/>
              <a:chExt cx="132840" cy="56160"/>
            </a:xfrm>
          </p:grpSpPr>
          <p:sp>
            <p:nvSpPr>
              <p:cNvPr id="374" name=""/>
              <p:cNvSpPr/>
              <p:nvPr/>
            </p:nvSpPr>
            <p:spPr>
              <a:xfrm>
                <a:off x="3706200" y="4529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06200" y="4529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704760" y="4590000"/>
              <a:ext cx="83160" cy="83880"/>
              <a:chOff x="3704760" y="4590000"/>
              <a:chExt cx="83160" cy="83880"/>
            </a:xfrm>
          </p:grpSpPr>
          <p:sp>
            <p:nvSpPr>
              <p:cNvPr id="377" name=""/>
              <p:cNvSpPr/>
              <p:nvPr/>
            </p:nvSpPr>
            <p:spPr>
              <a:xfrm>
                <a:off x="3704760" y="4590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04760" y="4590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4581360" y="5124600"/>
            <a:ext cx="511200" cy="330120"/>
            <a:chOff x="4581360" y="5124600"/>
            <a:chExt cx="511200" cy="330120"/>
          </a:xfrm>
        </p:grpSpPr>
        <p:grpSp>
          <p:nvGrpSpPr>
            <p:cNvPr id="380" name=""/>
            <p:cNvGrpSpPr/>
            <p:nvPr/>
          </p:nvGrpSpPr>
          <p:grpSpPr>
            <a:xfrm>
              <a:off x="4582080" y="5167080"/>
              <a:ext cx="322560" cy="287640"/>
              <a:chOff x="4582080" y="5167080"/>
              <a:chExt cx="322560" cy="287640"/>
            </a:xfrm>
          </p:grpSpPr>
          <p:sp>
            <p:nvSpPr>
              <p:cNvPr id="381" name=""/>
              <p:cNvSpPr/>
              <p:nvPr/>
            </p:nvSpPr>
            <p:spPr>
              <a:xfrm>
                <a:off x="4582080" y="51670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82080" y="51670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904640" y="5176800"/>
              <a:ext cx="186120" cy="277920"/>
              <a:chOff x="4904640" y="5176800"/>
              <a:chExt cx="186120" cy="277920"/>
            </a:xfrm>
          </p:grpSpPr>
          <p:sp>
            <p:nvSpPr>
              <p:cNvPr id="384" name=""/>
              <p:cNvSpPr/>
              <p:nvPr/>
            </p:nvSpPr>
            <p:spPr>
              <a:xfrm>
                <a:off x="4904640" y="51768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904640" y="51768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4581360" y="5124600"/>
              <a:ext cx="511200" cy="115920"/>
              <a:chOff x="4581360" y="5124600"/>
              <a:chExt cx="511200" cy="115920"/>
            </a:xfrm>
          </p:grpSpPr>
          <p:sp>
            <p:nvSpPr>
              <p:cNvPr id="387" name=""/>
              <p:cNvSpPr/>
              <p:nvPr/>
            </p:nvSpPr>
            <p:spPr>
              <a:xfrm>
                <a:off x="4581360" y="51246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581360" y="51246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4601520" y="51930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01520" y="52549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01520" y="51930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620600" y="5215680"/>
              <a:ext cx="132840" cy="56160"/>
              <a:chOff x="4620600" y="5215680"/>
              <a:chExt cx="132840" cy="56160"/>
            </a:xfrm>
          </p:grpSpPr>
          <p:sp>
            <p:nvSpPr>
              <p:cNvPr id="393" name=""/>
              <p:cNvSpPr/>
              <p:nvPr/>
            </p:nvSpPr>
            <p:spPr>
              <a:xfrm>
                <a:off x="4620600" y="52156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20600" y="52156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619160" y="5275800"/>
              <a:ext cx="83160" cy="83880"/>
              <a:chOff x="4619160" y="5275800"/>
              <a:chExt cx="83160" cy="83880"/>
            </a:xfrm>
          </p:grpSpPr>
          <p:sp>
            <p:nvSpPr>
              <p:cNvPr id="396" name=""/>
              <p:cNvSpPr/>
              <p:nvPr/>
            </p:nvSpPr>
            <p:spPr>
              <a:xfrm>
                <a:off x="4619160" y="52758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19160" y="52758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 flipH="1" flipV="1">
            <a:off x="6028920" y="341280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846920" y="1846080"/>
            <a:ext cx="274680" cy="510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975440" y="2278080"/>
            <a:ext cx="416160" cy="18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50240" y="258768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248600" y="274320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7052760" y="265860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730560" y="274428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665760" y="3022560"/>
            <a:ext cx="735120" cy="479520"/>
            <a:chOff x="6665760" y="3022560"/>
            <a:chExt cx="735120" cy="479520"/>
          </a:xfrm>
        </p:grpSpPr>
        <p:grpSp>
          <p:nvGrpSpPr>
            <p:cNvPr id="406" name=""/>
            <p:cNvGrpSpPr/>
            <p:nvPr/>
          </p:nvGrpSpPr>
          <p:grpSpPr>
            <a:xfrm>
              <a:off x="6935760" y="3084120"/>
              <a:ext cx="464040" cy="417960"/>
              <a:chOff x="6935760" y="3084120"/>
              <a:chExt cx="464040" cy="41796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6935400" y="308412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935400" y="308412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668280" y="3098520"/>
              <a:ext cx="267480" cy="403560"/>
              <a:chOff x="6668280" y="3098520"/>
              <a:chExt cx="267480" cy="40356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6667920" y="309852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667920" y="309852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6665760" y="3022560"/>
              <a:ext cx="735120" cy="168120"/>
              <a:chOff x="6665760" y="3022560"/>
              <a:chExt cx="735120" cy="1681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6665760" y="302256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665760" y="302256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 flipH="1">
              <a:off x="6980040" y="312192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980040" y="321228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82200" y="312192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7153200" y="3155040"/>
              <a:ext cx="191160" cy="81720"/>
              <a:chOff x="7153200" y="3155040"/>
              <a:chExt cx="191160" cy="8172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7152840" y="315504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152840" y="315504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7227000" y="3242160"/>
              <a:ext cx="119520" cy="122040"/>
              <a:chOff x="7227000" y="3242160"/>
              <a:chExt cx="119520" cy="122040"/>
            </a:xfrm>
          </p:grpSpPr>
          <p:sp>
            <p:nvSpPr>
              <p:cNvPr id="422" name=""/>
              <p:cNvSpPr/>
              <p:nvPr/>
            </p:nvSpPr>
            <p:spPr>
              <a:xfrm flipH="1">
                <a:off x="7227000" y="324216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227000" y="324216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8282160" y="2571840"/>
            <a:ext cx="512640" cy="546120"/>
            <a:chOff x="8282160" y="2571840"/>
            <a:chExt cx="512640" cy="546120"/>
          </a:xfrm>
        </p:grpSpPr>
        <p:grpSp>
          <p:nvGrpSpPr>
            <p:cNvPr id="425" name=""/>
            <p:cNvGrpSpPr/>
            <p:nvPr/>
          </p:nvGrpSpPr>
          <p:grpSpPr>
            <a:xfrm>
              <a:off x="8618760" y="2924280"/>
              <a:ext cx="176040" cy="193680"/>
              <a:chOff x="8618760" y="2924280"/>
              <a:chExt cx="176040" cy="19368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8618400" y="292428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8618400" y="292428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282160" y="2852640"/>
              <a:ext cx="512640" cy="176400"/>
              <a:chOff x="8282160" y="2852640"/>
              <a:chExt cx="512640" cy="176400"/>
            </a:xfrm>
          </p:grpSpPr>
          <p:sp>
            <p:nvSpPr>
              <p:cNvPr id="429" name=""/>
              <p:cNvSpPr/>
              <p:nvPr/>
            </p:nvSpPr>
            <p:spPr>
              <a:xfrm flipH="1">
                <a:off x="8282160" y="285264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8282160" y="285264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8282160" y="2940840"/>
              <a:ext cx="336600" cy="176760"/>
              <a:chOff x="8282160" y="2940840"/>
              <a:chExt cx="336600" cy="17676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8281800" y="294084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8281800" y="294084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 flipH="1">
              <a:off x="8535240" y="302436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8298360" y="2961720"/>
              <a:ext cx="131760" cy="89640"/>
              <a:chOff x="8298360" y="2961720"/>
              <a:chExt cx="131760" cy="8964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8298360" y="2961720"/>
                <a:ext cx="131760" cy="89640"/>
                <a:chOff x="8298360" y="2961720"/>
                <a:chExt cx="131760" cy="89640"/>
              </a:xfrm>
            </p:grpSpPr>
            <p:sp>
              <p:nvSpPr>
                <p:cNvPr id="437" name=""/>
                <p:cNvSpPr/>
                <p:nvPr/>
              </p:nvSpPr>
              <p:spPr>
                <a:xfrm flipH="1">
                  <a:off x="8298360" y="296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8298360" y="296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8298360" y="299268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8336880" y="300888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8336880" y="298260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8465760" y="2571840"/>
              <a:ext cx="308520" cy="301680"/>
              <a:chOff x="8465760" y="2571840"/>
              <a:chExt cx="308520" cy="30168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8465400" y="257184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8465400" y="257184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8618040" y="2650680"/>
              <a:ext cx="100440" cy="331200"/>
              <a:chOff x="8618040" y="2650680"/>
              <a:chExt cx="100440" cy="331200"/>
            </a:xfrm>
          </p:grpSpPr>
          <p:sp>
            <p:nvSpPr>
              <p:cNvPr id="446" name=""/>
              <p:cNvSpPr/>
              <p:nvPr/>
            </p:nvSpPr>
            <p:spPr>
              <a:xfrm flipH="1">
                <a:off x="8617680" y="265068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8617680" y="265068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8301240" y="2582640"/>
              <a:ext cx="417240" cy="122400"/>
              <a:chOff x="8301240" y="2582640"/>
              <a:chExt cx="417240" cy="12240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8300880" y="258264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8300880" y="258264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8363520" y="2917080"/>
              <a:ext cx="220320" cy="66960"/>
              <a:chOff x="8363520" y="2917080"/>
              <a:chExt cx="220320" cy="66960"/>
            </a:xfrm>
          </p:grpSpPr>
          <p:sp>
            <p:nvSpPr>
              <p:cNvPr id="452" name=""/>
              <p:cNvSpPr/>
              <p:nvPr/>
            </p:nvSpPr>
            <p:spPr>
              <a:xfrm flipH="1">
                <a:off x="8363520" y="291708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8363520" y="291708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8301600" y="2629440"/>
              <a:ext cx="316440" cy="353160"/>
              <a:chOff x="8301600" y="2629440"/>
              <a:chExt cx="316440" cy="35316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8301240" y="262944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8301240" y="262944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8341200" y="2669400"/>
              <a:ext cx="230760" cy="257400"/>
              <a:chOff x="8341200" y="2669400"/>
              <a:chExt cx="230760" cy="25740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8340840" y="266940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340840" y="266940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8359200" y="268704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359200" y="268704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520840" y="274392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388720" y="272520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8335440" y="1897200"/>
            <a:ext cx="513000" cy="546120"/>
            <a:chOff x="8335440" y="1897200"/>
            <a:chExt cx="513000" cy="546120"/>
          </a:xfrm>
        </p:grpSpPr>
        <p:grpSp>
          <p:nvGrpSpPr>
            <p:cNvPr id="465" name=""/>
            <p:cNvGrpSpPr/>
            <p:nvPr/>
          </p:nvGrpSpPr>
          <p:grpSpPr>
            <a:xfrm>
              <a:off x="8672400" y="2249640"/>
              <a:ext cx="176040" cy="193680"/>
              <a:chOff x="8672400" y="2249640"/>
              <a:chExt cx="176040" cy="193680"/>
            </a:xfrm>
          </p:grpSpPr>
          <p:sp>
            <p:nvSpPr>
              <p:cNvPr id="466" name=""/>
              <p:cNvSpPr/>
              <p:nvPr/>
            </p:nvSpPr>
            <p:spPr>
              <a:xfrm flipH="1">
                <a:off x="8672040" y="224964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8672040" y="224964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8335440" y="2178000"/>
              <a:ext cx="513000" cy="176400"/>
              <a:chOff x="8335440" y="2178000"/>
              <a:chExt cx="513000" cy="176400"/>
            </a:xfrm>
          </p:grpSpPr>
          <p:sp>
            <p:nvSpPr>
              <p:cNvPr id="469" name=""/>
              <p:cNvSpPr/>
              <p:nvPr/>
            </p:nvSpPr>
            <p:spPr>
              <a:xfrm flipH="1">
                <a:off x="8335080" y="217800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8335080" y="217800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8335440" y="2266200"/>
              <a:ext cx="336960" cy="176760"/>
              <a:chOff x="8335440" y="2266200"/>
              <a:chExt cx="336960" cy="176760"/>
            </a:xfrm>
          </p:grpSpPr>
          <p:sp>
            <p:nvSpPr>
              <p:cNvPr id="472" name=""/>
              <p:cNvSpPr/>
              <p:nvPr/>
            </p:nvSpPr>
            <p:spPr>
              <a:xfrm flipH="1">
                <a:off x="8335440" y="226620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8335440" y="226620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>
              <a:off x="8588880" y="234972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8351640" y="2287080"/>
              <a:ext cx="131760" cy="89640"/>
              <a:chOff x="8351640" y="2287080"/>
              <a:chExt cx="131760" cy="896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8351640" y="2287080"/>
                <a:ext cx="131760" cy="89640"/>
                <a:chOff x="8351640" y="2287080"/>
                <a:chExt cx="131760" cy="89640"/>
              </a:xfrm>
            </p:grpSpPr>
            <p:sp>
              <p:nvSpPr>
                <p:cNvPr id="477" name=""/>
                <p:cNvSpPr/>
                <p:nvPr/>
              </p:nvSpPr>
              <p:spPr>
                <a:xfrm flipH="1">
                  <a:off x="8351640" y="228708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8351640" y="228708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8351640" y="231804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8390160" y="233424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8390160" y="230796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8519040" y="1897200"/>
              <a:ext cx="308880" cy="301680"/>
              <a:chOff x="8519040" y="1897200"/>
              <a:chExt cx="308880" cy="30168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8519040" y="189720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19040" y="189720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8671680" y="1976040"/>
              <a:ext cx="100440" cy="331200"/>
              <a:chOff x="8671680" y="1976040"/>
              <a:chExt cx="100440" cy="331200"/>
            </a:xfrm>
          </p:grpSpPr>
          <p:sp>
            <p:nvSpPr>
              <p:cNvPr id="486" name=""/>
              <p:cNvSpPr/>
              <p:nvPr/>
            </p:nvSpPr>
            <p:spPr>
              <a:xfrm flipH="1">
                <a:off x="8671320" y="197604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8671320" y="197604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8354520" y="1908000"/>
              <a:ext cx="417600" cy="122400"/>
              <a:chOff x="8354520" y="1908000"/>
              <a:chExt cx="417600" cy="12240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8354520" y="190800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8354520" y="190800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8417160" y="2242440"/>
              <a:ext cx="220320" cy="66960"/>
              <a:chOff x="8417160" y="2242440"/>
              <a:chExt cx="220320" cy="6696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8417160" y="224244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8417160" y="224244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8354520" y="1954800"/>
              <a:ext cx="316800" cy="353160"/>
              <a:chOff x="8354520" y="1954800"/>
              <a:chExt cx="316800" cy="353160"/>
            </a:xfrm>
          </p:grpSpPr>
          <p:sp>
            <p:nvSpPr>
              <p:cNvPr id="495" name=""/>
              <p:cNvSpPr/>
              <p:nvPr/>
            </p:nvSpPr>
            <p:spPr>
              <a:xfrm flipH="1">
                <a:off x="8354520" y="195480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8354520" y="195480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8394480" y="1994760"/>
              <a:ext cx="230760" cy="257400"/>
              <a:chOff x="8394480" y="1994760"/>
              <a:chExt cx="230760" cy="2574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8394120" y="199476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8394120" y="199476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flipH="1">
              <a:off x="8412840" y="201240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8412840" y="201240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574120" y="20692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8442000" y="205056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812000" y="1542960"/>
            <a:ext cx="511200" cy="546120"/>
            <a:chOff x="7812000" y="1542960"/>
            <a:chExt cx="511200" cy="546120"/>
          </a:xfrm>
        </p:grpSpPr>
        <p:grpSp>
          <p:nvGrpSpPr>
            <p:cNvPr id="505" name=""/>
            <p:cNvGrpSpPr/>
            <p:nvPr/>
          </p:nvGrpSpPr>
          <p:grpSpPr>
            <a:xfrm>
              <a:off x="8147880" y="1895400"/>
              <a:ext cx="175320" cy="193680"/>
              <a:chOff x="8147880" y="1895400"/>
              <a:chExt cx="175320" cy="19368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8147520" y="189540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8147520" y="189540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7812000" y="1823760"/>
              <a:ext cx="511200" cy="176400"/>
              <a:chOff x="7812000" y="1823760"/>
              <a:chExt cx="511200" cy="176400"/>
            </a:xfrm>
          </p:grpSpPr>
          <p:sp>
            <p:nvSpPr>
              <p:cNvPr id="509" name=""/>
              <p:cNvSpPr/>
              <p:nvPr/>
            </p:nvSpPr>
            <p:spPr>
              <a:xfrm flipH="1">
                <a:off x="7812000" y="182376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7812000" y="182376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812360" y="1911960"/>
              <a:ext cx="335520" cy="176760"/>
              <a:chOff x="7812360" y="1911960"/>
              <a:chExt cx="335520" cy="176760"/>
            </a:xfrm>
          </p:grpSpPr>
          <p:sp>
            <p:nvSpPr>
              <p:cNvPr id="512" name=""/>
              <p:cNvSpPr/>
              <p:nvPr/>
            </p:nvSpPr>
            <p:spPr>
              <a:xfrm flipH="1">
                <a:off x="7812360" y="191196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812360" y="191196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flipH="1">
              <a:off x="8064360" y="199548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7828200" y="1932840"/>
              <a:ext cx="131760" cy="89640"/>
              <a:chOff x="7828200" y="1932840"/>
              <a:chExt cx="131760" cy="8964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7828200" y="1932840"/>
                <a:ext cx="131400" cy="89640"/>
                <a:chOff x="7828200" y="1932840"/>
                <a:chExt cx="131400" cy="89640"/>
              </a:xfrm>
            </p:grpSpPr>
            <p:sp>
              <p:nvSpPr>
                <p:cNvPr id="517" name=""/>
                <p:cNvSpPr/>
                <p:nvPr/>
              </p:nvSpPr>
              <p:spPr>
                <a:xfrm flipH="1">
                  <a:off x="7827840" y="193284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7827840" y="193284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7828560" y="196380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7867440" y="198000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867440" y="195372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994880" y="1542960"/>
              <a:ext cx="307800" cy="301680"/>
              <a:chOff x="7994880" y="1542960"/>
              <a:chExt cx="307800" cy="301680"/>
            </a:xfrm>
          </p:grpSpPr>
          <p:sp>
            <p:nvSpPr>
              <p:cNvPr id="523" name=""/>
              <p:cNvSpPr/>
              <p:nvPr/>
            </p:nvSpPr>
            <p:spPr>
              <a:xfrm flipH="1">
                <a:off x="7994520" y="154296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7994520" y="154296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8147160" y="1621800"/>
              <a:ext cx="100080" cy="331200"/>
              <a:chOff x="8147160" y="1621800"/>
              <a:chExt cx="100080" cy="331200"/>
            </a:xfrm>
          </p:grpSpPr>
          <p:sp>
            <p:nvSpPr>
              <p:cNvPr id="526" name=""/>
              <p:cNvSpPr/>
              <p:nvPr/>
            </p:nvSpPr>
            <p:spPr>
              <a:xfrm flipH="1">
                <a:off x="8147160" y="162180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8147160" y="162180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831080" y="1553760"/>
              <a:ext cx="416160" cy="122400"/>
              <a:chOff x="7831080" y="1553760"/>
              <a:chExt cx="416160" cy="12240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7831080" y="155376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7831080" y="155376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893360" y="1888200"/>
              <a:ext cx="219600" cy="66960"/>
              <a:chOff x="7893360" y="1888200"/>
              <a:chExt cx="219600" cy="669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7893360" y="188820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893360" y="188820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31080" y="1600560"/>
              <a:ext cx="315720" cy="353160"/>
              <a:chOff x="7831080" y="1600560"/>
              <a:chExt cx="315720" cy="353160"/>
            </a:xfrm>
          </p:grpSpPr>
          <p:sp>
            <p:nvSpPr>
              <p:cNvPr id="535" name=""/>
              <p:cNvSpPr/>
              <p:nvPr/>
            </p:nvSpPr>
            <p:spPr>
              <a:xfrm flipH="1">
                <a:off x="7830720" y="160056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830720" y="160056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7871040" y="1640520"/>
              <a:ext cx="230040" cy="257400"/>
              <a:chOff x="7871040" y="1640520"/>
              <a:chExt cx="230040" cy="25740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7870680" y="164052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870680" y="164052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H="1">
              <a:off x="7889040" y="165816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7889040" y="165816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8049960" y="171504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917840" y="169632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 flipV="1">
            <a:off x="6553080" y="342216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6380280" y="331128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476840" y="2354400"/>
            <a:ext cx="533160" cy="380880"/>
            <a:chOff x="7476840" y="2354400"/>
            <a:chExt cx="533160" cy="380880"/>
          </a:xfrm>
        </p:grpSpPr>
        <p:sp>
          <p:nvSpPr>
            <p:cNvPr id="547" name=""/>
            <p:cNvSpPr/>
            <p:nvPr/>
          </p:nvSpPr>
          <p:spPr>
            <a:xfrm flipH="1">
              <a:off x="7476480" y="235440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7540560" y="2428200"/>
              <a:ext cx="399240" cy="247680"/>
              <a:chOff x="7540560" y="2428200"/>
              <a:chExt cx="399240" cy="247680"/>
            </a:xfrm>
          </p:grpSpPr>
          <p:sp>
            <p:nvSpPr>
              <p:cNvPr id="549" name=""/>
              <p:cNvSpPr/>
              <p:nvPr/>
            </p:nvSpPr>
            <p:spPr>
              <a:xfrm flipH="1">
                <a:off x="7600320" y="242820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08600" y="242820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7546320" y="243216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540560" y="267372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7867080" y="243216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7875360" y="267372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5" name=""/>
          <p:cNvGrpSpPr/>
          <p:nvPr/>
        </p:nvGrpSpPr>
        <p:grpSpPr>
          <a:xfrm>
            <a:off x="5800680" y="3627360"/>
            <a:ext cx="990720" cy="631800"/>
            <a:chOff x="5800680" y="3627360"/>
            <a:chExt cx="990720" cy="631800"/>
          </a:xfrm>
        </p:grpSpPr>
        <p:grpSp>
          <p:nvGrpSpPr>
            <p:cNvPr id="556" name=""/>
            <p:cNvGrpSpPr/>
            <p:nvPr/>
          </p:nvGrpSpPr>
          <p:grpSpPr>
            <a:xfrm>
              <a:off x="6165000" y="3708720"/>
              <a:ext cx="624960" cy="550440"/>
              <a:chOff x="6165000" y="3708720"/>
              <a:chExt cx="624960" cy="550440"/>
            </a:xfrm>
          </p:grpSpPr>
          <p:sp>
            <p:nvSpPr>
              <p:cNvPr id="557" name=""/>
              <p:cNvSpPr/>
              <p:nvPr/>
            </p:nvSpPr>
            <p:spPr>
              <a:xfrm flipH="1">
                <a:off x="6165000" y="370872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165000" y="370872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804280" y="3727440"/>
              <a:ext cx="360360" cy="531720"/>
              <a:chOff x="5804280" y="3727440"/>
              <a:chExt cx="360360" cy="53172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5803920" y="372744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803920" y="372744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5800680" y="3627360"/>
              <a:ext cx="990720" cy="221760"/>
              <a:chOff x="5800680" y="3627360"/>
              <a:chExt cx="990720" cy="221760"/>
            </a:xfrm>
          </p:grpSpPr>
          <p:sp>
            <p:nvSpPr>
              <p:cNvPr id="563" name=""/>
              <p:cNvSpPr/>
              <p:nvPr/>
            </p:nvSpPr>
            <p:spPr>
              <a:xfrm flipH="1">
                <a:off x="5800680" y="362736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800680" y="362736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flipH="1">
              <a:off x="6224400" y="375840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224400" y="387720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26560" y="375840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6457680" y="3801600"/>
              <a:ext cx="257760" cy="107640"/>
              <a:chOff x="6457680" y="3801600"/>
              <a:chExt cx="257760" cy="107640"/>
            </a:xfrm>
          </p:grpSpPr>
          <p:sp>
            <p:nvSpPr>
              <p:cNvPr id="569" name=""/>
              <p:cNvSpPr/>
              <p:nvPr/>
            </p:nvSpPr>
            <p:spPr>
              <a:xfrm flipH="1">
                <a:off x="6457680" y="380160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457680" y="380160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6556680" y="3916440"/>
              <a:ext cx="161280" cy="160920"/>
              <a:chOff x="6556680" y="3916440"/>
              <a:chExt cx="161280" cy="16092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6556680" y="391644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556680" y="391644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4" name=""/>
          <p:cNvGrpSpPr/>
          <p:nvPr/>
        </p:nvGrpSpPr>
        <p:grpSpPr>
          <a:xfrm>
            <a:off x="1838160" y="1752480"/>
            <a:ext cx="381240" cy="381240"/>
            <a:chOff x="1838160" y="1752480"/>
            <a:chExt cx="381240" cy="381240"/>
          </a:xfrm>
        </p:grpSpPr>
        <p:grpSp>
          <p:nvGrpSpPr>
            <p:cNvPr id="575" name=""/>
            <p:cNvGrpSpPr/>
            <p:nvPr/>
          </p:nvGrpSpPr>
          <p:grpSpPr>
            <a:xfrm>
              <a:off x="1838160" y="1998720"/>
              <a:ext cx="130680" cy="135000"/>
              <a:chOff x="1838160" y="1998720"/>
              <a:chExt cx="130680" cy="135000"/>
            </a:xfrm>
          </p:grpSpPr>
          <p:sp>
            <p:nvSpPr>
              <p:cNvPr id="576" name=""/>
              <p:cNvSpPr/>
              <p:nvPr/>
            </p:nvSpPr>
            <p:spPr>
              <a:xfrm>
                <a:off x="1838160" y="199872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38160" y="199872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838160" y="1948680"/>
              <a:ext cx="381240" cy="123120"/>
              <a:chOff x="1838160" y="1948680"/>
              <a:chExt cx="381240" cy="123120"/>
            </a:xfrm>
          </p:grpSpPr>
          <p:sp>
            <p:nvSpPr>
              <p:cNvPr id="579" name=""/>
              <p:cNvSpPr/>
              <p:nvPr/>
            </p:nvSpPr>
            <p:spPr>
              <a:xfrm>
                <a:off x="1838160" y="1948680"/>
                <a:ext cx="38124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8160" y="1948680"/>
                <a:ext cx="38124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1968840" y="2010240"/>
              <a:ext cx="250200" cy="123480"/>
              <a:chOff x="1968840" y="2010240"/>
              <a:chExt cx="250200" cy="123480"/>
            </a:xfrm>
          </p:grpSpPr>
          <p:sp>
            <p:nvSpPr>
              <p:cNvPr id="582" name=""/>
              <p:cNvSpPr/>
              <p:nvPr/>
            </p:nvSpPr>
            <p:spPr>
              <a:xfrm>
                <a:off x="1968840" y="201024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68840" y="201024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1980720" y="206820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2109600" y="2024640"/>
              <a:ext cx="97920" cy="62640"/>
              <a:chOff x="2109600" y="2024640"/>
              <a:chExt cx="97920" cy="6264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2109600" y="2024640"/>
                <a:ext cx="97920" cy="62640"/>
                <a:chOff x="2109600" y="2024640"/>
                <a:chExt cx="97920" cy="62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109600" y="2024640"/>
                  <a:ext cx="97920" cy="62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109600" y="2024640"/>
                  <a:ext cx="97920" cy="62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 flipH="1">
                <a:off x="2109600" y="204624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44160" y="205740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44160" y="203904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853640" y="1752480"/>
              <a:ext cx="229680" cy="210600"/>
              <a:chOff x="1853640" y="1752480"/>
              <a:chExt cx="229680" cy="210600"/>
            </a:xfrm>
          </p:grpSpPr>
          <p:sp>
            <p:nvSpPr>
              <p:cNvPr id="593" name=""/>
              <p:cNvSpPr/>
              <p:nvPr/>
            </p:nvSpPr>
            <p:spPr>
              <a:xfrm>
                <a:off x="1853640" y="1752480"/>
                <a:ext cx="229680" cy="21060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53640" y="1752480"/>
                <a:ext cx="229680" cy="21060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894680" y="1807560"/>
              <a:ext cx="74520" cy="231120"/>
              <a:chOff x="1894680" y="1807560"/>
              <a:chExt cx="74520" cy="231120"/>
            </a:xfrm>
          </p:grpSpPr>
          <p:sp>
            <p:nvSpPr>
              <p:cNvPr id="596" name=""/>
              <p:cNvSpPr/>
              <p:nvPr/>
            </p:nvSpPr>
            <p:spPr>
              <a:xfrm>
                <a:off x="1894680" y="180756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4680" y="180756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1894680" y="1760040"/>
              <a:ext cx="310320" cy="85320"/>
              <a:chOff x="1894680" y="1760040"/>
              <a:chExt cx="310320" cy="85320"/>
            </a:xfrm>
          </p:grpSpPr>
          <p:sp>
            <p:nvSpPr>
              <p:cNvPr id="599" name=""/>
              <p:cNvSpPr/>
              <p:nvPr/>
            </p:nvSpPr>
            <p:spPr>
              <a:xfrm>
                <a:off x="1894680" y="1760040"/>
                <a:ext cx="31032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94680" y="1760040"/>
                <a:ext cx="31032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994760" y="1993320"/>
              <a:ext cx="163800" cy="46440"/>
              <a:chOff x="1994760" y="1993320"/>
              <a:chExt cx="163800" cy="46440"/>
            </a:xfrm>
          </p:grpSpPr>
          <p:sp>
            <p:nvSpPr>
              <p:cNvPr id="602" name=""/>
              <p:cNvSpPr/>
              <p:nvPr/>
            </p:nvSpPr>
            <p:spPr>
              <a:xfrm>
                <a:off x="1994760" y="1993320"/>
                <a:ext cx="16380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94760" y="1993320"/>
                <a:ext cx="16380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1969560" y="1792800"/>
              <a:ext cx="235440" cy="246600"/>
              <a:chOff x="1969560" y="1792800"/>
              <a:chExt cx="235440" cy="246600"/>
            </a:xfrm>
          </p:grpSpPr>
          <p:sp>
            <p:nvSpPr>
              <p:cNvPr id="605" name=""/>
              <p:cNvSpPr/>
              <p:nvPr/>
            </p:nvSpPr>
            <p:spPr>
              <a:xfrm>
                <a:off x="1969560" y="1792800"/>
                <a:ext cx="235440" cy="2466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969560" y="1792800"/>
                <a:ext cx="235440" cy="2466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003760" y="1820520"/>
              <a:ext cx="171720" cy="179640"/>
              <a:chOff x="2003760" y="1820520"/>
              <a:chExt cx="171720" cy="179640"/>
            </a:xfrm>
          </p:grpSpPr>
          <p:sp>
            <p:nvSpPr>
              <p:cNvPr id="608" name=""/>
              <p:cNvSpPr/>
              <p:nvPr/>
            </p:nvSpPr>
            <p:spPr>
              <a:xfrm>
                <a:off x="2003760" y="1820520"/>
                <a:ext cx="17172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03760" y="1820520"/>
                <a:ext cx="17172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2010600" y="1833120"/>
              <a:ext cx="151200" cy="15228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10600" y="1833120"/>
              <a:ext cx="151200" cy="15228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28240" y="187272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44800" y="1859400"/>
              <a:ext cx="95400" cy="1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738080" y="1339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219400" y="4267080"/>
            <a:ext cx="511200" cy="330480"/>
            <a:chOff x="2219400" y="4267080"/>
            <a:chExt cx="511200" cy="330480"/>
          </a:xfrm>
        </p:grpSpPr>
        <p:grpSp>
          <p:nvGrpSpPr>
            <p:cNvPr id="616" name=""/>
            <p:cNvGrpSpPr/>
            <p:nvPr/>
          </p:nvGrpSpPr>
          <p:grpSpPr>
            <a:xfrm>
              <a:off x="2220120" y="4309560"/>
              <a:ext cx="322560" cy="288000"/>
              <a:chOff x="2220120" y="4309560"/>
              <a:chExt cx="322560" cy="288000"/>
            </a:xfrm>
          </p:grpSpPr>
          <p:sp>
            <p:nvSpPr>
              <p:cNvPr id="617" name=""/>
              <p:cNvSpPr/>
              <p:nvPr/>
            </p:nvSpPr>
            <p:spPr>
              <a:xfrm>
                <a:off x="2220120" y="43095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220120" y="43095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542680" y="4319280"/>
              <a:ext cx="186120" cy="278280"/>
              <a:chOff x="2542680" y="4319280"/>
              <a:chExt cx="186120" cy="278280"/>
            </a:xfrm>
          </p:grpSpPr>
          <p:sp>
            <p:nvSpPr>
              <p:cNvPr id="620" name=""/>
              <p:cNvSpPr/>
              <p:nvPr/>
            </p:nvSpPr>
            <p:spPr>
              <a:xfrm>
                <a:off x="2542680" y="43192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542680" y="43192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19400" y="4267080"/>
              <a:ext cx="511200" cy="115920"/>
              <a:chOff x="2219400" y="4267080"/>
              <a:chExt cx="511200" cy="115920"/>
            </a:xfrm>
          </p:grpSpPr>
          <p:sp>
            <p:nvSpPr>
              <p:cNvPr id="623" name=""/>
              <p:cNvSpPr/>
              <p:nvPr/>
            </p:nvSpPr>
            <p:spPr>
              <a:xfrm>
                <a:off x="2219400" y="42670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219400" y="42670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2239560" y="43354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39560" y="43977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39560" y="43354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2258640" y="4358160"/>
              <a:ext cx="132840" cy="56160"/>
              <a:chOff x="2258640" y="4358160"/>
              <a:chExt cx="132840" cy="56160"/>
            </a:xfrm>
          </p:grpSpPr>
          <p:sp>
            <p:nvSpPr>
              <p:cNvPr id="629" name=""/>
              <p:cNvSpPr/>
              <p:nvPr/>
            </p:nvSpPr>
            <p:spPr>
              <a:xfrm>
                <a:off x="2258640" y="43581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258640" y="43581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257200" y="4418280"/>
              <a:ext cx="83160" cy="84240"/>
              <a:chOff x="2257200" y="4418280"/>
              <a:chExt cx="83160" cy="84240"/>
            </a:xfrm>
          </p:grpSpPr>
          <p:sp>
            <p:nvSpPr>
              <p:cNvPr id="632" name=""/>
              <p:cNvSpPr/>
              <p:nvPr/>
            </p:nvSpPr>
            <p:spPr>
              <a:xfrm>
                <a:off x="2257200" y="44182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57200" y="44182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1380960" y="3581280"/>
            <a:ext cx="511200" cy="330480"/>
            <a:chOff x="1380960" y="3581280"/>
            <a:chExt cx="511200" cy="330480"/>
          </a:xfrm>
        </p:grpSpPr>
        <p:grpSp>
          <p:nvGrpSpPr>
            <p:cNvPr id="635" name=""/>
            <p:cNvGrpSpPr/>
            <p:nvPr/>
          </p:nvGrpSpPr>
          <p:grpSpPr>
            <a:xfrm>
              <a:off x="1381680" y="3623760"/>
              <a:ext cx="322560" cy="288000"/>
              <a:chOff x="1381680" y="3623760"/>
              <a:chExt cx="322560" cy="288000"/>
            </a:xfrm>
          </p:grpSpPr>
          <p:sp>
            <p:nvSpPr>
              <p:cNvPr id="636" name=""/>
              <p:cNvSpPr/>
              <p:nvPr/>
            </p:nvSpPr>
            <p:spPr>
              <a:xfrm>
                <a:off x="1381680" y="36237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81680" y="36237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1704240" y="3633480"/>
              <a:ext cx="186120" cy="278280"/>
              <a:chOff x="1704240" y="3633480"/>
              <a:chExt cx="186120" cy="278280"/>
            </a:xfrm>
          </p:grpSpPr>
          <p:sp>
            <p:nvSpPr>
              <p:cNvPr id="639" name=""/>
              <p:cNvSpPr/>
              <p:nvPr/>
            </p:nvSpPr>
            <p:spPr>
              <a:xfrm>
                <a:off x="1704240" y="36334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704240" y="36334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1380960" y="3581280"/>
              <a:ext cx="511200" cy="115920"/>
              <a:chOff x="1380960" y="3581280"/>
              <a:chExt cx="511200" cy="115920"/>
            </a:xfrm>
          </p:grpSpPr>
          <p:sp>
            <p:nvSpPr>
              <p:cNvPr id="642" name=""/>
              <p:cNvSpPr/>
              <p:nvPr/>
            </p:nvSpPr>
            <p:spPr>
              <a:xfrm>
                <a:off x="1380960" y="35812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80960" y="35812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401120" y="36496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01120" y="37119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01120" y="36496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1420200" y="3672360"/>
              <a:ext cx="132840" cy="56160"/>
              <a:chOff x="1420200" y="3672360"/>
              <a:chExt cx="132840" cy="56160"/>
            </a:xfrm>
          </p:grpSpPr>
          <p:sp>
            <p:nvSpPr>
              <p:cNvPr id="648" name=""/>
              <p:cNvSpPr/>
              <p:nvPr/>
            </p:nvSpPr>
            <p:spPr>
              <a:xfrm>
                <a:off x="1420200" y="36723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420200" y="36723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418760" y="3732480"/>
              <a:ext cx="83160" cy="84240"/>
              <a:chOff x="1418760" y="3732480"/>
              <a:chExt cx="83160" cy="84240"/>
            </a:xfrm>
          </p:grpSpPr>
          <p:sp>
            <p:nvSpPr>
              <p:cNvPr id="651" name=""/>
              <p:cNvSpPr/>
              <p:nvPr/>
            </p:nvSpPr>
            <p:spPr>
              <a:xfrm>
                <a:off x="1418760" y="37324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418760" y="37324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1609560" y="4114800"/>
            <a:ext cx="508320" cy="330120"/>
            <a:chOff x="1609560" y="4114800"/>
            <a:chExt cx="508320" cy="330120"/>
          </a:xfrm>
        </p:grpSpPr>
        <p:grpSp>
          <p:nvGrpSpPr>
            <p:cNvPr id="654" name=""/>
            <p:cNvGrpSpPr/>
            <p:nvPr/>
          </p:nvGrpSpPr>
          <p:grpSpPr>
            <a:xfrm>
              <a:off x="1610280" y="4157280"/>
              <a:ext cx="320760" cy="287640"/>
              <a:chOff x="1610280" y="4157280"/>
              <a:chExt cx="320760" cy="287640"/>
            </a:xfrm>
          </p:grpSpPr>
          <p:sp>
            <p:nvSpPr>
              <p:cNvPr id="655" name=""/>
              <p:cNvSpPr/>
              <p:nvPr/>
            </p:nvSpPr>
            <p:spPr>
              <a:xfrm>
                <a:off x="1610280" y="4157280"/>
                <a:ext cx="3207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610280" y="4157280"/>
                <a:ext cx="3207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931040" y="4167000"/>
              <a:ext cx="185040" cy="277920"/>
              <a:chOff x="1931040" y="4167000"/>
              <a:chExt cx="185040" cy="277920"/>
            </a:xfrm>
          </p:grpSpPr>
          <p:sp>
            <p:nvSpPr>
              <p:cNvPr id="658" name=""/>
              <p:cNvSpPr/>
              <p:nvPr/>
            </p:nvSpPr>
            <p:spPr>
              <a:xfrm>
                <a:off x="1931040" y="4167000"/>
                <a:ext cx="18504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931040" y="4167000"/>
                <a:ext cx="18504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609560" y="4114800"/>
              <a:ext cx="508320" cy="115920"/>
              <a:chOff x="1609560" y="4114800"/>
              <a:chExt cx="508320" cy="115920"/>
            </a:xfrm>
          </p:grpSpPr>
          <p:sp>
            <p:nvSpPr>
              <p:cNvPr id="661" name=""/>
              <p:cNvSpPr/>
              <p:nvPr/>
            </p:nvSpPr>
            <p:spPr>
              <a:xfrm>
                <a:off x="1609560" y="4114800"/>
                <a:ext cx="50832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09560" y="4114800"/>
                <a:ext cx="50832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1629720" y="418320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29720" y="424512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29720" y="418320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1648440" y="4205880"/>
              <a:ext cx="132120" cy="56160"/>
              <a:chOff x="1648440" y="4205880"/>
              <a:chExt cx="132120" cy="56160"/>
            </a:xfrm>
          </p:grpSpPr>
          <p:sp>
            <p:nvSpPr>
              <p:cNvPr id="667" name=""/>
              <p:cNvSpPr/>
              <p:nvPr/>
            </p:nvSpPr>
            <p:spPr>
              <a:xfrm>
                <a:off x="1648440" y="420588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648440" y="420588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1647000" y="4266000"/>
              <a:ext cx="82440" cy="83880"/>
              <a:chOff x="1647000" y="4266000"/>
              <a:chExt cx="82440" cy="83880"/>
            </a:xfrm>
          </p:grpSpPr>
          <p:sp>
            <p:nvSpPr>
              <p:cNvPr id="670" name=""/>
              <p:cNvSpPr/>
              <p:nvPr/>
            </p:nvSpPr>
            <p:spPr>
              <a:xfrm>
                <a:off x="1647000" y="426600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47000" y="426600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>
            <a:off x="3057480" y="1905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76800" y="32767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24360" y="1905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98360" y="160020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03760" y="586728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" y="3276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55360" y="2209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165480" y="2336760"/>
            <a:ext cx="2835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648320" y="2989440"/>
            <a:ext cx="3831840" cy="2649240"/>
            <a:chOff x="4648320" y="2989440"/>
            <a:chExt cx="3831840" cy="2649240"/>
          </a:xfrm>
        </p:grpSpPr>
        <p:sp>
          <p:nvSpPr>
            <p:cNvPr id="681" name=""/>
            <p:cNvSpPr/>
            <p:nvPr/>
          </p:nvSpPr>
          <p:spPr>
            <a:xfrm>
              <a:off x="6333840" y="3459240"/>
              <a:ext cx="2146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.  QoS service provider sends RSVP PATH message to ne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8320" y="2989440"/>
              <a:ext cx="0" cy="26492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572000" y="1463760"/>
            <a:ext cx="3908520" cy="1058760"/>
            <a:chOff x="4572000" y="1463760"/>
            <a:chExt cx="3908520" cy="1058760"/>
          </a:xfrm>
        </p:grpSpPr>
        <p:sp>
          <p:nvSpPr>
            <p:cNvPr id="684" name=""/>
            <p:cNvSpPr/>
            <p:nvPr/>
          </p:nvSpPr>
          <p:spPr>
            <a:xfrm>
              <a:off x="6297480" y="1463760"/>
              <a:ext cx="218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.  Application indicates that it is a QoS send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72000" y="1860480"/>
              <a:ext cx="0" cy="662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05320" y="3581280"/>
            <a:ext cx="2044440" cy="7621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05320" y="5638680"/>
            <a:ext cx="204444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13520" y="196524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Sock2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60760" y="136836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43000" y="3505320"/>
            <a:ext cx="2835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505320" y="2438280"/>
            <a:ext cx="4952520" cy="990720"/>
            <a:chOff x="3505320" y="2438280"/>
            <a:chExt cx="4952520" cy="990720"/>
          </a:xfrm>
        </p:grpSpPr>
        <p:sp>
          <p:nvSpPr>
            <p:cNvPr id="692" name=""/>
            <p:cNvSpPr/>
            <p:nvPr/>
          </p:nvSpPr>
          <p:spPr>
            <a:xfrm>
              <a:off x="5970600" y="2438280"/>
              <a:ext cx="248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.  QoS SP invokes non-greedy traffic contro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5320" y="3047760"/>
              <a:ext cx="0" cy="381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3581280" y="251460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 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4360" y="31082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ffic Control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05320" y="4495680"/>
            <a:ext cx="2133360" cy="685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Schedu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71600" y="5334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 S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486400"/>
            <a:ext cx="1067040" cy="76320"/>
          </a:xfrm>
          <a:prstGeom prst="rightArrow">
            <a:avLst>
              <a:gd name="adj1" fmla="val 50000"/>
              <a:gd name="adj2" fmla="val 349528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3434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066680" y="4114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D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595400" y="464832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721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722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728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734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740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741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744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747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758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761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764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767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770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773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780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781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784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787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798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801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804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807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810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813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822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824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581280" y="4800600"/>
            <a:ext cx="2022120" cy="1428480"/>
            <a:chOff x="3581280" y="4800600"/>
            <a:chExt cx="2022120" cy="1428480"/>
          </a:xfrm>
        </p:grpSpPr>
        <p:grpSp>
          <p:nvGrpSpPr>
            <p:cNvPr id="832" name=""/>
            <p:cNvGrpSpPr/>
            <p:nvPr/>
          </p:nvGrpSpPr>
          <p:grpSpPr>
            <a:xfrm>
              <a:off x="3581280" y="4800600"/>
              <a:ext cx="2022120" cy="1428480"/>
              <a:chOff x="3581280" y="4800600"/>
              <a:chExt cx="2022120" cy="142848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4774680" y="4928400"/>
                <a:ext cx="828720" cy="1229040"/>
                <a:chOff x="4774680" y="4928400"/>
                <a:chExt cx="828720" cy="1229040"/>
              </a:xfrm>
            </p:grpSpPr>
            <p:grpSp>
              <p:nvGrpSpPr>
                <p:cNvPr id="834" name=""/>
                <p:cNvGrpSpPr/>
                <p:nvPr/>
              </p:nvGrpSpPr>
              <p:grpSpPr>
                <a:xfrm>
                  <a:off x="5099040" y="4928400"/>
                  <a:ext cx="504360" cy="988200"/>
                  <a:chOff x="5099040" y="4928400"/>
                  <a:chExt cx="504360" cy="988200"/>
                </a:xfrm>
              </p:grpSpPr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5236200" y="5065920"/>
                    <a:ext cx="367200" cy="712800"/>
                    <a:chOff x="5236200" y="5065920"/>
                    <a:chExt cx="367200" cy="712800"/>
                  </a:xfrm>
                </p:grpSpPr>
                <p:grpSp>
                  <p:nvGrpSpPr>
                    <p:cNvPr id="836" name=""/>
                    <p:cNvGrpSpPr/>
                    <p:nvPr/>
                  </p:nvGrpSpPr>
                  <p:grpSpPr>
                    <a:xfrm>
                      <a:off x="5236200" y="5065920"/>
                      <a:ext cx="367200" cy="712800"/>
                      <a:chOff x="5236200" y="5065920"/>
                      <a:chExt cx="367200" cy="712800"/>
                    </a:xfrm>
                  </p:grpSpPr>
                  <p:grpSp>
                    <p:nvGrpSpPr>
                      <p:cNvPr id="837" name=""/>
                      <p:cNvGrpSpPr/>
                      <p:nvPr/>
                    </p:nvGrpSpPr>
                    <p:grpSpPr>
                      <a:xfrm>
                        <a:off x="5333400" y="5111640"/>
                        <a:ext cx="270000" cy="579600"/>
                        <a:chOff x="5333400" y="5111640"/>
                        <a:chExt cx="270000" cy="579600"/>
                      </a:xfrm>
                    </p:grpSpPr>
                    <p:grpSp>
                      <p:nvGrpSpPr>
                        <p:cNvPr id="838" name=""/>
                        <p:cNvGrpSpPr/>
                        <p:nvPr/>
                      </p:nvGrpSpPr>
                      <p:grpSpPr>
                        <a:xfrm>
                          <a:off x="5366520" y="5111640"/>
                          <a:ext cx="236880" cy="579600"/>
                          <a:chOff x="5366520" y="5111640"/>
                          <a:chExt cx="236880" cy="579600"/>
                        </a:xfrm>
                      </p:grpSpPr>
                      <p:sp>
                        <p:nvSpPr>
                          <p:cNvPr id="839" name=""/>
                          <p:cNvSpPr/>
                          <p:nvPr/>
                        </p:nvSpPr>
                        <p:spPr>
                          <a:xfrm>
                            <a:off x="5500080" y="546372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0" name=""/>
                          <p:cNvSpPr/>
                          <p:nvPr/>
                        </p:nvSpPr>
                        <p:spPr>
                          <a:xfrm>
                            <a:off x="5396400" y="550836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1" name=""/>
                          <p:cNvSpPr/>
                          <p:nvPr/>
                        </p:nvSpPr>
                        <p:spPr>
                          <a:xfrm>
                            <a:off x="5465520" y="524124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2" name=""/>
                          <p:cNvSpPr/>
                          <p:nvPr/>
                        </p:nvSpPr>
                        <p:spPr>
                          <a:xfrm>
                            <a:off x="5366520" y="511164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3" name=""/>
                          <p:cNvSpPr/>
                          <p:nvPr/>
                        </p:nvSpPr>
                        <p:spPr>
                          <a:xfrm>
                            <a:off x="5465520" y="524124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>
                          <a:off x="5333400" y="528660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>
                          <a:off x="5333400" y="546372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>
                          <a:off x="5377320" y="520776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47" name=""/>
                      <p:cNvSpPr/>
                      <p:nvPr/>
                    </p:nvSpPr>
                    <p:spPr>
                      <a:xfrm>
                        <a:off x="5333400" y="564120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8" name=""/>
                      <p:cNvSpPr/>
                      <p:nvPr/>
                    </p:nvSpPr>
                    <p:spPr>
                      <a:xfrm>
                        <a:off x="5236200" y="506592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"/>
                      <p:cNvSpPr/>
                      <p:nvPr/>
                    </p:nvSpPr>
                    <p:spPr>
                      <a:xfrm>
                        <a:off x="5367960" y="560484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5357520" y="516348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099040" y="4928400"/>
                    <a:ext cx="338400" cy="894600"/>
                    <a:chOff x="5099040" y="4928400"/>
                    <a:chExt cx="338400" cy="89460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5130720" y="546444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5165280" y="519696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5099040" y="492840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5235840" y="511164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5165280" y="507240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5258160" y="553896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8" name=""/>
                  <p:cNvSpPr/>
                  <p:nvPr/>
                </p:nvSpPr>
                <p:spPr>
                  <a:xfrm>
                    <a:off x="5099040" y="5731920"/>
                    <a:ext cx="14148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199840" y="5708160"/>
                    <a:ext cx="7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" name=""/>
                <p:cNvSpPr/>
                <p:nvPr/>
              </p:nvSpPr>
              <p:spPr>
                <a:xfrm>
                  <a:off x="4774680" y="592992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935240" y="592992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026680" y="58600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90960" y="582372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3581280" y="4942800"/>
                <a:ext cx="487800" cy="836640"/>
                <a:chOff x="3581280" y="4942800"/>
                <a:chExt cx="487800" cy="836640"/>
              </a:xfrm>
            </p:grpSpPr>
            <p:grpSp>
              <p:nvGrpSpPr>
                <p:cNvPr id="865" name=""/>
                <p:cNvGrpSpPr/>
                <p:nvPr/>
              </p:nvGrpSpPr>
              <p:grpSpPr>
                <a:xfrm>
                  <a:off x="3581280" y="5065920"/>
                  <a:ext cx="254520" cy="494640"/>
                  <a:chOff x="3581280" y="5065920"/>
                  <a:chExt cx="254520" cy="49464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3581280" y="524160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600000" y="5378760"/>
                    <a:ext cx="136440" cy="181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3634560" y="5065920"/>
                    <a:ext cx="201240" cy="2736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3615840" y="526356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3666240" y="4942800"/>
                  <a:ext cx="402840" cy="836640"/>
                  <a:chOff x="3666240" y="4942800"/>
                  <a:chExt cx="402840" cy="83664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3803040" y="497268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66240" y="524196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3699360" y="537912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768480" y="550908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785760" y="515916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3947760" y="494280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3845520" y="511056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3710160" y="533520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9" name=""/>
                <p:cNvSpPr/>
                <p:nvPr/>
              </p:nvSpPr>
              <p:spPr>
                <a:xfrm>
                  <a:off x="3938760" y="503136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3831840" y="4800600"/>
                <a:ext cx="1472040" cy="1428480"/>
                <a:chOff x="3831840" y="4800600"/>
                <a:chExt cx="1472040" cy="142848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299840" y="484308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597560" y="480060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63960" y="519768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001760" y="546480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735080" y="555552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3867840" y="560124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831840" y="528768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963960" y="492840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367520" y="564228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935240" y="497304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32640" y="480060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949920" y="4911120"/>
                  <a:ext cx="1279440" cy="113256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3" name=""/>
            <p:cNvGrpSpPr/>
            <p:nvPr/>
          </p:nvGrpSpPr>
          <p:grpSpPr>
            <a:xfrm>
              <a:off x="3899520" y="4988880"/>
              <a:ext cx="1265760" cy="865080"/>
              <a:chOff x="3899520" y="4988880"/>
              <a:chExt cx="1265760" cy="865080"/>
            </a:xfrm>
          </p:grpSpPr>
          <p:sp>
            <p:nvSpPr>
              <p:cNvPr id="894" name=""/>
              <p:cNvSpPr/>
              <p:nvPr/>
            </p:nvSpPr>
            <p:spPr>
              <a:xfrm>
                <a:off x="3899520" y="4988880"/>
                <a:ext cx="1265760" cy="537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899520" y="5317560"/>
                <a:ext cx="1233720" cy="536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6" name=""/>
          <p:cNvGrpSpPr/>
          <p:nvPr/>
        </p:nvGrpSpPr>
        <p:grpSpPr>
          <a:xfrm>
            <a:off x="4952880" y="5257800"/>
            <a:ext cx="511200" cy="330120"/>
            <a:chOff x="4952880" y="5257800"/>
            <a:chExt cx="511200" cy="330120"/>
          </a:xfrm>
        </p:grpSpPr>
        <p:grpSp>
          <p:nvGrpSpPr>
            <p:cNvPr id="897" name=""/>
            <p:cNvGrpSpPr/>
            <p:nvPr/>
          </p:nvGrpSpPr>
          <p:grpSpPr>
            <a:xfrm>
              <a:off x="4953600" y="5300280"/>
              <a:ext cx="322560" cy="287640"/>
              <a:chOff x="4953600" y="5300280"/>
              <a:chExt cx="322560" cy="287640"/>
            </a:xfrm>
          </p:grpSpPr>
          <p:sp>
            <p:nvSpPr>
              <p:cNvPr id="898" name=""/>
              <p:cNvSpPr/>
              <p:nvPr/>
            </p:nvSpPr>
            <p:spPr>
              <a:xfrm>
                <a:off x="495360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5360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5276160" y="5310000"/>
              <a:ext cx="186120" cy="277920"/>
              <a:chOff x="5276160" y="5310000"/>
              <a:chExt cx="186120" cy="277920"/>
            </a:xfrm>
          </p:grpSpPr>
          <p:sp>
            <p:nvSpPr>
              <p:cNvPr id="901" name=""/>
              <p:cNvSpPr/>
              <p:nvPr/>
            </p:nvSpPr>
            <p:spPr>
              <a:xfrm>
                <a:off x="527616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27616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952880" y="5257800"/>
              <a:ext cx="511200" cy="115920"/>
              <a:chOff x="4952880" y="5257800"/>
              <a:chExt cx="511200" cy="115920"/>
            </a:xfrm>
          </p:grpSpPr>
          <p:sp>
            <p:nvSpPr>
              <p:cNvPr id="904" name=""/>
              <p:cNvSpPr/>
              <p:nvPr/>
            </p:nvSpPr>
            <p:spPr>
              <a:xfrm>
                <a:off x="495288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95288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497304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7304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7304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4992120" y="5348880"/>
              <a:ext cx="132840" cy="56160"/>
              <a:chOff x="4992120" y="5348880"/>
              <a:chExt cx="132840" cy="56160"/>
            </a:xfrm>
          </p:grpSpPr>
          <p:sp>
            <p:nvSpPr>
              <p:cNvPr id="910" name=""/>
              <p:cNvSpPr/>
              <p:nvPr/>
            </p:nvSpPr>
            <p:spPr>
              <a:xfrm>
                <a:off x="499212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99212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4990680" y="5409000"/>
              <a:ext cx="83160" cy="83880"/>
              <a:chOff x="4990680" y="5409000"/>
              <a:chExt cx="83160" cy="83880"/>
            </a:xfrm>
          </p:grpSpPr>
          <p:sp>
            <p:nvSpPr>
              <p:cNvPr id="913" name=""/>
              <p:cNvSpPr/>
              <p:nvPr/>
            </p:nvSpPr>
            <p:spPr>
              <a:xfrm>
                <a:off x="499068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99068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962520" y="5715000"/>
            <a:ext cx="507960" cy="330120"/>
            <a:chOff x="3962520" y="5715000"/>
            <a:chExt cx="507960" cy="330120"/>
          </a:xfrm>
        </p:grpSpPr>
        <p:grpSp>
          <p:nvGrpSpPr>
            <p:cNvPr id="916" name=""/>
            <p:cNvGrpSpPr/>
            <p:nvPr/>
          </p:nvGrpSpPr>
          <p:grpSpPr>
            <a:xfrm>
              <a:off x="3963240" y="5757480"/>
              <a:ext cx="320400" cy="287640"/>
              <a:chOff x="3963240" y="5757480"/>
              <a:chExt cx="320400" cy="287640"/>
            </a:xfrm>
          </p:grpSpPr>
          <p:sp>
            <p:nvSpPr>
              <p:cNvPr id="917" name=""/>
              <p:cNvSpPr/>
              <p:nvPr/>
            </p:nvSpPr>
            <p:spPr>
              <a:xfrm>
                <a:off x="3963240" y="575748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63240" y="575748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4284000" y="5767200"/>
              <a:ext cx="184680" cy="277920"/>
              <a:chOff x="4284000" y="5767200"/>
              <a:chExt cx="184680" cy="277920"/>
            </a:xfrm>
          </p:grpSpPr>
          <p:sp>
            <p:nvSpPr>
              <p:cNvPr id="920" name=""/>
              <p:cNvSpPr/>
              <p:nvPr/>
            </p:nvSpPr>
            <p:spPr>
              <a:xfrm>
                <a:off x="4284000" y="576720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284000" y="576720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3962520" y="5715000"/>
              <a:ext cx="507960" cy="115920"/>
              <a:chOff x="3962520" y="5715000"/>
              <a:chExt cx="507960" cy="115920"/>
            </a:xfrm>
          </p:grpSpPr>
          <p:sp>
            <p:nvSpPr>
              <p:cNvPr id="923" name=""/>
              <p:cNvSpPr/>
              <p:nvPr/>
            </p:nvSpPr>
            <p:spPr>
              <a:xfrm>
                <a:off x="3962520" y="571500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962520" y="571500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3982680" y="578340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82680" y="584532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82680" y="578340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001400" y="5806080"/>
              <a:ext cx="132120" cy="56160"/>
              <a:chOff x="4001400" y="5806080"/>
              <a:chExt cx="132120" cy="56160"/>
            </a:xfrm>
          </p:grpSpPr>
          <p:sp>
            <p:nvSpPr>
              <p:cNvPr id="929" name=""/>
              <p:cNvSpPr/>
              <p:nvPr/>
            </p:nvSpPr>
            <p:spPr>
              <a:xfrm>
                <a:off x="4001400" y="580608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01400" y="580608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3999960" y="5866200"/>
              <a:ext cx="82440" cy="83880"/>
              <a:chOff x="3999960" y="5866200"/>
              <a:chExt cx="82440" cy="83880"/>
            </a:xfrm>
          </p:grpSpPr>
          <p:sp>
            <p:nvSpPr>
              <p:cNvPr id="932" name=""/>
              <p:cNvSpPr/>
              <p:nvPr/>
            </p:nvSpPr>
            <p:spPr>
              <a:xfrm>
                <a:off x="3999960" y="586620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9960" y="586620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4" name=""/>
          <p:cNvGrpSpPr/>
          <p:nvPr/>
        </p:nvGrpSpPr>
        <p:grpSpPr>
          <a:xfrm>
            <a:off x="4343400" y="5334120"/>
            <a:ext cx="511200" cy="330120"/>
            <a:chOff x="4343400" y="5334120"/>
            <a:chExt cx="511200" cy="330120"/>
          </a:xfrm>
        </p:grpSpPr>
        <p:grpSp>
          <p:nvGrpSpPr>
            <p:cNvPr id="935" name=""/>
            <p:cNvGrpSpPr/>
            <p:nvPr/>
          </p:nvGrpSpPr>
          <p:grpSpPr>
            <a:xfrm>
              <a:off x="4344120" y="5376600"/>
              <a:ext cx="322560" cy="287640"/>
              <a:chOff x="4344120" y="5376600"/>
              <a:chExt cx="322560" cy="287640"/>
            </a:xfrm>
          </p:grpSpPr>
          <p:sp>
            <p:nvSpPr>
              <p:cNvPr id="936" name=""/>
              <p:cNvSpPr/>
              <p:nvPr/>
            </p:nvSpPr>
            <p:spPr>
              <a:xfrm>
                <a:off x="4344120" y="53766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344120" y="53766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666680" y="5386320"/>
              <a:ext cx="186120" cy="277920"/>
              <a:chOff x="4666680" y="5386320"/>
              <a:chExt cx="186120" cy="277920"/>
            </a:xfrm>
          </p:grpSpPr>
          <p:sp>
            <p:nvSpPr>
              <p:cNvPr id="939" name=""/>
              <p:cNvSpPr/>
              <p:nvPr/>
            </p:nvSpPr>
            <p:spPr>
              <a:xfrm>
                <a:off x="4666680" y="53863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666680" y="53863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4343400" y="5334120"/>
              <a:ext cx="511200" cy="115920"/>
              <a:chOff x="4343400" y="5334120"/>
              <a:chExt cx="511200" cy="115920"/>
            </a:xfrm>
          </p:grpSpPr>
          <p:sp>
            <p:nvSpPr>
              <p:cNvPr id="942" name=""/>
              <p:cNvSpPr/>
              <p:nvPr/>
            </p:nvSpPr>
            <p:spPr>
              <a:xfrm>
                <a:off x="4343400" y="53341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343400" y="53341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4363560" y="54025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63560" y="54644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63560" y="54025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4382640" y="5425200"/>
              <a:ext cx="132840" cy="56160"/>
              <a:chOff x="4382640" y="5425200"/>
              <a:chExt cx="132840" cy="56160"/>
            </a:xfrm>
          </p:grpSpPr>
          <p:sp>
            <p:nvSpPr>
              <p:cNvPr id="948" name=""/>
              <p:cNvSpPr/>
              <p:nvPr/>
            </p:nvSpPr>
            <p:spPr>
              <a:xfrm>
                <a:off x="4382640" y="54252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382640" y="54252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4381200" y="5485320"/>
              <a:ext cx="83160" cy="83880"/>
              <a:chOff x="4381200" y="5485320"/>
              <a:chExt cx="83160" cy="83880"/>
            </a:xfrm>
          </p:grpSpPr>
          <p:sp>
            <p:nvSpPr>
              <p:cNvPr id="951" name=""/>
              <p:cNvSpPr/>
              <p:nvPr/>
            </p:nvSpPr>
            <p:spPr>
              <a:xfrm>
                <a:off x="4381200" y="54853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381200" y="54853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954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955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958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961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967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970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"/>
          <p:cNvGrpSpPr/>
          <p:nvPr/>
        </p:nvGrpSpPr>
        <p:grpSpPr>
          <a:xfrm>
            <a:off x="3657600" y="5276880"/>
            <a:ext cx="511200" cy="330120"/>
            <a:chOff x="3657600" y="5276880"/>
            <a:chExt cx="511200" cy="330120"/>
          </a:xfrm>
        </p:grpSpPr>
        <p:grpSp>
          <p:nvGrpSpPr>
            <p:cNvPr id="973" name=""/>
            <p:cNvGrpSpPr/>
            <p:nvPr/>
          </p:nvGrpSpPr>
          <p:grpSpPr>
            <a:xfrm>
              <a:off x="3658320" y="5319360"/>
              <a:ext cx="322560" cy="287640"/>
              <a:chOff x="3658320" y="5319360"/>
              <a:chExt cx="322560" cy="287640"/>
            </a:xfrm>
          </p:grpSpPr>
          <p:sp>
            <p:nvSpPr>
              <p:cNvPr id="974" name=""/>
              <p:cNvSpPr/>
              <p:nvPr/>
            </p:nvSpPr>
            <p:spPr>
              <a:xfrm>
                <a:off x="3658320" y="531936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658320" y="531936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3980880" y="5329080"/>
              <a:ext cx="186120" cy="277920"/>
              <a:chOff x="3980880" y="5329080"/>
              <a:chExt cx="186120" cy="277920"/>
            </a:xfrm>
          </p:grpSpPr>
          <p:sp>
            <p:nvSpPr>
              <p:cNvPr id="977" name=""/>
              <p:cNvSpPr/>
              <p:nvPr/>
            </p:nvSpPr>
            <p:spPr>
              <a:xfrm>
                <a:off x="3980880" y="532908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980880" y="532908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657600" y="5276880"/>
              <a:ext cx="511200" cy="115920"/>
              <a:chOff x="3657600" y="5276880"/>
              <a:chExt cx="511200" cy="115920"/>
            </a:xfrm>
          </p:grpSpPr>
          <p:sp>
            <p:nvSpPr>
              <p:cNvPr id="980" name=""/>
              <p:cNvSpPr/>
              <p:nvPr/>
            </p:nvSpPr>
            <p:spPr>
              <a:xfrm>
                <a:off x="3657600" y="52768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57600" y="52768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3677760" y="534528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77760" y="540720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677760" y="534528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3696840" y="5367960"/>
              <a:ext cx="132840" cy="56160"/>
              <a:chOff x="3696840" y="5367960"/>
              <a:chExt cx="132840" cy="56160"/>
            </a:xfrm>
          </p:grpSpPr>
          <p:sp>
            <p:nvSpPr>
              <p:cNvPr id="986" name=""/>
              <p:cNvSpPr/>
              <p:nvPr/>
            </p:nvSpPr>
            <p:spPr>
              <a:xfrm>
                <a:off x="3696840" y="53679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696840" y="53679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3695400" y="5428080"/>
              <a:ext cx="83160" cy="83880"/>
              <a:chOff x="3695400" y="5428080"/>
              <a:chExt cx="83160" cy="83880"/>
            </a:xfrm>
          </p:grpSpPr>
          <p:sp>
            <p:nvSpPr>
              <p:cNvPr id="989" name=""/>
              <p:cNvSpPr/>
              <p:nvPr/>
            </p:nvSpPr>
            <p:spPr>
              <a:xfrm>
                <a:off x="3695400" y="542808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695400" y="542808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1" name=""/>
          <p:cNvGrpSpPr/>
          <p:nvPr/>
        </p:nvGrpSpPr>
        <p:grpSpPr>
          <a:xfrm>
            <a:off x="4648320" y="5638680"/>
            <a:ext cx="511200" cy="330480"/>
            <a:chOff x="4648320" y="5638680"/>
            <a:chExt cx="511200" cy="330480"/>
          </a:xfrm>
        </p:grpSpPr>
        <p:grpSp>
          <p:nvGrpSpPr>
            <p:cNvPr id="992" name=""/>
            <p:cNvGrpSpPr/>
            <p:nvPr/>
          </p:nvGrpSpPr>
          <p:grpSpPr>
            <a:xfrm>
              <a:off x="4649040" y="5681160"/>
              <a:ext cx="322560" cy="288000"/>
              <a:chOff x="4649040" y="5681160"/>
              <a:chExt cx="322560" cy="288000"/>
            </a:xfrm>
          </p:grpSpPr>
          <p:sp>
            <p:nvSpPr>
              <p:cNvPr id="993" name=""/>
              <p:cNvSpPr/>
              <p:nvPr/>
            </p:nvSpPr>
            <p:spPr>
              <a:xfrm>
                <a:off x="4649040" y="56811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49040" y="56811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4971600" y="5690880"/>
              <a:ext cx="186120" cy="278280"/>
              <a:chOff x="4971600" y="5690880"/>
              <a:chExt cx="186120" cy="278280"/>
            </a:xfrm>
          </p:grpSpPr>
          <p:sp>
            <p:nvSpPr>
              <p:cNvPr id="996" name=""/>
              <p:cNvSpPr/>
              <p:nvPr/>
            </p:nvSpPr>
            <p:spPr>
              <a:xfrm>
                <a:off x="4971600" y="56908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971600" y="56908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4648320" y="5638680"/>
              <a:ext cx="511200" cy="115920"/>
              <a:chOff x="4648320" y="5638680"/>
              <a:chExt cx="511200" cy="115920"/>
            </a:xfrm>
          </p:grpSpPr>
          <p:sp>
            <p:nvSpPr>
              <p:cNvPr id="999" name=""/>
              <p:cNvSpPr/>
              <p:nvPr/>
            </p:nvSpPr>
            <p:spPr>
              <a:xfrm>
                <a:off x="4648320" y="56386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648320" y="56386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668480" y="57070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68480" y="57693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668480" y="57070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4687560" y="5729760"/>
              <a:ext cx="132840" cy="56160"/>
              <a:chOff x="4687560" y="5729760"/>
              <a:chExt cx="132840" cy="56160"/>
            </a:xfrm>
          </p:grpSpPr>
          <p:sp>
            <p:nvSpPr>
              <p:cNvPr id="1005" name=""/>
              <p:cNvSpPr/>
              <p:nvPr/>
            </p:nvSpPr>
            <p:spPr>
              <a:xfrm>
                <a:off x="4687560" y="57297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687560" y="57297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4686120" y="5789880"/>
              <a:ext cx="83160" cy="84240"/>
              <a:chOff x="4686120" y="5789880"/>
              <a:chExt cx="83160" cy="84240"/>
            </a:xfrm>
          </p:grpSpPr>
          <p:sp>
            <p:nvSpPr>
              <p:cNvPr id="1008" name=""/>
              <p:cNvSpPr/>
              <p:nvPr/>
            </p:nvSpPr>
            <p:spPr>
              <a:xfrm>
                <a:off x="4686120" y="57898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686120" y="57898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1018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1019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1022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1025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1031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1034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1037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1041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1049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1055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1058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1061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1064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1067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1070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1077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1078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1081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1084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1089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1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1095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1098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1101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1104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1107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1110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1117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1118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1121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1124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1128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1129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1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1135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1138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1141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1144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1147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1150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1159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1161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7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1168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1169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1172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1175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1181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1184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6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1187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1188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1191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1194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1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1205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1208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1211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1214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1217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1220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2058840" y="2514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1228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1229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1232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1235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1241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1244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6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1247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1248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1251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1254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1260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1263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5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1266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1267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1270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1273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1279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1282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4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67080" y="3581280"/>
            <a:ext cx="685800" cy="5558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838080" y="3151080"/>
            <a:ext cx="385920" cy="1652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1290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1291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1294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1301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4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1308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1311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1314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1320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1323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1752480" y="3581280"/>
            <a:ext cx="22860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85800" y="68580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  PATH message arrives at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85800" y="100476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  Router applies send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514240" y="3276720"/>
            <a:ext cx="762120" cy="7617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522880" y="609588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425680" y="4267080"/>
            <a:ext cx="154080" cy="281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85800" y="130968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  Sender approved, PATH forwarded to next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85800" y="160020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  Next router applies send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3276720" y="3250800"/>
            <a:ext cx="164880" cy="13208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85800" y="1905120"/>
            <a:ext cx="822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  Sender approved, PATH forwarded to Diff-Serv ingress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352680" y="5029200"/>
            <a:ext cx="304920" cy="3808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85800" y="2209680"/>
            <a:ext cx="822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.  Diff-Serv ingress router checks for admissibility against S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4595760" y="4143240"/>
            <a:ext cx="6480" cy="5810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4595400" y="464832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1364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1365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1368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1371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1377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1380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2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1383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1387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1390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3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1394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1401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1404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1407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1410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1413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1416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1423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1424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1427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1430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1434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1441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1444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1447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1450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1453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1456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8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1465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1467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3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3581280" y="4876920"/>
            <a:ext cx="2022120" cy="1428120"/>
            <a:chOff x="3581280" y="4876920"/>
            <a:chExt cx="2022120" cy="1428120"/>
          </a:xfrm>
        </p:grpSpPr>
        <p:grpSp>
          <p:nvGrpSpPr>
            <p:cNvPr id="1475" name=""/>
            <p:cNvGrpSpPr/>
            <p:nvPr/>
          </p:nvGrpSpPr>
          <p:grpSpPr>
            <a:xfrm>
              <a:off x="3581280" y="4876920"/>
              <a:ext cx="2022120" cy="1428120"/>
              <a:chOff x="3581280" y="4876920"/>
              <a:chExt cx="2022120" cy="1428120"/>
            </a:xfrm>
          </p:grpSpPr>
          <p:grpSp>
            <p:nvGrpSpPr>
              <p:cNvPr id="1476" name=""/>
              <p:cNvGrpSpPr/>
              <p:nvPr/>
            </p:nvGrpSpPr>
            <p:grpSpPr>
              <a:xfrm>
                <a:off x="4774680" y="5004720"/>
                <a:ext cx="828720" cy="1228680"/>
                <a:chOff x="4774680" y="5004720"/>
                <a:chExt cx="828720" cy="1228680"/>
              </a:xfrm>
            </p:grpSpPr>
            <p:grpSp>
              <p:nvGrpSpPr>
                <p:cNvPr id="1477" name=""/>
                <p:cNvGrpSpPr/>
                <p:nvPr/>
              </p:nvGrpSpPr>
              <p:grpSpPr>
                <a:xfrm>
                  <a:off x="5099040" y="5004720"/>
                  <a:ext cx="504360" cy="987840"/>
                  <a:chOff x="5099040" y="5004720"/>
                  <a:chExt cx="504360" cy="987840"/>
                </a:xfrm>
              </p:grpSpPr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5236200" y="5142240"/>
                    <a:ext cx="367200" cy="712800"/>
                    <a:chOff x="5236200" y="5142240"/>
                    <a:chExt cx="367200" cy="712800"/>
                  </a:xfrm>
                </p:grpSpPr>
                <p:grpSp>
                  <p:nvGrpSpPr>
                    <p:cNvPr id="1479" name=""/>
                    <p:cNvGrpSpPr/>
                    <p:nvPr/>
                  </p:nvGrpSpPr>
                  <p:grpSpPr>
                    <a:xfrm>
                      <a:off x="5236200" y="5142240"/>
                      <a:ext cx="367200" cy="712800"/>
                      <a:chOff x="5236200" y="5142240"/>
                      <a:chExt cx="367200" cy="712800"/>
                    </a:xfrm>
                  </p:grpSpPr>
                  <p:grpSp>
                    <p:nvGrpSpPr>
                      <p:cNvPr id="1480" name=""/>
                      <p:cNvGrpSpPr/>
                      <p:nvPr/>
                    </p:nvGrpSpPr>
                    <p:grpSpPr>
                      <a:xfrm>
                        <a:off x="5333400" y="5187960"/>
                        <a:ext cx="270000" cy="579600"/>
                        <a:chOff x="5333400" y="5187960"/>
                        <a:chExt cx="270000" cy="579600"/>
                      </a:xfrm>
                    </p:grpSpPr>
                    <p:grpSp>
                      <p:nvGrpSpPr>
                        <p:cNvPr id="1481" name=""/>
                        <p:cNvGrpSpPr/>
                        <p:nvPr/>
                      </p:nvGrpSpPr>
                      <p:grpSpPr>
                        <a:xfrm>
                          <a:off x="5366520" y="5187960"/>
                          <a:ext cx="236880" cy="579600"/>
                          <a:chOff x="5366520" y="5187960"/>
                          <a:chExt cx="236880" cy="579600"/>
                        </a:xfrm>
                      </p:grpSpPr>
                      <p:sp>
                        <p:nvSpPr>
                          <p:cNvPr id="1482" name=""/>
                          <p:cNvSpPr/>
                          <p:nvPr/>
                        </p:nvSpPr>
                        <p:spPr>
                          <a:xfrm>
                            <a:off x="5500080" y="554004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83" name=""/>
                          <p:cNvSpPr/>
                          <p:nvPr/>
                        </p:nvSpPr>
                        <p:spPr>
                          <a:xfrm>
                            <a:off x="5396400" y="558468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84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85" name=""/>
                          <p:cNvSpPr/>
                          <p:nvPr/>
                        </p:nvSpPr>
                        <p:spPr>
                          <a:xfrm>
                            <a:off x="5366520" y="518796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86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87" name=""/>
                        <p:cNvSpPr/>
                        <p:nvPr/>
                      </p:nvSpPr>
                      <p:spPr>
                        <a:xfrm>
                          <a:off x="5333400" y="536292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8" name=""/>
                        <p:cNvSpPr/>
                        <p:nvPr/>
                      </p:nvSpPr>
                      <p:spPr>
                        <a:xfrm>
                          <a:off x="5333400" y="554004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9" name=""/>
                        <p:cNvSpPr/>
                        <p:nvPr/>
                      </p:nvSpPr>
                      <p:spPr>
                        <a:xfrm>
                          <a:off x="5377320" y="528408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490" name=""/>
                      <p:cNvSpPr/>
                      <p:nvPr/>
                    </p:nvSpPr>
                    <p:spPr>
                      <a:xfrm>
                        <a:off x="5333400" y="571752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1" name=""/>
                      <p:cNvSpPr/>
                      <p:nvPr/>
                    </p:nvSpPr>
                    <p:spPr>
                      <a:xfrm>
                        <a:off x="5236200" y="514224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2" name=""/>
                      <p:cNvSpPr/>
                      <p:nvPr/>
                    </p:nvSpPr>
                    <p:spPr>
                      <a:xfrm>
                        <a:off x="5367960" y="568116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5357520" y="523980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5099040" y="5004720"/>
                    <a:ext cx="338400" cy="894600"/>
                    <a:chOff x="5099040" y="5004720"/>
                    <a:chExt cx="338400" cy="89460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5130720" y="554076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5165280" y="527328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099040" y="500472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235840" y="518796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5280" y="514872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258160" y="561528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01" name=""/>
                  <p:cNvSpPr/>
                  <p:nvPr/>
                </p:nvSpPr>
                <p:spPr>
                  <a:xfrm>
                    <a:off x="5099040" y="5808240"/>
                    <a:ext cx="141480" cy="184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5199840" y="5784120"/>
                    <a:ext cx="723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3" name=""/>
                <p:cNvSpPr/>
                <p:nvPr/>
              </p:nvSpPr>
              <p:spPr>
                <a:xfrm>
                  <a:off x="4774680" y="600588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4935240" y="60058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026680" y="593640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4890960" y="589968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7" name=""/>
              <p:cNvGrpSpPr/>
              <p:nvPr/>
            </p:nvGrpSpPr>
            <p:grpSpPr>
              <a:xfrm>
                <a:off x="3581280" y="5019120"/>
                <a:ext cx="487800" cy="836280"/>
                <a:chOff x="3581280" y="5019120"/>
                <a:chExt cx="487800" cy="836280"/>
              </a:xfrm>
            </p:grpSpPr>
            <p:grpSp>
              <p:nvGrpSpPr>
                <p:cNvPr id="1508" name=""/>
                <p:cNvGrpSpPr/>
                <p:nvPr/>
              </p:nvGrpSpPr>
              <p:grpSpPr>
                <a:xfrm>
                  <a:off x="3581280" y="5142240"/>
                  <a:ext cx="254520" cy="494280"/>
                  <a:chOff x="3581280" y="5142240"/>
                  <a:chExt cx="254520" cy="49428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3581280" y="531756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00000" y="5455080"/>
                    <a:ext cx="136440" cy="1814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3634560" y="5142240"/>
                    <a:ext cx="201240" cy="2732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615840" y="533952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3" name=""/>
                <p:cNvGrpSpPr/>
                <p:nvPr/>
              </p:nvGrpSpPr>
              <p:grpSpPr>
                <a:xfrm>
                  <a:off x="3666240" y="5019120"/>
                  <a:ext cx="402840" cy="836280"/>
                  <a:chOff x="3666240" y="5019120"/>
                  <a:chExt cx="402840" cy="836280"/>
                </a:xfrm>
              </p:grpSpPr>
              <p:sp>
                <p:nvSpPr>
                  <p:cNvPr id="1514" name=""/>
                  <p:cNvSpPr/>
                  <p:nvPr/>
                </p:nvSpPr>
                <p:spPr>
                  <a:xfrm>
                    <a:off x="3803040" y="504900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3666240" y="531792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3699360" y="545544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3768480" y="558504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85760" y="523548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947760" y="501912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845520" y="518688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3710160" y="541116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2" name=""/>
                <p:cNvSpPr/>
                <p:nvPr/>
              </p:nvSpPr>
              <p:spPr>
                <a:xfrm>
                  <a:off x="3938760" y="510768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3831840" y="4876920"/>
                <a:ext cx="1472040" cy="1428120"/>
                <a:chOff x="3831840" y="4876920"/>
                <a:chExt cx="1472040" cy="14281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4299840" y="491940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4597560" y="487692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4863960" y="527400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001760" y="554112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735080" y="563148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867840" y="567756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3831840" y="536400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963960" y="500472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367520" y="571824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935240" y="504936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832640" y="487692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3949920" y="4987440"/>
                  <a:ext cx="1279440" cy="113220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6" name=""/>
            <p:cNvGrpSpPr/>
            <p:nvPr/>
          </p:nvGrpSpPr>
          <p:grpSpPr>
            <a:xfrm>
              <a:off x="3899520" y="5065200"/>
              <a:ext cx="1265760" cy="864720"/>
              <a:chOff x="3899520" y="5065200"/>
              <a:chExt cx="1265760" cy="864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3899520" y="5065200"/>
                <a:ext cx="1265760" cy="5374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899520" y="5393880"/>
                <a:ext cx="1233720" cy="536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9" name=""/>
          <p:cNvGrpSpPr/>
          <p:nvPr/>
        </p:nvGrpSpPr>
        <p:grpSpPr>
          <a:xfrm>
            <a:off x="5029200" y="5257800"/>
            <a:ext cx="511200" cy="330120"/>
            <a:chOff x="5029200" y="5257800"/>
            <a:chExt cx="511200" cy="330120"/>
          </a:xfrm>
        </p:grpSpPr>
        <p:grpSp>
          <p:nvGrpSpPr>
            <p:cNvPr id="1540" name=""/>
            <p:cNvGrpSpPr/>
            <p:nvPr/>
          </p:nvGrpSpPr>
          <p:grpSpPr>
            <a:xfrm>
              <a:off x="5029920" y="5300280"/>
              <a:ext cx="322560" cy="287640"/>
              <a:chOff x="5029920" y="5300280"/>
              <a:chExt cx="322560" cy="287640"/>
            </a:xfrm>
          </p:grpSpPr>
          <p:sp>
            <p:nvSpPr>
              <p:cNvPr id="1541" name=""/>
              <p:cNvSpPr/>
              <p:nvPr/>
            </p:nvSpPr>
            <p:spPr>
              <a:xfrm>
                <a:off x="502992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02992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352480" y="5310000"/>
              <a:ext cx="186120" cy="277920"/>
              <a:chOff x="5352480" y="5310000"/>
              <a:chExt cx="186120" cy="277920"/>
            </a:xfrm>
          </p:grpSpPr>
          <p:sp>
            <p:nvSpPr>
              <p:cNvPr id="1544" name=""/>
              <p:cNvSpPr/>
              <p:nvPr/>
            </p:nvSpPr>
            <p:spPr>
              <a:xfrm>
                <a:off x="535248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35248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5029200" y="5257800"/>
              <a:ext cx="511200" cy="115920"/>
              <a:chOff x="5029200" y="5257800"/>
              <a:chExt cx="511200" cy="115920"/>
            </a:xfrm>
          </p:grpSpPr>
          <p:sp>
            <p:nvSpPr>
              <p:cNvPr id="1547" name=""/>
              <p:cNvSpPr/>
              <p:nvPr/>
            </p:nvSpPr>
            <p:spPr>
              <a:xfrm>
                <a:off x="502920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02920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504936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04936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04936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2" name=""/>
            <p:cNvGrpSpPr/>
            <p:nvPr/>
          </p:nvGrpSpPr>
          <p:grpSpPr>
            <a:xfrm>
              <a:off x="5068440" y="5348880"/>
              <a:ext cx="132840" cy="56160"/>
              <a:chOff x="5068440" y="5348880"/>
              <a:chExt cx="132840" cy="56160"/>
            </a:xfrm>
          </p:grpSpPr>
          <p:sp>
            <p:nvSpPr>
              <p:cNvPr id="1553" name=""/>
              <p:cNvSpPr/>
              <p:nvPr/>
            </p:nvSpPr>
            <p:spPr>
              <a:xfrm>
                <a:off x="506844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6844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5067000" y="5409000"/>
              <a:ext cx="83160" cy="83880"/>
              <a:chOff x="5067000" y="5409000"/>
              <a:chExt cx="83160" cy="83880"/>
            </a:xfrm>
          </p:grpSpPr>
          <p:sp>
            <p:nvSpPr>
              <p:cNvPr id="1556" name=""/>
              <p:cNvSpPr/>
              <p:nvPr/>
            </p:nvSpPr>
            <p:spPr>
              <a:xfrm>
                <a:off x="506700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06700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8" name=""/>
          <p:cNvGrpSpPr/>
          <p:nvPr/>
        </p:nvGrpSpPr>
        <p:grpSpPr>
          <a:xfrm>
            <a:off x="3962520" y="5562720"/>
            <a:ext cx="507960" cy="330120"/>
            <a:chOff x="3962520" y="5562720"/>
            <a:chExt cx="507960" cy="330120"/>
          </a:xfrm>
        </p:grpSpPr>
        <p:grpSp>
          <p:nvGrpSpPr>
            <p:cNvPr id="1559" name=""/>
            <p:cNvGrpSpPr/>
            <p:nvPr/>
          </p:nvGrpSpPr>
          <p:grpSpPr>
            <a:xfrm>
              <a:off x="3963240" y="5605200"/>
              <a:ext cx="320400" cy="287640"/>
              <a:chOff x="3963240" y="5605200"/>
              <a:chExt cx="320400" cy="287640"/>
            </a:xfrm>
          </p:grpSpPr>
          <p:sp>
            <p:nvSpPr>
              <p:cNvPr id="1560" name=""/>
              <p:cNvSpPr/>
              <p:nvPr/>
            </p:nvSpPr>
            <p:spPr>
              <a:xfrm>
                <a:off x="396324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96324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"/>
            <p:cNvGrpSpPr/>
            <p:nvPr/>
          </p:nvGrpSpPr>
          <p:grpSpPr>
            <a:xfrm>
              <a:off x="4284000" y="5614920"/>
              <a:ext cx="184680" cy="277920"/>
              <a:chOff x="4284000" y="5614920"/>
              <a:chExt cx="184680" cy="277920"/>
            </a:xfrm>
          </p:grpSpPr>
          <p:sp>
            <p:nvSpPr>
              <p:cNvPr id="1563" name=""/>
              <p:cNvSpPr/>
              <p:nvPr/>
            </p:nvSpPr>
            <p:spPr>
              <a:xfrm>
                <a:off x="428400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8400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3962520" y="5562720"/>
              <a:ext cx="507960" cy="115920"/>
              <a:chOff x="3962520" y="5562720"/>
              <a:chExt cx="507960" cy="115920"/>
            </a:xfrm>
          </p:grpSpPr>
          <p:sp>
            <p:nvSpPr>
              <p:cNvPr id="1566" name=""/>
              <p:cNvSpPr/>
              <p:nvPr/>
            </p:nvSpPr>
            <p:spPr>
              <a:xfrm>
                <a:off x="396252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6252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3982680" y="563112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982680" y="569304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982680" y="563112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1" name=""/>
            <p:cNvGrpSpPr/>
            <p:nvPr/>
          </p:nvGrpSpPr>
          <p:grpSpPr>
            <a:xfrm>
              <a:off x="4001400" y="5653800"/>
              <a:ext cx="132120" cy="56160"/>
              <a:chOff x="4001400" y="5653800"/>
              <a:chExt cx="132120" cy="56160"/>
            </a:xfrm>
          </p:grpSpPr>
          <p:sp>
            <p:nvSpPr>
              <p:cNvPr id="1572" name=""/>
              <p:cNvSpPr/>
              <p:nvPr/>
            </p:nvSpPr>
            <p:spPr>
              <a:xfrm>
                <a:off x="400140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00140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3999960" y="5713920"/>
              <a:ext cx="82440" cy="83880"/>
              <a:chOff x="3999960" y="5713920"/>
              <a:chExt cx="82440" cy="83880"/>
            </a:xfrm>
          </p:grpSpPr>
          <p:sp>
            <p:nvSpPr>
              <p:cNvPr id="1575" name=""/>
              <p:cNvSpPr/>
              <p:nvPr/>
            </p:nvSpPr>
            <p:spPr>
              <a:xfrm>
                <a:off x="399996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9996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267080" y="5181480"/>
            <a:ext cx="511200" cy="330480"/>
            <a:chOff x="4267080" y="5181480"/>
            <a:chExt cx="511200" cy="330480"/>
          </a:xfrm>
        </p:grpSpPr>
        <p:grpSp>
          <p:nvGrpSpPr>
            <p:cNvPr id="1578" name=""/>
            <p:cNvGrpSpPr/>
            <p:nvPr/>
          </p:nvGrpSpPr>
          <p:grpSpPr>
            <a:xfrm>
              <a:off x="4267800" y="5223960"/>
              <a:ext cx="322560" cy="288000"/>
              <a:chOff x="4267800" y="5223960"/>
              <a:chExt cx="322560" cy="288000"/>
            </a:xfrm>
          </p:grpSpPr>
          <p:sp>
            <p:nvSpPr>
              <p:cNvPr id="1579" name=""/>
              <p:cNvSpPr/>
              <p:nvPr/>
            </p:nvSpPr>
            <p:spPr>
              <a:xfrm>
                <a:off x="4267800" y="52239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267800" y="52239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4590360" y="5233680"/>
              <a:ext cx="186120" cy="278280"/>
              <a:chOff x="4590360" y="5233680"/>
              <a:chExt cx="186120" cy="278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4590360" y="52336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590360" y="52336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4267080" y="5181480"/>
              <a:ext cx="511200" cy="115920"/>
              <a:chOff x="4267080" y="5181480"/>
              <a:chExt cx="511200" cy="115920"/>
            </a:xfrm>
          </p:grpSpPr>
          <p:sp>
            <p:nvSpPr>
              <p:cNvPr id="1585" name=""/>
              <p:cNvSpPr/>
              <p:nvPr/>
            </p:nvSpPr>
            <p:spPr>
              <a:xfrm>
                <a:off x="4267080" y="51814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267080" y="51814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4287240" y="52498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287240" y="53121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287240" y="52498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4306320" y="5272560"/>
              <a:ext cx="132840" cy="56160"/>
              <a:chOff x="4306320" y="5272560"/>
              <a:chExt cx="132840" cy="56160"/>
            </a:xfrm>
          </p:grpSpPr>
          <p:sp>
            <p:nvSpPr>
              <p:cNvPr id="1591" name=""/>
              <p:cNvSpPr/>
              <p:nvPr/>
            </p:nvSpPr>
            <p:spPr>
              <a:xfrm>
                <a:off x="4306320" y="52725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306320" y="52725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4304880" y="5332680"/>
              <a:ext cx="83160" cy="84240"/>
              <a:chOff x="4304880" y="5332680"/>
              <a:chExt cx="83160" cy="84240"/>
            </a:xfrm>
          </p:grpSpPr>
          <p:sp>
            <p:nvSpPr>
              <p:cNvPr id="1594" name=""/>
              <p:cNvSpPr/>
              <p:nvPr/>
            </p:nvSpPr>
            <p:spPr>
              <a:xfrm>
                <a:off x="4304880" y="53326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304880" y="53326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6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1597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1598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1601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1604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9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1610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1613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5" name=""/>
          <p:cNvGrpSpPr/>
          <p:nvPr/>
        </p:nvGrpSpPr>
        <p:grpSpPr>
          <a:xfrm>
            <a:off x="3581280" y="5257800"/>
            <a:ext cx="511200" cy="330120"/>
            <a:chOff x="3581280" y="5257800"/>
            <a:chExt cx="511200" cy="330120"/>
          </a:xfrm>
        </p:grpSpPr>
        <p:grpSp>
          <p:nvGrpSpPr>
            <p:cNvPr id="1616" name=""/>
            <p:cNvGrpSpPr/>
            <p:nvPr/>
          </p:nvGrpSpPr>
          <p:grpSpPr>
            <a:xfrm>
              <a:off x="3582000" y="5300280"/>
              <a:ext cx="322560" cy="287640"/>
              <a:chOff x="3582000" y="5300280"/>
              <a:chExt cx="322560" cy="287640"/>
            </a:xfrm>
          </p:grpSpPr>
          <p:sp>
            <p:nvSpPr>
              <p:cNvPr id="1617" name=""/>
              <p:cNvSpPr/>
              <p:nvPr/>
            </p:nvSpPr>
            <p:spPr>
              <a:xfrm>
                <a:off x="358200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8200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3904560" y="5310000"/>
              <a:ext cx="186120" cy="277920"/>
              <a:chOff x="3904560" y="5310000"/>
              <a:chExt cx="186120" cy="277920"/>
            </a:xfrm>
          </p:grpSpPr>
          <p:sp>
            <p:nvSpPr>
              <p:cNvPr id="1620" name=""/>
              <p:cNvSpPr/>
              <p:nvPr/>
            </p:nvSpPr>
            <p:spPr>
              <a:xfrm>
                <a:off x="390456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90456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3581280" y="5257800"/>
              <a:ext cx="511200" cy="115920"/>
              <a:chOff x="3581280" y="5257800"/>
              <a:chExt cx="511200" cy="115920"/>
            </a:xfrm>
          </p:grpSpPr>
          <p:sp>
            <p:nvSpPr>
              <p:cNvPr id="1623" name=""/>
              <p:cNvSpPr/>
              <p:nvPr/>
            </p:nvSpPr>
            <p:spPr>
              <a:xfrm>
                <a:off x="358128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58128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360144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60144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60144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8" name=""/>
            <p:cNvGrpSpPr/>
            <p:nvPr/>
          </p:nvGrpSpPr>
          <p:grpSpPr>
            <a:xfrm>
              <a:off x="3620520" y="5348880"/>
              <a:ext cx="132840" cy="56160"/>
              <a:chOff x="3620520" y="5348880"/>
              <a:chExt cx="132840" cy="56160"/>
            </a:xfrm>
          </p:grpSpPr>
          <p:sp>
            <p:nvSpPr>
              <p:cNvPr id="1629" name=""/>
              <p:cNvSpPr/>
              <p:nvPr/>
            </p:nvSpPr>
            <p:spPr>
              <a:xfrm>
                <a:off x="362052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2052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3619080" y="5409000"/>
              <a:ext cx="83160" cy="83880"/>
              <a:chOff x="3619080" y="5409000"/>
              <a:chExt cx="83160" cy="83880"/>
            </a:xfrm>
          </p:grpSpPr>
          <p:sp>
            <p:nvSpPr>
              <p:cNvPr id="1632" name=""/>
              <p:cNvSpPr/>
              <p:nvPr/>
            </p:nvSpPr>
            <p:spPr>
              <a:xfrm>
                <a:off x="361908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61908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4" name=""/>
          <p:cNvGrpSpPr/>
          <p:nvPr/>
        </p:nvGrpSpPr>
        <p:grpSpPr>
          <a:xfrm>
            <a:off x="4648320" y="5562720"/>
            <a:ext cx="511200" cy="330120"/>
            <a:chOff x="4648320" y="5562720"/>
            <a:chExt cx="511200" cy="330120"/>
          </a:xfrm>
        </p:grpSpPr>
        <p:grpSp>
          <p:nvGrpSpPr>
            <p:cNvPr id="1635" name=""/>
            <p:cNvGrpSpPr/>
            <p:nvPr/>
          </p:nvGrpSpPr>
          <p:grpSpPr>
            <a:xfrm>
              <a:off x="4649040" y="5605200"/>
              <a:ext cx="322560" cy="287640"/>
              <a:chOff x="4649040" y="5605200"/>
              <a:chExt cx="322560" cy="287640"/>
            </a:xfrm>
          </p:grpSpPr>
          <p:sp>
            <p:nvSpPr>
              <p:cNvPr id="1636" name=""/>
              <p:cNvSpPr/>
              <p:nvPr/>
            </p:nvSpPr>
            <p:spPr>
              <a:xfrm>
                <a:off x="4649040" y="5605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649040" y="5605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4971600" y="5614920"/>
              <a:ext cx="186120" cy="277920"/>
              <a:chOff x="4971600" y="5614920"/>
              <a:chExt cx="186120" cy="277920"/>
            </a:xfrm>
          </p:grpSpPr>
          <p:sp>
            <p:nvSpPr>
              <p:cNvPr id="1639" name=""/>
              <p:cNvSpPr/>
              <p:nvPr/>
            </p:nvSpPr>
            <p:spPr>
              <a:xfrm>
                <a:off x="4971600" y="5614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971600" y="5614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4648320" y="5562720"/>
              <a:ext cx="511200" cy="115920"/>
              <a:chOff x="4648320" y="5562720"/>
              <a:chExt cx="511200" cy="115920"/>
            </a:xfrm>
          </p:grpSpPr>
          <p:sp>
            <p:nvSpPr>
              <p:cNvPr id="1642" name=""/>
              <p:cNvSpPr/>
              <p:nvPr/>
            </p:nvSpPr>
            <p:spPr>
              <a:xfrm>
                <a:off x="4648320" y="5562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648320" y="5562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4668480" y="5631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668480" y="5693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668480" y="5631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7" name=""/>
            <p:cNvGrpSpPr/>
            <p:nvPr/>
          </p:nvGrpSpPr>
          <p:grpSpPr>
            <a:xfrm>
              <a:off x="4687560" y="5653800"/>
              <a:ext cx="132840" cy="56160"/>
              <a:chOff x="4687560" y="5653800"/>
              <a:chExt cx="132840" cy="56160"/>
            </a:xfrm>
          </p:grpSpPr>
          <p:sp>
            <p:nvSpPr>
              <p:cNvPr id="1648" name=""/>
              <p:cNvSpPr/>
              <p:nvPr/>
            </p:nvSpPr>
            <p:spPr>
              <a:xfrm>
                <a:off x="4687560" y="5653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687560" y="5653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4686120" y="5713920"/>
              <a:ext cx="83160" cy="83880"/>
              <a:chOff x="4686120" y="5713920"/>
              <a:chExt cx="83160" cy="83880"/>
            </a:xfrm>
          </p:grpSpPr>
          <p:sp>
            <p:nvSpPr>
              <p:cNvPr id="1651" name=""/>
              <p:cNvSpPr/>
              <p:nvPr/>
            </p:nvSpPr>
            <p:spPr>
              <a:xfrm>
                <a:off x="4686120" y="5713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686120" y="5713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3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1661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1662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1665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1668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0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1674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1677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9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1680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1681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1684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1687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0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1691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1692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1698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1701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1704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1707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1710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1713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1720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1721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1724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1727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0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1731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1732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4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1738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1741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1744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1747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1750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1753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1760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1761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1764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1767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69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1771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4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1778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1781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1784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1787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1790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1793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9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1802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3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1804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0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1811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1815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1818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1824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1827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9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1830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1831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1834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6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1837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9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1841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1848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1851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1854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1857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1860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1863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9" name=""/>
          <p:cNvSpPr/>
          <p:nvPr/>
        </p:nvSpPr>
        <p:spPr>
          <a:xfrm>
            <a:off x="1906560" y="236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1871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1872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0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1884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1887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9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1890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1891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1894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1897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1903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1906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8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1909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1910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1913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1916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8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1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1922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1925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7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267080" y="3867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838080" y="3151080"/>
            <a:ext cx="385920" cy="1652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1933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1934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1940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7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1951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1954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1960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1963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1966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8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1752480" y="3581280"/>
            <a:ext cx="22860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57200" y="716040"/>
            <a:ext cx="75438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  Resource request approved, PATH propagated transparently through Diff-Serv 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57200" y="121932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.  PATH arrives at campus network ingress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2514240" y="3276720"/>
            <a:ext cx="762120" cy="7617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980080" y="617220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425680" y="4267080"/>
            <a:ext cx="154080" cy="281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57200" y="160020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. Router applies send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57200" y="1981080"/>
            <a:ext cx="807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. Policy check approved, PATH forwarded to receiving h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3276720" y="3250800"/>
            <a:ext cx="164880" cy="13208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352680" y="5029200"/>
            <a:ext cx="304920" cy="3808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733920" y="5162400"/>
            <a:ext cx="15238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5486400" y="4952880"/>
            <a:ext cx="38088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H="1" flipV="1">
            <a:off x="6073560" y="3303360"/>
            <a:ext cx="174600" cy="11919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6629400" y="3154320"/>
            <a:ext cx="1695600" cy="1341000"/>
            <a:chOff x="6629400" y="3154320"/>
            <a:chExt cx="1695600" cy="1341000"/>
          </a:xfrm>
        </p:grpSpPr>
        <p:sp>
          <p:nvSpPr>
            <p:cNvPr id="1987" name=""/>
            <p:cNvSpPr/>
            <p:nvPr/>
          </p:nvSpPr>
          <p:spPr>
            <a:xfrm flipV="1">
              <a:off x="6629400" y="4242960"/>
              <a:ext cx="198360" cy="25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250040" y="3574800"/>
              <a:ext cx="246240" cy="336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8013600" y="3154320"/>
              <a:ext cx="311400" cy="1224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 flipV="1">
            <a:off x="4595760" y="4429080"/>
            <a:ext cx="6480" cy="5810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/>
          <p:nvPr/>
        </p:nvSpPr>
        <p:spPr>
          <a:xfrm>
            <a:off x="3110040" y="1806480"/>
            <a:ext cx="2835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4556160" y="909720"/>
            <a:ext cx="4137120" cy="1042920"/>
            <a:chOff x="4556160" y="909720"/>
            <a:chExt cx="4137120" cy="1042920"/>
          </a:xfrm>
        </p:grpSpPr>
        <p:sp>
          <p:nvSpPr>
            <p:cNvPr id="1994" name=""/>
            <p:cNvSpPr/>
            <p:nvPr/>
          </p:nvSpPr>
          <p:spPr>
            <a:xfrm>
              <a:off x="4556160" y="1306440"/>
              <a:ext cx="0" cy="646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049800" y="909720"/>
              <a:ext cx="2643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5.  Application indicates that i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s a Qos recei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4267080" y="2602080"/>
            <a:ext cx="4425840" cy="2960640"/>
            <a:chOff x="4267080" y="2602080"/>
            <a:chExt cx="4425840" cy="2960640"/>
          </a:xfrm>
        </p:grpSpPr>
        <p:sp>
          <p:nvSpPr>
            <p:cNvPr id="1997" name=""/>
            <p:cNvSpPr/>
            <p:nvPr/>
          </p:nvSpPr>
          <p:spPr>
            <a:xfrm>
              <a:off x="4267080" y="2602080"/>
              <a:ext cx="0" cy="29606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039000" y="2926080"/>
              <a:ext cx="265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4.  PATH message arrives at QoS S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9" name=""/>
          <p:cNvGrpSpPr/>
          <p:nvPr/>
        </p:nvGrpSpPr>
        <p:grpSpPr>
          <a:xfrm>
            <a:off x="4800600" y="2590920"/>
            <a:ext cx="3939840" cy="3097080"/>
            <a:chOff x="4800600" y="2590920"/>
            <a:chExt cx="3939840" cy="3097080"/>
          </a:xfrm>
        </p:grpSpPr>
        <p:sp>
          <p:nvSpPr>
            <p:cNvPr id="2000" name=""/>
            <p:cNvSpPr/>
            <p:nvPr/>
          </p:nvSpPr>
          <p:spPr>
            <a:xfrm>
              <a:off x="4800600" y="2590920"/>
              <a:ext cx="0" cy="3097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87960" y="4354560"/>
              <a:ext cx="26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6.  QoS SP sends RSVP RESV message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 ne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2" name=""/>
          <p:cNvSpPr/>
          <p:nvPr/>
        </p:nvSpPr>
        <p:spPr>
          <a:xfrm>
            <a:off x="3505320" y="1978200"/>
            <a:ext cx="2044440" cy="6426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 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505320" y="3048120"/>
            <a:ext cx="2044440" cy="114444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581280" y="563868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286640" y="16002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Sock2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505320" y="838080"/>
            <a:ext cx="204444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43434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990720" y="4114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D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352680" y="4495680"/>
            <a:ext cx="2286000" cy="685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Schedu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371600" y="5334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 S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124080" y="5486400"/>
            <a:ext cx="1067040" cy="76320"/>
          </a:xfrm>
          <a:prstGeom prst="rightArrow">
            <a:avLst>
              <a:gd name="adj1" fmla="val 50000"/>
              <a:gd name="adj2" fmla="val 349528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4595400" y="440064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2032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2033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2036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2039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2045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47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2048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0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2051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2052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2055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2058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0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2062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2063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5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8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2069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1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2072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2075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2078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2081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2084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2091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2092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4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2095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7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2098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2102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2103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5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2109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2112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2115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2118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2121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2124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2131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2132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4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2135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7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2138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0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2142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5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2149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1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2152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4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2155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2158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2161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2164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66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0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2173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4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2175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1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3581280" y="4876920"/>
            <a:ext cx="2022120" cy="1428120"/>
            <a:chOff x="3581280" y="4876920"/>
            <a:chExt cx="2022120" cy="1428120"/>
          </a:xfrm>
        </p:grpSpPr>
        <p:grpSp>
          <p:nvGrpSpPr>
            <p:cNvPr id="2183" name=""/>
            <p:cNvGrpSpPr/>
            <p:nvPr/>
          </p:nvGrpSpPr>
          <p:grpSpPr>
            <a:xfrm>
              <a:off x="3581280" y="4876920"/>
              <a:ext cx="2022120" cy="1428120"/>
              <a:chOff x="3581280" y="4876920"/>
              <a:chExt cx="2022120" cy="1428120"/>
            </a:xfrm>
          </p:grpSpPr>
          <p:grpSp>
            <p:nvGrpSpPr>
              <p:cNvPr id="2184" name=""/>
              <p:cNvGrpSpPr/>
              <p:nvPr/>
            </p:nvGrpSpPr>
            <p:grpSpPr>
              <a:xfrm>
                <a:off x="4774680" y="5004720"/>
                <a:ext cx="828720" cy="1228680"/>
                <a:chOff x="4774680" y="5004720"/>
                <a:chExt cx="828720" cy="1228680"/>
              </a:xfrm>
            </p:grpSpPr>
            <p:grpSp>
              <p:nvGrpSpPr>
                <p:cNvPr id="2185" name=""/>
                <p:cNvGrpSpPr/>
                <p:nvPr/>
              </p:nvGrpSpPr>
              <p:grpSpPr>
                <a:xfrm>
                  <a:off x="5099040" y="5004720"/>
                  <a:ext cx="504360" cy="987840"/>
                  <a:chOff x="5099040" y="5004720"/>
                  <a:chExt cx="504360" cy="987840"/>
                </a:xfrm>
              </p:grpSpPr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5236200" y="5142240"/>
                    <a:ext cx="367200" cy="712800"/>
                    <a:chOff x="5236200" y="5142240"/>
                    <a:chExt cx="367200" cy="712800"/>
                  </a:xfrm>
                </p:grpSpPr>
                <p:grpSp>
                  <p:nvGrpSpPr>
                    <p:cNvPr id="2187" name=""/>
                    <p:cNvGrpSpPr/>
                    <p:nvPr/>
                  </p:nvGrpSpPr>
                  <p:grpSpPr>
                    <a:xfrm>
                      <a:off x="5236200" y="5142240"/>
                      <a:ext cx="367200" cy="712800"/>
                      <a:chOff x="5236200" y="5142240"/>
                      <a:chExt cx="367200" cy="712800"/>
                    </a:xfrm>
                  </p:grpSpPr>
                  <p:grpSp>
                    <p:nvGrpSpPr>
                      <p:cNvPr id="2188" name=""/>
                      <p:cNvGrpSpPr/>
                      <p:nvPr/>
                    </p:nvGrpSpPr>
                    <p:grpSpPr>
                      <a:xfrm>
                        <a:off x="5333400" y="5187960"/>
                        <a:ext cx="270000" cy="579600"/>
                        <a:chOff x="5333400" y="5187960"/>
                        <a:chExt cx="270000" cy="579600"/>
                      </a:xfrm>
                    </p:grpSpPr>
                    <p:grpSp>
                      <p:nvGrpSpPr>
                        <p:cNvPr id="2189" name=""/>
                        <p:cNvGrpSpPr/>
                        <p:nvPr/>
                      </p:nvGrpSpPr>
                      <p:grpSpPr>
                        <a:xfrm>
                          <a:off x="5366520" y="5187960"/>
                          <a:ext cx="236880" cy="579600"/>
                          <a:chOff x="5366520" y="5187960"/>
                          <a:chExt cx="236880" cy="579600"/>
                        </a:xfrm>
                      </p:grpSpPr>
                      <p:sp>
                        <p:nvSpPr>
                          <p:cNvPr id="2190" name=""/>
                          <p:cNvSpPr/>
                          <p:nvPr/>
                        </p:nvSpPr>
                        <p:spPr>
                          <a:xfrm>
                            <a:off x="5500080" y="554004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1" name=""/>
                          <p:cNvSpPr/>
                          <p:nvPr/>
                        </p:nvSpPr>
                        <p:spPr>
                          <a:xfrm>
                            <a:off x="5396400" y="558468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2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3" name=""/>
                          <p:cNvSpPr/>
                          <p:nvPr/>
                        </p:nvSpPr>
                        <p:spPr>
                          <a:xfrm>
                            <a:off x="5366520" y="518796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4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95" name=""/>
                        <p:cNvSpPr/>
                        <p:nvPr/>
                      </p:nvSpPr>
                      <p:spPr>
                        <a:xfrm>
                          <a:off x="5333400" y="536292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6" name=""/>
                        <p:cNvSpPr/>
                        <p:nvPr/>
                      </p:nvSpPr>
                      <p:spPr>
                        <a:xfrm>
                          <a:off x="5333400" y="554004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7" name=""/>
                        <p:cNvSpPr/>
                        <p:nvPr/>
                      </p:nvSpPr>
                      <p:spPr>
                        <a:xfrm>
                          <a:off x="5377320" y="528408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8" name=""/>
                      <p:cNvSpPr/>
                      <p:nvPr/>
                    </p:nvSpPr>
                    <p:spPr>
                      <a:xfrm>
                        <a:off x="5333400" y="571752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9" name=""/>
                      <p:cNvSpPr/>
                      <p:nvPr/>
                    </p:nvSpPr>
                    <p:spPr>
                      <a:xfrm>
                        <a:off x="5236200" y="514224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0" name=""/>
                      <p:cNvSpPr/>
                      <p:nvPr/>
                    </p:nvSpPr>
                    <p:spPr>
                      <a:xfrm>
                        <a:off x="5367960" y="568116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01" name=""/>
                    <p:cNvSpPr/>
                    <p:nvPr/>
                  </p:nvSpPr>
                  <p:spPr>
                    <a:xfrm>
                      <a:off x="5357520" y="523980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2" name=""/>
                  <p:cNvGrpSpPr/>
                  <p:nvPr/>
                </p:nvGrpSpPr>
                <p:grpSpPr>
                  <a:xfrm>
                    <a:off x="5099040" y="5004720"/>
                    <a:ext cx="338400" cy="894600"/>
                    <a:chOff x="5099040" y="5004720"/>
                    <a:chExt cx="338400" cy="894600"/>
                  </a:xfrm>
                </p:grpSpPr>
                <p:sp>
                  <p:nvSpPr>
                    <p:cNvPr id="2203" name=""/>
                    <p:cNvSpPr/>
                    <p:nvPr/>
                  </p:nvSpPr>
                  <p:spPr>
                    <a:xfrm>
                      <a:off x="5130720" y="554076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4" name=""/>
                    <p:cNvSpPr/>
                    <p:nvPr/>
                  </p:nvSpPr>
                  <p:spPr>
                    <a:xfrm>
                      <a:off x="5165280" y="527328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5" name=""/>
                    <p:cNvSpPr/>
                    <p:nvPr/>
                  </p:nvSpPr>
                  <p:spPr>
                    <a:xfrm>
                      <a:off x="5099040" y="500472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6" name=""/>
                    <p:cNvSpPr/>
                    <p:nvPr/>
                  </p:nvSpPr>
                  <p:spPr>
                    <a:xfrm>
                      <a:off x="5235840" y="518796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7" name=""/>
                    <p:cNvSpPr/>
                    <p:nvPr/>
                  </p:nvSpPr>
                  <p:spPr>
                    <a:xfrm>
                      <a:off x="5165280" y="514872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8" name=""/>
                    <p:cNvSpPr/>
                    <p:nvPr/>
                  </p:nvSpPr>
                  <p:spPr>
                    <a:xfrm>
                      <a:off x="5258160" y="561528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09" name=""/>
                  <p:cNvSpPr/>
                  <p:nvPr/>
                </p:nvSpPr>
                <p:spPr>
                  <a:xfrm>
                    <a:off x="5099040" y="5808240"/>
                    <a:ext cx="141480" cy="184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5199840" y="5784120"/>
                    <a:ext cx="723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1" name=""/>
                <p:cNvSpPr/>
                <p:nvPr/>
              </p:nvSpPr>
              <p:spPr>
                <a:xfrm>
                  <a:off x="4774680" y="600588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4935240" y="60058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026680" y="593640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4890960" y="589968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5" name=""/>
              <p:cNvGrpSpPr/>
              <p:nvPr/>
            </p:nvGrpSpPr>
            <p:grpSpPr>
              <a:xfrm>
                <a:off x="3581280" y="5019120"/>
                <a:ext cx="487800" cy="836280"/>
                <a:chOff x="3581280" y="5019120"/>
                <a:chExt cx="487800" cy="836280"/>
              </a:xfrm>
            </p:grpSpPr>
            <p:grpSp>
              <p:nvGrpSpPr>
                <p:cNvPr id="2216" name=""/>
                <p:cNvGrpSpPr/>
                <p:nvPr/>
              </p:nvGrpSpPr>
              <p:grpSpPr>
                <a:xfrm>
                  <a:off x="3581280" y="5142240"/>
                  <a:ext cx="254520" cy="494280"/>
                  <a:chOff x="3581280" y="5142240"/>
                  <a:chExt cx="254520" cy="49428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>
                    <a:off x="3581280" y="531756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3600000" y="5455080"/>
                    <a:ext cx="136440" cy="1814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3634560" y="5142240"/>
                    <a:ext cx="201240" cy="2732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3615840" y="533952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1" name=""/>
                <p:cNvGrpSpPr/>
                <p:nvPr/>
              </p:nvGrpSpPr>
              <p:grpSpPr>
                <a:xfrm>
                  <a:off x="3666240" y="5019120"/>
                  <a:ext cx="402840" cy="836280"/>
                  <a:chOff x="3666240" y="5019120"/>
                  <a:chExt cx="402840" cy="836280"/>
                </a:xfrm>
              </p:grpSpPr>
              <p:sp>
                <p:nvSpPr>
                  <p:cNvPr id="2222" name=""/>
                  <p:cNvSpPr/>
                  <p:nvPr/>
                </p:nvSpPr>
                <p:spPr>
                  <a:xfrm>
                    <a:off x="3803040" y="504900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3666240" y="531792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3699360" y="545544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3768480" y="558504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3785760" y="523548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3947760" y="501912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3845520" y="518688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3710160" y="541116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0" name=""/>
                <p:cNvSpPr/>
                <p:nvPr/>
              </p:nvSpPr>
              <p:spPr>
                <a:xfrm>
                  <a:off x="3938760" y="510768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1" name=""/>
              <p:cNvGrpSpPr/>
              <p:nvPr/>
            </p:nvGrpSpPr>
            <p:grpSpPr>
              <a:xfrm>
                <a:off x="3831840" y="4876920"/>
                <a:ext cx="1472040" cy="1428120"/>
                <a:chOff x="3831840" y="4876920"/>
                <a:chExt cx="1472040" cy="1428120"/>
              </a:xfrm>
            </p:grpSpPr>
            <p:sp>
              <p:nvSpPr>
                <p:cNvPr id="2232" name=""/>
                <p:cNvSpPr/>
                <p:nvPr/>
              </p:nvSpPr>
              <p:spPr>
                <a:xfrm>
                  <a:off x="4299840" y="491940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4597560" y="487692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4863960" y="527400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4001760" y="554112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4735080" y="563148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867840" y="567756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831840" y="536400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963960" y="500472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4367520" y="571824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4935240" y="504936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4832640" y="487692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949920" y="4987440"/>
                  <a:ext cx="1279440" cy="113220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4" name=""/>
            <p:cNvGrpSpPr/>
            <p:nvPr/>
          </p:nvGrpSpPr>
          <p:grpSpPr>
            <a:xfrm>
              <a:off x="3899520" y="5065200"/>
              <a:ext cx="1265760" cy="864720"/>
              <a:chOff x="3899520" y="5065200"/>
              <a:chExt cx="1265760" cy="864720"/>
            </a:xfrm>
          </p:grpSpPr>
          <p:sp>
            <p:nvSpPr>
              <p:cNvPr id="2245" name=""/>
              <p:cNvSpPr/>
              <p:nvPr/>
            </p:nvSpPr>
            <p:spPr>
              <a:xfrm>
                <a:off x="3899520" y="5065200"/>
                <a:ext cx="1265760" cy="5374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899520" y="5393880"/>
                <a:ext cx="1233720" cy="536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7" name=""/>
          <p:cNvGrpSpPr/>
          <p:nvPr/>
        </p:nvGrpSpPr>
        <p:grpSpPr>
          <a:xfrm>
            <a:off x="5029200" y="5105520"/>
            <a:ext cx="511200" cy="330120"/>
            <a:chOff x="5029200" y="5105520"/>
            <a:chExt cx="511200" cy="330120"/>
          </a:xfrm>
        </p:grpSpPr>
        <p:grpSp>
          <p:nvGrpSpPr>
            <p:cNvPr id="2248" name=""/>
            <p:cNvGrpSpPr/>
            <p:nvPr/>
          </p:nvGrpSpPr>
          <p:grpSpPr>
            <a:xfrm>
              <a:off x="5029920" y="5148000"/>
              <a:ext cx="322560" cy="287640"/>
              <a:chOff x="5029920" y="5148000"/>
              <a:chExt cx="322560" cy="287640"/>
            </a:xfrm>
          </p:grpSpPr>
          <p:sp>
            <p:nvSpPr>
              <p:cNvPr id="2249" name=""/>
              <p:cNvSpPr/>
              <p:nvPr/>
            </p:nvSpPr>
            <p:spPr>
              <a:xfrm>
                <a:off x="50299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0299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"/>
            <p:cNvGrpSpPr/>
            <p:nvPr/>
          </p:nvGrpSpPr>
          <p:grpSpPr>
            <a:xfrm>
              <a:off x="5352480" y="5157720"/>
              <a:ext cx="186120" cy="277920"/>
              <a:chOff x="5352480" y="5157720"/>
              <a:chExt cx="186120" cy="277920"/>
            </a:xfrm>
          </p:grpSpPr>
          <p:sp>
            <p:nvSpPr>
              <p:cNvPr id="2252" name=""/>
              <p:cNvSpPr/>
              <p:nvPr/>
            </p:nvSpPr>
            <p:spPr>
              <a:xfrm>
                <a:off x="53524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3524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5029200" y="5105520"/>
              <a:ext cx="511200" cy="115920"/>
              <a:chOff x="5029200" y="5105520"/>
              <a:chExt cx="511200" cy="115920"/>
            </a:xfrm>
          </p:grpSpPr>
          <p:sp>
            <p:nvSpPr>
              <p:cNvPr id="2255" name=""/>
              <p:cNvSpPr/>
              <p:nvPr/>
            </p:nvSpPr>
            <p:spPr>
              <a:xfrm>
                <a:off x="50292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0292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7" name=""/>
            <p:cNvSpPr/>
            <p:nvPr/>
          </p:nvSpPr>
          <p:spPr>
            <a:xfrm>
              <a:off x="504936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4936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04936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0" name=""/>
            <p:cNvGrpSpPr/>
            <p:nvPr/>
          </p:nvGrpSpPr>
          <p:grpSpPr>
            <a:xfrm>
              <a:off x="5068440" y="5196600"/>
              <a:ext cx="132840" cy="56160"/>
              <a:chOff x="5068440" y="5196600"/>
              <a:chExt cx="132840" cy="56160"/>
            </a:xfrm>
          </p:grpSpPr>
          <p:sp>
            <p:nvSpPr>
              <p:cNvPr id="2261" name=""/>
              <p:cNvSpPr/>
              <p:nvPr/>
            </p:nvSpPr>
            <p:spPr>
              <a:xfrm>
                <a:off x="50684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0684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"/>
            <p:cNvGrpSpPr/>
            <p:nvPr/>
          </p:nvGrpSpPr>
          <p:grpSpPr>
            <a:xfrm>
              <a:off x="5067000" y="5256720"/>
              <a:ext cx="83160" cy="83880"/>
              <a:chOff x="5067000" y="5256720"/>
              <a:chExt cx="83160" cy="83880"/>
            </a:xfrm>
          </p:grpSpPr>
          <p:sp>
            <p:nvSpPr>
              <p:cNvPr id="2264" name=""/>
              <p:cNvSpPr/>
              <p:nvPr/>
            </p:nvSpPr>
            <p:spPr>
              <a:xfrm>
                <a:off x="50670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0670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6" name=""/>
          <p:cNvGrpSpPr/>
          <p:nvPr/>
        </p:nvGrpSpPr>
        <p:grpSpPr>
          <a:xfrm>
            <a:off x="3886200" y="5562720"/>
            <a:ext cx="507960" cy="330120"/>
            <a:chOff x="3886200" y="5562720"/>
            <a:chExt cx="507960" cy="330120"/>
          </a:xfrm>
        </p:grpSpPr>
        <p:grpSp>
          <p:nvGrpSpPr>
            <p:cNvPr id="2267" name=""/>
            <p:cNvGrpSpPr/>
            <p:nvPr/>
          </p:nvGrpSpPr>
          <p:grpSpPr>
            <a:xfrm>
              <a:off x="3886920" y="5605200"/>
              <a:ext cx="320400" cy="287640"/>
              <a:chOff x="3886920" y="5605200"/>
              <a:chExt cx="320400" cy="287640"/>
            </a:xfrm>
          </p:grpSpPr>
          <p:sp>
            <p:nvSpPr>
              <p:cNvPr id="2268" name=""/>
              <p:cNvSpPr/>
              <p:nvPr/>
            </p:nvSpPr>
            <p:spPr>
              <a:xfrm>
                <a:off x="388692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88692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4207680" y="5614920"/>
              <a:ext cx="184680" cy="277920"/>
              <a:chOff x="4207680" y="5614920"/>
              <a:chExt cx="184680" cy="277920"/>
            </a:xfrm>
          </p:grpSpPr>
          <p:sp>
            <p:nvSpPr>
              <p:cNvPr id="2271" name=""/>
              <p:cNvSpPr/>
              <p:nvPr/>
            </p:nvSpPr>
            <p:spPr>
              <a:xfrm>
                <a:off x="420768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20768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3886200" y="5562720"/>
              <a:ext cx="507960" cy="115920"/>
              <a:chOff x="3886200" y="5562720"/>
              <a:chExt cx="507960" cy="115920"/>
            </a:xfrm>
          </p:grpSpPr>
          <p:sp>
            <p:nvSpPr>
              <p:cNvPr id="2274" name=""/>
              <p:cNvSpPr/>
              <p:nvPr/>
            </p:nvSpPr>
            <p:spPr>
              <a:xfrm>
                <a:off x="388620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88620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76" name=""/>
            <p:cNvSpPr/>
            <p:nvPr/>
          </p:nvSpPr>
          <p:spPr>
            <a:xfrm>
              <a:off x="3906360" y="563112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906360" y="569304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906360" y="563112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9" name=""/>
            <p:cNvGrpSpPr/>
            <p:nvPr/>
          </p:nvGrpSpPr>
          <p:grpSpPr>
            <a:xfrm>
              <a:off x="3925080" y="5653800"/>
              <a:ext cx="132120" cy="56160"/>
              <a:chOff x="3925080" y="5653800"/>
              <a:chExt cx="132120" cy="56160"/>
            </a:xfrm>
          </p:grpSpPr>
          <p:sp>
            <p:nvSpPr>
              <p:cNvPr id="2280" name=""/>
              <p:cNvSpPr/>
              <p:nvPr/>
            </p:nvSpPr>
            <p:spPr>
              <a:xfrm>
                <a:off x="392508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92508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3923640" y="5713920"/>
              <a:ext cx="82440" cy="83880"/>
              <a:chOff x="3923640" y="5713920"/>
              <a:chExt cx="82440" cy="83880"/>
            </a:xfrm>
          </p:grpSpPr>
          <p:sp>
            <p:nvSpPr>
              <p:cNvPr id="2283" name=""/>
              <p:cNvSpPr/>
              <p:nvPr/>
            </p:nvSpPr>
            <p:spPr>
              <a:xfrm>
                <a:off x="392364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92364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5" name=""/>
          <p:cNvGrpSpPr/>
          <p:nvPr/>
        </p:nvGrpSpPr>
        <p:grpSpPr>
          <a:xfrm>
            <a:off x="4419720" y="5257800"/>
            <a:ext cx="511200" cy="330120"/>
            <a:chOff x="4419720" y="5257800"/>
            <a:chExt cx="511200" cy="330120"/>
          </a:xfrm>
        </p:grpSpPr>
        <p:grpSp>
          <p:nvGrpSpPr>
            <p:cNvPr id="2286" name=""/>
            <p:cNvGrpSpPr/>
            <p:nvPr/>
          </p:nvGrpSpPr>
          <p:grpSpPr>
            <a:xfrm>
              <a:off x="4420440" y="5300280"/>
              <a:ext cx="322560" cy="287640"/>
              <a:chOff x="4420440" y="5300280"/>
              <a:chExt cx="322560" cy="287640"/>
            </a:xfrm>
          </p:grpSpPr>
          <p:sp>
            <p:nvSpPr>
              <p:cNvPr id="2287" name=""/>
              <p:cNvSpPr/>
              <p:nvPr/>
            </p:nvSpPr>
            <p:spPr>
              <a:xfrm>
                <a:off x="442044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42044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9" name=""/>
            <p:cNvGrpSpPr/>
            <p:nvPr/>
          </p:nvGrpSpPr>
          <p:grpSpPr>
            <a:xfrm>
              <a:off x="4743000" y="5310000"/>
              <a:ext cx="186120" cy="277920"/>
              <a:chOff x="4743000" y="5310000"/>
              <a:chExt cx="186120" cy="277920"/>
            </a:xfrm>
          </p:grpSpPr>
          <p:sp>
            <p:nvSpPr>
              <p:cNvPr id="2290" name=""/>
              <p:cNvSpPr/>
              <p:nvPr/>
            </p:nvSpPr>
            <p:spPr>
              <a:xfrm>
                <a:off x="474300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74300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2" name=""/>
            <p:cNvGrpSpPr/>
            <p:nvPr/>
          </p:nvGrpSpPr>
          <p:grpSpPr>
            <a:xfrm>
              <a:off x="4419720" y="5257800"/>
              <a:ext cx="511200" cy="115920"/>
              <a:chOff x="4419720" y="5257800"/>
              <a:chExt cx="511200" cy="115920"/>
            </a:xfrm>
          </p:grpSpPr>
          <p:sp>
            <p:nvSpPr>
              <p:cNvPr id="2293" name=""/>
              <p:cNvSpPr/>
              <p:nvPr/>
            </p:nvSpPr>
            <p:spPr>
              <a:xfrm>
                <a:off x="441972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41972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>
              <a:off x="443988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3988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3988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4458960" y="5348880"/>
              <a:ext cx="132840" cy="56160"/>
              <a:chOff x="4458960" y="5348880"/>
              <a:chExt cx="132840" cy="56160"/>
            </a:xfrm>
          </p:grpSpPr>
          <p:sp>
            <p:nvSpPr>
              <p:cNvPr id="2299" name=""/>
              <p:cNvSpPr/>
              <p:nvPr/>
            </p:nvSpPr>
            <p:spPr>
              <a:xfrm>
                <a:off x="445896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45896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4457520" y="5409000"/>
              <a:ext cx="83160" cy="83880"/>
              <a:chOff x="4457520" y="5409000"/>
              <a:chExt cx="83160" cy="83880"/>
            </a:xfrm>
          </p:grpSpPr>
          <p:sp>
            <p:nvSpPr>
              <p:cNvPr id="2302" name=""/>
              <p:cNvSpPr/>
              <p:nvPr/>
            </p:nvSpPr>
            <p:spPr>
              <a:xfrm>
                <a:off x="445752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45752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4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2305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2306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2309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2312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4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7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2318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3" name=""/>
          <p:cNvGrpSpPr/>
          <p:nvPr/>
        </p:nvGrpSpPr>
        <p:grpSpPr>
          <a:xfrm>
            <a:off x="3657600" y="5029200"/>
            <a:ext cx="511200" cy="330120"/>
            <a:chOff x="3657600" y="5029200"/>
            <a:chExt cx="511200" cy="330120"/>
          </a:xfrm>
        </p:grpSpPr>
        <p:grpSp>
          <p:nvGrpSpPr>
            <p:cNvPr id="2324" name=""/>
            <p:cNvGrpSpPr/>
            <p:nvPr/>
          </p:nvGrpSpPr>
          <p:grpSpPr>
            <a:xfrm>
              <a:off x="3658320" y="5071680"/>
              <a:ext cx="322560" cy="287640"/>
              <a:chOff x="3658320" y="5071680"/>
              <a:chExt cx="322560" cy="287640"/>
            </a:xfrm>
          </p:grpSpPr>
          <p:sp>
            <p:nvSpPr>
              <p:cNvPr id="2325" name=""/>
              <p:cNvSpPr/>
              <p:nvPr/>
            </p:nvSpPr>
            <p:spPr>
              <a:xfrm>
                <a:off x="3658320" y="50716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3658320" y="50716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3980880" y="5081400"/>
              <a:ext cx="186120" cy="277920"/>
              <a:chOff x="3980880" y="5081400"/>
              <a:chExt cx="186120" cy="277920"/>
            </a:xfrm>
          </p:grpSpPr>
          <p:sp>
            <p:nvSpPr>
              <p:cNvPr id="2328" name=""/>
              <p:cNvSpPr/>
              <p:nvPr/>
            </p:nvSpPr>
            <p:spPr>
              <a:xfrm>
                <a:off x="3980880" y="50814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980880" y="50814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3657600" y="5029200"/>
              <a:ext cx="511200" cy="115920"/>
              <a:chOff x="3657600" y="5029200"/>
              <a:chExt cx="511200" cy="115920"/>
            </a:xfrm>
          </p:grpSpPr>
          <p:sp>
            <p:nvSpPr>
              <p:cNvPr id="2331" name=""/>
              <p:cNvSpPr/>
              <p:nvPr/>
            </p:nvSpPr>
            <p:spPr>
              <a:xfrm>
                <a:off x="3657600" y="50292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657600" y="50292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3" name=""/>
            <p:cNvSpPr/>
            <p:nvPr/>
          </p:nvSpPr>
          <p:spPr>
            <a:xfrm>
              <a:off x="3677760" y="50976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677760" y="51595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677760" y="50976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6" name=""/>
            <p:cNvGrpSpPr/>
            <p:nvPr/>
          </p:nvGrpSpPr>
          <p:grpSpPr>
            <a:xfrm>
              <a:off x="3696840" y="5120280"/>
              <a:ext cx="132840" cy="56160"/>
              <a:chOff x="3696840" y="5120280"/>
              <a:chExt cx="132840" cy="56160"/>
            </a:xfrm>
          </p:grpSpPr>
          <p:sp>
            <p:nvSpPr>
              <p:cNvPr id="2337" name=""/>
              <p:cNvSpPr/>
              <p:nvPr/>
            </p:nvSpPr>
            <p:spPr>
              <a:xfrm>
                <a:off x="3696840" y="51202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696840" y="51202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3695400" y="5180400"/>
              <a:ext cx="83160" cy="83880"/>
              <a:chOff x="3695400" y="5180400"/>
              <a:chExt cx="83160" cy="83880"/>
            </a:xfrm>
          </p:grpSpPr>
          <p:sp>
            <p:nvSpPr>
              <p:cNvPr id="2340" name=""/>
              <p:cNvSpPr/>
              <p:nvPr/>
            </p:nvSpPr>
            <p:spPr>
              <a:xfrm>
                <a:off x="3695400" y="51804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695400" y="51804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2" name=""/>
          <p:cNvGrpSpPr/>
          <p:nvPr/>
        </p:nvGrpSpPr>
        <p:grpSpPr>
          <a:xfrm>
            <a:off x="4572000" y="5715000"/>
            <a:ext cx="511200" cy="330120"/>
            <a:chOff x="4572000" y="5715000"/>
            <a:chExt cx="511200" cy="330120"/>
          </a:xfrm>
        </p:grpSpPr>
        <p:grpSp>
          <p:nvGrpSpPr>
            <p:cNvPr id="2343" name=""/>
            <p:cNvGrpSpPr/>
            <p:nvPr/>
          </p:nvGrpSpPr>
          <p:grpSpPr>
            <a:xfrm>
              <a:off x="4572720" y="5757480"/>
              <a:ext cx="322560" cy="287640"/>
              <a:chOff x="4572720" y="5757480"/>
              <a:chExt cx="322560" cy="287640"/>
            </a:xfrm>
          </p:grpSpPr>
          <p:sp>
            <p:nvSpPr>
              <p:cNvPr id="2344" name=""/>
              <p:cNvSpPr/>
              <p:nvPr/>
            </p:nvSpPr>
            <p:spPr>
              <a:xfrm>
                <a:off x="4572720" y="57574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572720" y="57574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4895280" y="5767200"/>
              <a:ext cx="186120" cy="277920"/>
              <a:chOff x="4895280" y="5767200"/>
              <a:chExt cx="186120" cy="277920"/>
            </a:xfrm>
          </p:grpSpPr>
          <p:sp>
            <p:nvSpPr>
              <p:cNvPr id="2347" name=""/>
              <p:cNvSpPr/>
              <p:nvPr/>
            </p:nvSpPr>
            <p:spPr>
              <a:xfrm>
                <a:off x="4895280" y="57672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895280" y="57672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4572000" y="5715000"/>
              <a:ext cx="511200" cy="115920"/>
              <a:chOff x="4572000" y="5715000"/>
              <a:chExt cx="511200" cy="115920"/>
            </a:xfrm>
          </p:grpSpPr>
          <p:sp>
            <p:nvSpPr>
              <p:cNvPr id="2350" name=""/>
              <p:cNvSpPr/>
              <p:nvPr/>
            </p:nvSpPr>
            <p:spPr>
              <a:xfrm>
                <a:off x="4572000" y="57150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572000" y="57150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"/>
            <p:cNvSpPr/>
            <p:nvPr/>
          </p:nvSpPr>
          <p:spPr>
            <a:xfrm>
              <a:off x="4592160" y="57834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592160" y="58453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592160" y="57834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5" name=""/>
            <p:cNvGrpSpPr/>
            <p:nvPr/>
          </p:nvGrpSpPr>
          <p:grpSpPr>
            <a:xfrm>
              <a:off x="4611240" y="5806080"/>
              <a:ext cx="132840" cy="56160"/>
              <a:chOff x="4611240" y="5806080"/>
              <a:chExt cx="132840" cy="56160"/>
            </a:xfrm>
          </p:grpSpPr>
          <p:sp>
            <p:nvSpPr>
              <p:cNvPr id="2356" name=""/>
              <p:cNvSpPr/>
              <p:nvPr/>
            </p:nvSpPr>
            <p:spPr>
              <a:xfrm>
                <a:off x="4611240" y="58060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611240" y="58060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4609800" y="5866200"/>
              <a:ext cx="83160" cy="83880"/>
              <a:chOff x="4609800" y="5866200"/>
              <a:chExt cx="83160" cy="83880"/>
            </a:xfrm>
          </p:grpSpPr>
          <p:sp>
            <p:nvSpPr>
              <p:cNvPr id="2359" name=""/>
              <p:cNvSpPr/>
              <p:nvPr/>
            </p:nvSpPr>
            <p:spPr>
              <a:xfrm>
                <a:off x="4609800" y="58662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609800" y="58662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1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8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2369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2370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2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2373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2376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8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81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2382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2385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7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2388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2389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91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2392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94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2395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98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2399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2400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2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2406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2409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2412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2415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7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2418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2421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2428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2429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31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2432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34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2435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7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8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2439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2440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2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5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2446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8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2449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2452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4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2455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7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2458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2461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3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7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2468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2469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1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2472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2475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7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2479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2480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2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2486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2489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1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2492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2495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2498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2501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7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2510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11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2512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8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2519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2520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2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2523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5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2526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8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1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2532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4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2535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7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2538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2539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1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2542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4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2545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47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8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2549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2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5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2556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8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2559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1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2562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4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2565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2568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0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2571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73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7" name=""/>
          <p:cNvSpPr/>
          <p:nvPr/>
        </p:nvSpPr>
        <p:spPr>
          <a:xfrm>
            <a:off x="1728720" y="2286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8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2579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2580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2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2583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5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2586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8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1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2592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4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2595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7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2598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2599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1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2602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4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2605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07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0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2611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3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2614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6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2617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2618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0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2621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3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2624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6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9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2630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32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2633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5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4267080" y="3867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903760" y="624852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1" name=""/>
          <p:cNvGrpSpPr/>
          <p:nvPr/>
        </p:nvGrpSpPr>
        <p:grpSpPr>
          <a:xfrm>
            <a:off x="7248600" y="3124080"/>
            <a:ext cx="1107720" cy="785880"/>
            <a:chOff x="7248600" y="3124080"/>
            <a:chExt cx="1107720" cy="785880"/>
          </a:xfrm>
        </p:grpSpPr>
        <p:sp>
          <p:nvSpPr>
            <p:cNvPr id="2642" name=""/>
            <p:cNvSpPr/>
            <p:nvPr/>
          </p:nvSpPr>
          <p:spPr>
            <a:xfrm flipH="1">
              <a:off x="8003880" y="3124080"/>
              <a:ext cx="352440" cy="166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7248600" y="3562200"/>
              <a:ext cx="247680" cy="347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4" name=""/>
          <p:cNvSpPr/>
          <p:nvPr/>
        </p:nvSpPr>
        <p:spPr>
          <a:xfrm flipH="1">
            <a:off x="6629040" y="4267080"/>
            <a:ext cx="1522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H="1" flipV="1">
            <a:off x="6060960" y="3303720"/>
            <a:ext cx="185760" cy="1187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5410080" y="4952880"/>
            <a:ext cx="4572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533520" y="685800"/>
            <a:ext cx="8610480" cy="621720"/>
            <a:chOff x="533520" y="685800"/>
            <a:chExt cx="8610480" cy="621720"/>
          </a:xfrm>
        </p:grpSpPr>
        <p:sp>
          <p:nvSpPr>
            <p:cNvPr id="2648" name=""/>
            <p:cNvSpPr/>
            <p:nvPr/>
          </p:nvSpPr>
          <p:spPr>
            <a:xfrm>
              <a:off x="533520" y="685800"/>
              <a:ext cx="7543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7.  RESV message reaches first rou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33520" y="1022040"/>
              <a:ext cx="8610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8.  Router checks resource availability and admits resource reque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0" name=""/>
          <p:cNvSpPr/>
          <p:nvPr/>
        </p:nvSpPr>
        <p:spPr>
          <a:xfrm>
            <a:off x="533520" y="137160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.  Admitted RESV is forwarded to next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33520" y="175248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.  Router checks resource availability and applies receiv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33520" y="213372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.  Checks approved, RESV forwar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4595400" y="464832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3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2674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2675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7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2678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0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2681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86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2687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9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2690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2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2693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2694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6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2697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9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2700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2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3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2704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7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0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2711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3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2714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6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2717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9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2720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2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2723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2726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8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2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2733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2734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6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2737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9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2740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2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3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2744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7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0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2751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3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2754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6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2757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9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2760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2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2763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5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2766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2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2773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2774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76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2777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79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2780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2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3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2784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2785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7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0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2791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3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2794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6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2797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9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2800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2803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5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2806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08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2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4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2815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6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2817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3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4" name=""/>
          <p:cNvGrpSpPr/>
          <p:nvPr/>
        </p:nvGrpSpPr>
        <p:grpSpPr>
          <a:xfrm>
            <a:off x="3581280" y="4876920"/>
            <a:ext cx="2022120" cy="1428120"/>
            <a:chOff x="3581280" y="4876920"/>
            <a:chExt cx="2022120" cy="1428120"/>
          </a:xfrm>
        </p:grpSpPr>
        <p:grpSp>
          <p:nvGrpSpPr>
            <p:cNvPr id="2825" name=""/>
            <p:cNvGrpSpPr/>
            <p:nvPr/>
          </p:nvGrpSpPr>
          <p:grpSpPr>
            <a:xfrm>
              <a:off x="3581280" y="4876920"/>
              <a:ext cx="2022120" cy="1428120"/>
              <a:chOff x="3581280" y="4876920"/>
              <a:chExt cx="2022120" cy="1428120"/>
            </a:xfrm>
          </p:grpSpPr>
          <p:grpSp>
            <p:nvGrpSpPr>
              <p:cNvPr id="2826" name=""/>
              <p:cNvGrpSpPr/>
              <p:nvPr/>
            </p:nvGrpSpPr>
            <p:grpSpPr>
              <a:xfrm>
                <a:off x="4774680" y="5004720"/>
                <a:ext cx="828720" cy="1228680"/>
                <a:chOff x="4774680" y="5004720"/>
                <a:chExt cx="828720" cy="1228680"/>
              </a:xfrm>
            </p:grpSpPr>
            <p:grpSp>
              <p:nvGrpSpPr>
                <p:cNvPr id="2827" name=""/>
                <p:cNvGrpSpPr/>
                <p:nvPr/>
              </p:nvGrpSpPr>
              <p:grpSpPr>
                <a:xfrm>
                  <a:off x="5099040" y="5004720"/>
                  <a:ext cx="504360" cy="987840"/>
                  <a:chOff x="5099040" y="5004720"/>
                  <a:chExt cx="504360" cy="987840"/>
                </a:xfrm>
              </p:grpSpPr>
              <p:grpSp>
                <p:nvGrpSpPr>
                  <p:cNvPr id="2828" name=""/>
                  <p:cNvGrpSpPr/>
                  <p:nvPr/>
                </p:nvGrpSpPr>
                <p:grpSpPr>
                  <a:xfrm>
                    <a:off x="5236200" y="5142240"/>
                    <a:ext cx="367200" cy="712800"/>
                    <a:chOff x="5236200" y="5142240"/>
                    <a:chExt cx="367200" cy="712800"/>
                  </a:xfrm>
                </p:grpSpPr>
                <p:grpSp>
                  <p:nvGrpSpPr>
                    <p:cNvPr id="2829" name=""/>
                    <p:cNvGrpSpPr/>
                    <p:nvPr/>
                  </p:nvGrpSpPr>
                  <p:grpSpPr>
                    <a:xfrm>
                      <a:off x="5236200" y="5142240"/>
                      <a:ext cx="367200" cy="712800"/>
                      <a:chOff x="5236200" y="5142240"/>
                      <a:chExt cx="367200" cy="712800"/>
                    </a:xfrm>
                  </p:grpSpPr>
                  <p:grpSp>
                    <p:nvGrpSpPr>
                      <p:cNvPr id="2830" name=""/>
                      <p:cNvGrpSpPr/>
                      <p:nvPr/>
                    </p:nvGrpSpPr>
                    <p:grpSpPr>
                      <a:xfrm>
                        <a:off x="5333400" y="5187960"/>
                        <a:ext cx="270000" cy="579600"/>
                        <a:chOff x="5333400" y="5187960"/>
                        <a:chExt cx="270000" cy="579600"/>
                      </a:xfrm>
                    </p:grpSpPr>
                    <p:grpSp>
                      <p:nvGrpSpPr>
                        <p:cNvPr id="2831" name=""/>
                        <p:cNvGrpSpPr/>
                        <p:nvPr/>
                      </p:nvGrpSpPr>
                      <p:grpSpPr>
                        <a:xfrm>
                          <a:off x="5366520" y="5187960"/>
                          <a:ext cx="236880" cy="579600"/>
                          <a:chOff x="5366520" y="5187960"/>
                          <a:chExt cx="236880" cy="579600"/>
                        </a:xfrm>
                      </p:grpSpPr>
                      <p:sp>
                        <p:nvSpPr>
                          <p:cNvPr id="2832" name=""/>
                          <p:cNvSpPr/>
                          <p:nvPr/>
                        </p:nvSpPr>
                        <p:spPr>
                          <a:xfrm>
                            <a:off x="5500080" y="554004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33" name=""/>
                          <p:cNvSpPr/>
                          <p:nvPr/>
                        </p:nvSpPr>
                        <p:spPr>
                          <a:xfrm>
                            <a:off x="5396400" y="558468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34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35" name=""/>
                          <p:cNvSpPr/>
                          <p:nvPr/>
                        </p:nvSpPr>
                        <p:spPr>
                          <a:xfrm>
                            <a:off x="5366520" y="518796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36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837" name=""/>
                        <p:cNvSpPr/>
                        <p:nvPr/>
                      </p:nvSpPr>
                      <p:spPr>
                        <a:xfrm>
                          <a:off x="5333400" y="536292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8" name=""/>
                        <p:cNvSpPr/>
                        <p:nvPr/>
                      </p:nvSpPr>
                      <p:spPr>
                        <a:xfrm>
                          <a:off x="5333400" y="554004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9" name=""/>
                        <p:cNvSpPr/>
                        <p:nvPr/>
                      </p:nvSpPr>
                      <p:spPr>
                        <a:xfrm>
                          <a:off x="5377320" y="528408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840" name=""/>
                      <p:cNvSpPr/>
                      <p:nvPr/>
                    </p:nvSpPr>
                    <p:spPr>
                      <a:xfrm>
                        <a:off x="5333400" y="571752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1" name=""/>
                      <p:cNvSpPr/>
                      <p:nvPr/>
                    </p:nvSpPr>
                    <p:spPr>
                      <a:xfrm>
                        <a:off x="5236200" y="514224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2" name=""/>
                      <p:cNvSpPr/>
                      <p:nvPr/>
                    </p:nvSpPr>
                    <p:spPr>
                      <a:xfrm>
                        <a:off x="5367960" y="568116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5357520" y="523980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4" name=""/>
                  <p:cNvGrpSpPr/>
                  <p:nvPr/>
                </p:nvGrpSpPr>
                <p:grpSpPr>
                  <a:xfrm>
                    <a:off x="5099040" y="5004720"/>
                    <a:ext cx="338400" cy="894600"/>
                    <a:chOff x="5099040" y="5004720"/>
                    <a:chExt cx="338400" cy="894600"/>
                  </a:xfrm>
                </p:grpSpPr>
                <p:sp>
                  <p:nvSpPr>
                    <p:cNvPr id="2845" name=""/>
                    <p:cNvSpPr/>
                    <p:nvPr/>
                  </p:nvSpPr>
                  <p:spPr>
                    <a:xfrm>
                      <a:off x="5130720" y="554076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6" name=""/>
                    <p:cNvSpPr/>
                    <p:nvPr/>
                  </p:nvSpPr>
                  <p:spPr>
                    <a:xfrm>
                      <a:off x="5165280" y="527328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7" name=""/>
                    <p:cNvSpPr/>
                    <p:nvPr/>
                  </p:nvSpPr>
                  <p:spPr>
                    <a:xfrm>
                      <a:off x="5099040" y="500472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8" name=""/>
                    <p:cNvSpPr/>
                    <p:nvPr/>
                  </p:nvSpPr>
                  <p:spPr>
                    <a:xfrm>
                      <a:off x="5235840" y="518796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9" name=""/>
                    <p:cNvSpPr/>
                    <p:nvPr/>
                  </p:nvSpPr>
                  <p:spPr>
                    <a:xfrm>
                      <a:off x="5165280" y="514872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0" name=""/>
                    <p:cNvSpPr/>
                    <p:nvPr/>
                  </p:nvSpPr>
                  <p:spPr>
                    <a:xfrm>
                      <a:off x="5258160" y="561528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1" name=""/>
                  <p:cNvSpPr/>
                  <p:nvPr/>
                </p:nvSpPr>
                <p:spPr>
                  <a:xfrm>
                    <a:off x="5099040" y="5808240"/>
                    <a:ext cx="141480" cy="184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5199840" y="5784120"/>
                    <a:ext cx="723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53" name=""/>
                <p:cNvSpPr/>
                <p:nvPr/>
              </p:nvSpPr>
              <p:spPr>
                <a:xfrm>
                  <a:off x="4774680" y="600588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4935240" y="60058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5026680" y="593640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4890960" y="589968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7" name=""/>
              <p:cNvGrpSpPr/>
              <p:nvPr/>
            </p:nvGrpSpPr>
            <p:grpSpPr>
              <a:xfrm>
                <a:off x="3581280" y="5019120"/>
                <a:ext cx="487800" cy="836280"/>
                <a:chOff x="3581280" y="5019120"/>
                <a:chExt cx="487800" cy="836280"/>
              </a:xfrm>
            </p:grpSpPr>
            <p:grpSp>
              <p:nvGrpSpPr>
                <p:cNvPr id="2858" name=""/>
                <p:cNvGrpSpPr/>
                <p:nvPr/>
              </p:nvGrpSpPr>
              <p:grpSpPr>
                <a:xfrm>
                  <a:off x="3581280" y="5142240"/>
                  <a:ext cx="254520" cy="494280"/>
                  <a:chOff x="3581280" y="5142240"/>
                  <a:chExt cx="254520" cy="494280"/>
                </a:xfrm>
              </p:grpSpPr>
              <p:sp>
                <p:nvSpPr>
                  <p:cNvPr id="2859" name=""/>
                  <p:cNvSpPr/>
                  <p:nvPr/>
                </p:nvSpPr>
                <p:spPr>
                  <a:xfrm>
                    <a:off x="3581280" y="531756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3600000" y="5455080"/>
                    <a:ext cx="136440" cy="1814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3634560" y="5142240"/>
                    <a:ext cx="201240" cy="2732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3615840" y="533952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3" name=""/>
                <p:cNvGrpSpPr/>
                <p:nvPr/>
              </p:nvGrpSpPr>
              <p:grpSpPr>
                <a:xfrm>
                  <a:off x="3666240" y="5019120"/>
                  <a:ext cx="402840" cy="836280"/>
                  <a:chOff x="3666240" y="5019120"/>
                  <a:chExt cx="402840" cy="836280"/>
                </a:xfrm>
              </p:grpSpPr>
              <p:sp>
                <p:nvSpPr>
                  <p:cNvPr id="2864" name=""/>
                  <p:cNvSpPr/>
                  <p:nvPr/>
                </p:nvSpPr>
                <p:spPr>
                  <a:xfrm>
                    <a:off x="3803040" y="504900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3666240" y="531792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3699360" y="545544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3768480" y="558504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3785760" y="523548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3947760" y="501912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3845520" y="518688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3710160" y="541116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2" name=""/>
                <p:cNvSpPr/>
                <p:nvPr/>
              </p:nvSpPr>
              <p:spPr>
                <a:xfrm>
                  <a:off x="3938760" y="510768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3" name=""/>
              <p:cNvGrpSpPr/>
              <p:nvPr/>
            </p:nvGrpSpPr>
            <p:grpSpPr>
              <a:xfrm>
                <a:off x="3831840" y="4876920"/>
                <a:ext cx="1472040" cy="1428120"/>
                <a:chOff x="3831840" y="4876920"/>
                <a:chExt cx="1472040" cy="1428120"/>
              </a:xfrm>
            </p:grpSpPr>
            <p:sp>
              <p:nvSpPr>
                <p:cNvPr id="2874" name=""/>
                <p:cNvSpPr/>
                <p:nvPr/>
              </p:nvSpPr>
              <p:spPr>
                <a:xfrm>
                  <a:off x="4299840" y="491940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4597560" y="487692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4863960" y="527400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4001760" y="554112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4735080" y="563148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3867840" y="567756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3831840" y="536400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3963960" y="500472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4367520" y="571824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4935240" y="504936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4832640" y="487692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3949920" y="4987440"/>
                  <a:ext cx="1279440" cy="113220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6" name=""/>
            <p:cNvGrpSpPr/>
            <p:nvPr/>
          </p:nvGrpSpPr>
          <p:grpSpPr>
            <a:xfrm>
              <a:off x="3899520" y="5065200"/>
              <a:ext cx="1265760" cy="864720"/>
              <a:chOff x="3899520" y="5065200"/>
              <a:chExt cx="1265760" cy="864720"/>
            </a:xfrm>
          </p:grpSpPr>
          <p:sp>
            <p:nvSpPr>
              <p:cNvPr id="2887" name=""/>
              <p:cNvSpPr/>
              <p:nvPr/>
            </p:nvSpPr>
            <p:spPr>
              <a:xfrm>
                <a:off x="3899520" y="5065200"/>
                <a:ext cx="1265760" cy="5374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899520" y="5393880"/>
                <a:ext cx="1233720" cy="536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9" name=""/>
          <p:cNvGrpSpPr/>
          <p:nvPr/>
        </p:nvGrpSpPr>
        <p:grpSpPr>
          <a:xfrm>
            <a:off x="5029200" y="5105520"/>
            <a:ext cx="511200" cy="330120"/>
            <a:chOff x="5029200" y="5105520"/>
            <a:chExt cx="511200" cy="330120"/>
          </a:xfrm>
        </p:grpSpPr>
        <p:grpSp>
          <p:nvGrpSpPr>
            <p:cNvPr id="2890" name=""/>
            <p:cNvGrpSpPr/>
            <p:nvPr/>
          </p:nvGrpSpPr>
          <p:grpSpPr>
            <a:xfrm>
              <a:off x="5029920" y="5148000"/>
              <a:ext cx="322560" cy="287640"/>
              <a:chOff x="5029920" y="5148000"/>
              <a:chExt cx="322560" cy="287640"/>
            </a:xfrm>
          </p:grpSpPr>
          <p:sp>
            <p:nvSpPr>
              <p:cNvPr id="2891" name=""/>
              <p:cNvSpPr/>
              <p:nvPr/>
            </p:nvSpPr>
            <p:spPr>
              <a:xfrm>
                <a:off x="50299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0299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5352480" y="5157720"/>
              <a:ext cx="186120" cy="277920"/>
              <a:chOff x="5352480" y="5157720"/>
              <a:chExt cx="186120" cy="277920"/>
            </a:xfrm>
          </p:grpSpPr>
          <p:sp>
            <p:nvSpPr>
              <p:cNvPr id="2894" name=""/>
              <p:cNvSpPr/>
              <p:nvPr/>
            </p:nvSpPr>
            <p:spPr>
              <a:xfrm>
                <a:off x="53524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3524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6" name=""/>
            <p:cNvGrpSpPr/>
            <p:nvPr/>
          </p:nvGrpSpPr>
          <p:grpSpPr>
            <a:xfrm>
              <a:off x="5029200" y="5105520"/>
              <a:ext cx="511200" cy="115920"/>
              <a:chOff x="5029200" y="5105520"/>
              <a:chExt cx="511200" cy="115920"/>
            </a:xfrm>
          </p:grpSpPr>
          <p:sp>
            <p:nvSpPr>
              <p:cNvPr id="2897" name=""/>
              <p:cNvSpPr/>
              <p:nvPr/>
            </p:nvSpPr>
            <p:spPr>
              <a:xfrm>
                <a:off x="50292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0292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9" name=""/>
            <p:cNvSpPr/>
            <p:nvPr/>
          </p:nvSpPr>
          <p:spPr>
            <a:xfrm>
              <a:off x="504936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04936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04936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02" name=""/>
            <p:cNvGrpSpPr/>
            <p:nvPr/>
          </p:nvGrpSpPr>
          <p:grpSpPr>
            <a:xfrm>
              <a:off x="5068440" y="5196600"/>
              <a:ext cx="132840" cy="56160"/>
              <a:chOff x="5068440" y="5196600"/>
              <a:chExt cx="132840" cy="56160"/>
            </a:xfrm>
          </p:grpSpPr>
          <p:sp>
            <p:nvSpPr>
              <p:cNvPr id="2903" name=""/>
              <p:cNvSpPr/>
              <p:nvPr/>
            </p:nvSpPr>
            <p:spPr>
              <a:xfrm>
                <a:off x="50684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0684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5" name=""/>
            <p:cNvGrpSpPr/>
            <p:nvPr/>
          </p:nvGrpSpPr>
          <p:grpSpPr>
            <a:xfrm>
              <a:off x="5067000" y="5256720"/>
              <a:ext cx="83160" cy="83880"/>
              <a:chOff x="5067000" y="5256720"/>
              <a:chExt cx="83160" cy="83880"/>
            </a:xfrm>
          </p:grpSpPr>
          <p:sp>
            <p:nvSpPr>
              <p:cNvPr id="2906" name=""/>
              <p:cNvSpPr/>
              <p:nvPr/>
            </p:nvSpPr>
            <p:spPr>
              <a:xfrm>
                <a:off x="50670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0670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8" name=""/>
          <p:cNvGrpSpPr/>
          <p:nvPr/>
        </p:nvGrpSpPr>
        <p:grpSpPr>
          <a:xfrm>
            <a:off x="3886200" y="5562720"/>
            <a:ext cx="507960" cy="330120"/>
            <a:chOff x="3886200" y="5562720"/>
            <a:chExt cx="507960" cy="330120"/>
          </a:xfrm>
        </p:grpSpPr>
        <p:grpSp>
          <p:nvGrpSpPr>
            <p:cNvPr id="2909" name=""/>
            <p:cNvGrpSpPr/>
            <p:nvPr/>
          </p:nvGrpSpPr>
          <p:grpSpPr>
            <a:xfrm>
              <a:off x="3886920" y="5605200"/>
              <a:ext cx="320400" cy="287640"/>
              <a:chOff x="3886920" y="5605200"/>
              <a:chExt cx="320400" cy="287640"/>
            </a:xfrm>
          </p:grpSpPr>
          <p:sp>
            <p:nvSpPr>
              <p:cNvPr id="2910" name=""/>
              <p:cNvSpPr/>
              <p:nvPr/>
            </p:nvSpPr>
            <p:spPr>
              <a:xfrm>
                <a:off x="388692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88692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4207680" y="5614920"/>
              <a:ext cx="184680" cy="277920"/>
              <a:chOff x="4207680" y="5614920"/>
              <a:chExt cx="184680" cy="277920"/>
            </a:xfrm>
          </p:grpSpPr>
          <p:sp>
            <p:nvSpPr>
              <p:cNvPr id="2913" name=""/>
              <p:cNvSpPr/>
              <p:nvPr/>
            </p:nvSpPr>
            <p:spPr>
              <a:xfrm>
                <a:off x="420768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0768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3886200" y="5562720"/>
              <a:ext cx="507960" cy="115920"/>
              <a:chOff x="3886200" y="5562720"/>
              <a:chExt cx="507960" cy="115920"/>
            </a:xfrm>
          </p:grpSpPr>
          <p:sp>
            <p:nvSpPr>
              <p:cNvPr id="2916" name=""/>
              <p:cNvSpPr/>
              <p:nvPr/>
            </p:nvSpPr>
            <p:spPr>
              <a:xfrm>
                <a:off x="388620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88620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8" name=""/>
            <p:cNvSpPr/>
            <p:nvPr/>
          </p:nvSpPr>
          <p:spPr>
            <a:xfrm>
              <a:off x="3906360" y="563112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906360" y="569304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906360" y="563112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1" name=""/>
            <p:cNvGrpSpPr/>
            <p:nvPr/>
          </p:nvGrpSpPr>
          <p:grpSpPr>
            <a:xfrm>
              <a:off x="3925080" y="5653800"/>
              <a:ext cx="132120" cy="56160"/>
              <a:chOff x="3925080" y="5653800"/>
              <a:chExt cx="132120" cy="56160"/>
            </a:xfrm>
          </p:grpSpPr>
          <p:sp>
            <p:nvSpPr>
              <p:cNvPr id="2922" name=""/>
              <p:cNvSpPr/>
              <p:nvPr/>
            </p:nvSpPr>
            <p:spPr>
              <a:xfrm>
                <a:off x="392508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92508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4" name=""/>
            <p:cNvGrpSpPr/>
            <p:nvPr/>
          </p:nvGrpSpPr>
          <p:grpSpPr>
            <a:xfrm>
              <a:off x="3923640" y="5713920"/>
              <a:ext cx="82440" cy="83880"/>
              <a:chOff x="3923640" y="5713920"/>
              <a:chExt cx="82440" cy="83880"/>
            </a:xfrm>
          </p:grpSpPr>
          <p:sp>
            <p:nvSpPr>
              <p:cNvPr id="2925" name=""/>
              <p:cNvSpPr/>
              <p:nvPr/>
            </p:nvSpPr>
            <p:spPr>
              <a:xfrm>
                <a:off x="392364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92364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7" name=""/>
          <p:cNvGrpSpPr/>
          <p:nvPr/>
        </p:nvGrpSpPr>
        <p:grpSpPr>
          <a:xfrm>
            <a:off x="4419720" y="5257800"/>
            <a:ext cx="511200" cy="330120"/>
            <a:chOff x="4419720" y="5257800"/>
            <a:chExt cx="511200" cy="330120"/>
          </a:xfrm>
        </p:grpSpPr>
        <p:grpSp>
          <p:nvGrpSpPr>
            <p:cNvPr id="2928" name=""/>
            <p:cNvGrpSpPr/>
            <p:nvPr/>
          </p:nvGrpSpPr>
          <p:grpSpPr>
            <a:xfrm>
              <a:off x="4420440" y="5300280"/>
              <a:ext cx="322560" cy="287640"/>
              <a:chOff x="4420440" y="5300280"/>
              <a:chExt cx="322560" cy="287640"/>
            </a:xfrm>
          </p:grpSpPr>
          <p:sp>
            <p:nvSpPr>
              <p:cNvPr id="2929" name=""/>
              <p:cNvSpPr/>
              <p:nvPr/>
            </p:nvSpPr>
            <p:spPr>
              <a:xfrm>
                <a:off x="442044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42044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1" name=""/>
            <p:cNvGrpSpPr/>
            <p:nvPr/>
          </p:nvGrpSpPr>
          <p:grpSpPr>
            <a:xfrm>
              <a:off x="4743000" y="5310000"/>
              <a:ext cx="186120" cy="277920"/>
              <a:chOff x="4743000" y="5310000"/>
              <a:chExt cx="186120" cy="277920"/>
            </a:xfrm>
          </p:grpSpPr>
          <p:sp>
            <p:nvSpPr>
              <p:cNvPr id="2932" name=""/>
              <p:cNvSpPr/>
              <p:nvPr/>
            </p:nvSpPr>
            <p:spPr>
              <a:xfrm>
                <a:off x="474300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74300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4" name=""/>
            <p:cNvGrpSpPr/>
            <p:nvPr/>
          </p:nvGrpSpPr>
          <p:grpSpPr>
            <a:xfrm>
              <a:off x="4419720" y="5257800"/>
              <a:ext cx="511200" cy="115920"/>
              <a:chOff x="4419720" y="5257800"/>
              <a:chExt cx="511200" cy="115920"/>
            </a:xfrm>
          </p:grpSpPr>
          <p:sp>
            <p:nvSpPr>
              <p:cNvPr id="2935" name=""/>
              <p:cNvSpPr/>
              <p:nvPr/>
            </p:nvSpPr>
            <p:spPr>
              <a:xfrm>
                <a:off x="441972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41972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7" name=""/>
            <p:cNvSpPr/>
            <p:nvPr/>
          </p:nvSpPr>
          <p:spPr>
            <a:xfrm>
              <a:off x="443988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43988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43988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0" name=""/>
            <p:cNvGrpSpPr/>
            <p:nvPr/>
          </p:nvGrpSpPr>
          <p:grpSpPr>
            <a:xfrm>
              <a:off x="4458960" y="5348880"/>
              <a:ext cx="132840" cy="56160"/>
              <a:chOff x="4458960" y="5348880"/>
              <a:chExt cx="132840" cy="56160"/>
            </a:xfrm>
          </p:grpSpPr>
          <p:sp>
            <p:nvSpPr>
              <p:cNvPr id="2941" name=""/>
              <p:cNvSpPr/>
              <p:nvPr/>
            </p:nvSpPr>
            <p:spPr>
              <a:xfrm>
                <a:off x="445896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45896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3" name=""/>
            <p:cNvGrpSpPr/>
            <p:nvPr/>
          </p:nvGrpSpPr>
          <p:grpSpPr>
            <a:xfrm>
              <a:off x="4457520" y="5409000"/>
              <a:ext cx="83160" cy="83880"/>
              <a:chOff x="4457520" y="5409000"/>
              <a:chExt cx="83160" cy="83880"/>
            </a:xfrm>
          </p:grpSpPr>
          <p:sp>
            <p:nvSpPr>
              <p:cNvPr id="2944" name=""/>
              <p:cNvSpPr/>
              <p:nvPr/>
            </p:nvSpPr>
            <p:spPr>
              <a:xfrm>
                <a:off x="445752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45752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6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2947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2948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0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2951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3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2954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56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59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2960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2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2963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5" name=""/>
          <p:cNvGrpSpPr/>
          <p:nvPr/>
        </p:nvGrpSpPr>
        <p:grpSpPr>
          <a:xfrm>
            <a:off x="3657600" y="5029200"/>
            <a:ext cx="511200" cy="330120"/>
            <a:chOff x="3657600" y="5029200"/>
            <a:chExt cx="511200" cy="330120"/>
          </a:xfrm>
        </p:grpSpPr>
        <p:grpSp>
          <p:nvGrpSpPr>
            <p:cNvPr id="2966" name=""/>
            <p:cNvGrpSpPr/>
            <p:nvPr/>
          </p:nvGrpSpPr>
          <p:grpSpPr>
            <a:xfrm>
              <a:off x="3658320" y="5071680"/>
              <a:ext cx="322560" cy="287640"/>
              <a:chOff x="3658320" y="5071680"/>
              <a:chExt cx="322560" cy="287640"/>
            </a:xfrm>
          </p:grpSpPr>
          <p:sp>
            <p:nvSpPr>
              <p:cNvPr id="2967" name=""/>
              <p:cNvSpPr/>
              <p:nvPr/>
            </p:nvSpPr>
            <p:spPr>
              <a:xfrm>
                <a:off x="3658320" y="50716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658320" y="50716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9" name=""/>
            <p:cNvGrpSpPr/>
            <p:nvPr/>
          </p:nvGrpSpPr>
          <p:grpSpPr>
            <a:xfrm>
              <a:off x="3980880" y="5081400"/>
              <a:ext cx="186120" cy="277920"/>
              <a:chOff x="3980880" y="5081400"/>
              <a:chExt cx="186120" cy="277920"/>
            </a:xfrm>
          </p:grpSpPr>
          <p:sp>
            <p:nvSpPr>
              <p:cNvPr id="2970" name=""/>
              <p:cNvSpPr/>
              <p:nvPr/>
            </p:nvSpPr>
            <p:spPr>
              <a:xfrm>
                <a:off x="3980880" y="50814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980880" y="50814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2" name=""/>
            <p:cNvGrpSpPr/>
            <p:nvPr/>
          </p:nvGrpSpPr>
          <p:grpSpPr>
            <a:xfrm>
              <a:off x="3657600" y="5029200"/>
              <a:ext cx="511200" cy="115920"/>
              <a:chOff x="3657600" y="5029200"/>
              <a:chExt cx="511200" cy="115920"/>
            </a:xfrm>
          </p:grpSpPr>
          <p:sp>
            <p:nvSpPr>
              <p:cNvPr id="2973" name=""/>
              <p:cNvSpPr/>
              <p:nvPr/>
            </p:nvSpPr>
            <p:spPr>
              <a:xfrm>
                <a:off x="3657600" y="50292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657600" y="50292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5" name=""/>
            <p:cNvSpPr/>
            <p:nvPr/>
          </p:nvSpPr>
          <p:spPr>
            <a:xfrm>
              <a:off x="3677760" y="50976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677760" y="51595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677760" y="50976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78" name=""/>
            <p:cNvGrpSpPr/>
            <p:nvPr/>
          </p:nvGrpSpPr>
          <p:grpSpPr>
            <a:xfrm>
              <a:off x="3696840" y="5120280"/>
              <a:ext cx="132840" cy="56160"/>
              <a:chOff x="3696840" y="5120280"/>
              <a:chExt cx="132840" cy="56160"/>
            </a:xfrm>
          </p:grpSpPr>
          <p:sp>
            <p:nvSpPr>
              <p:cNvPr id="2979" name=""/>
              <p:cNvSpPr/>
              <p:nvPr/>
            </p:nvSpPr>
            <p:spPr>
              <a:xfrm>
                <a:off x="3696840" y="51202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696840" y="51202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1" name=""/>
            <p:cNvGrpSpPr/>
            <p:nvPr/>
          </p:nvGrpSpPr>
          <p:grpSpPr>
            <a:xfrm>
              <a:off x="3695400" y="5180400"/>
              <a:ext cx="83160" cy="83880"/>
              <a:chOff x="3695400" y="5180400"/>
              <a:chExt cx="83160" cy="83880"/>
            </a:xfrm>
          </p:grpSpPr>
          <p:sp>
            <p:nvSpPr>
              <p:cNvPr id="2982" name=""/>
              <p:cNvSpPr/>
              <p:nvPr/>
            </p:nvSpPr>
            <p:spPr>
              <a:xfrm>
                <a:off x="3695400" y="51804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695400" y="51804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4" name=""/>
          <p:cNvGrpSpPr/>
          <p:nvPr/>
        </p:nvGrpSpPr>
        <p:grpSpPr>
          <a:xfrm>
            <a:off x="4572000" y="5715000"/>
            <a:ext cx="511200" cy="330120"/>
            <a:chOff x="4572000" y="5715000"/>
            <a:chExt cx="511200" cy="330120"/>
          </a:xfrm>
        </p:grpSpPr>
        <p:grpSp>
          <p:nvGrpSpPr>
            <p:cNvPr id="2985" name=""/>
            <p:cNvGrpSpPr/>
            <p:nvPr/>
          </p:nvGrpSpPr>
          <p:grpSpPr>
            <a:xfrm>
              <a:off x="4572720" y="5757480"/>
              <a:ext cx="322560" cy="287640"/>
              <a:chOff x="4572720" y="5757480"/>
              <a:chExt cx="322560" cy="287640"/>
            </a:xfrm>
          </p:grpSpPr>
          <p:sp>
            <p:nvSpPr>
              <p:cNvPr id="2986" name=""/>
              <p:cNvSpPr/>
              <p:nvPr/>
            </p:nvSpPr>
            <p:spPr>
              <a:xfrm>
                <a:off x="4572720" y="57574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572720" y="57574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8" name=""/>
            <p:cNvGrpSpPr/>
            <p:nvPr/>
          </p:nvGrpSpPr>
          <p:grpSpPr>
            <a:xfrm>
              <a:off x="4895280" y="5767200"/>
              <a:ext cx="186120" cy="277920"/>
              <a:chOff x="4895280" y="5767200"/>
              <a:chExt cx="186120" cy="277920"/>
            </a:xfrm>
          </p:grpSpPr>
          <p:sp>
            <p:nvSpPr>
              <p:cNvPr id="2989" name=""/>
              <p:cNvSpPr/>
              <p:nvPr/>
            </p:nvSpPr>
            <p:spPr>
              <a:xfrm>
                <a:off x="4895280" y="57672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895280" y="57672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1" name=""/>
            <p:cNvGrpSpPr/>
            <p:nvPr/>
          </p:nvGrpSpPr>
          <p:grpSpPr>
            <a:xfrm>
              <a:off x="4572000" y="5715000"/>
              <a:ext cx="511200" cy="115920"/>
              <a:chOff x="4572000" y="5715000"/>
              <a:chExt cx="511200" cy="115920"/>
            </a:xfrm>
          </p:grpSpPr>
          <p:sp>
            <p:nvSpPr>
              <p:cNvPr id="2992" name=""/>
              <p:cNvSpPr/>
              <p:nvPr/>
            </p:nvSpPr>
            <p:spPr>
              <a:xfrm>
                <a:off x="4572000" y="57150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572000" y="57150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4" name=""/>
            <p:cNvSpPr/>
            <p:nvPr/>
          </p:nvSpPr>
          <p:spPr>
            <a:xfrm>
              <a:off x="4592160" y="57834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592160" y="58453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92160" y="57834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97" name=""/>
            <p:cNvGrpSpPr/>
            <p:nvPr/>
          </p:nvGrpSpPr>
          <p:grpSpPr>
            <a:xfrm>
              <a:off x="4611240" y="5806080"/>
              <a:ext cx="132840" cy="56160"/>
              <a:chOff x="4611240" y="5806080"/>
              <a:chExt cx="132840" cy="56160"/>
            </a:xfrm>
          </p:grpSpPr>
          <p:sp>
            <p:nvSpPr>
              <p:cNvPr id="2998" name=""/>
              <p:cNvSpPr/>
              <p:nvPr/>
            </p:nvSpPr>
            <p:spPr>
              <a:xfrm>
                <a:off x="4611240" y="58060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611240" y="58060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0" name=""/>
            <p:cNvGrpSpPr/>
            <p:nvPr/>
          </p:nvGrpSpPr>
          <p:grpSpPr>
            <a:xfrm>
              <a:off x="4609800" y="5866200"/>
              <a:ext cx="83160" cy="83880"/>
              <a:chOff x="4609800" y="5866200"/>
              <a:chExt cx="83160" cy="83880"/>
            </a:xfrm>
          </p:grpSpPr>
          <p:sp>
            <p:nvSpPr>
              <p:cNvPr id="3001" name=""/>
              <p:cNvSpPr/>
              <p:nvPr/>
            </p:nvSpPr>
            <p:spPr>
              <a:xfrm>
                <a:off x="4609800" y="58662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609800" y="58662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3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3011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3012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4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3015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7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3018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20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23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3024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6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3027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9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3030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3031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3034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6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3037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9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0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3041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3042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4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47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3048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0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3051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3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3054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3057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9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3060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2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3063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5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9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3070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3071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3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3074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6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3077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9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0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3081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3082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4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7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3088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0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3091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3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3094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3097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3100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02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3103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5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9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3110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3111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3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3114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6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3117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19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0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3121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3122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4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7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3128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3131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3134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6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3137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9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3140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42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3143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5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9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1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3152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53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3154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0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3161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3162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3165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7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3168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0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3174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6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3177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9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3180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3181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3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3184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6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3187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9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0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3191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3192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4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7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3198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0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3201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3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3204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6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3207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9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3210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2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3213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5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9" name=""/>
          <p:cNvSpPr/>
          <p:nvPr/>
        </p:nvSpPr>
        <p:spPr>
          <a:xfrm>
            <a:off x="1728720" y="2286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0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3221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3222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3225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7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3228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30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3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3234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6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3237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9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3240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3241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3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3244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6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3247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9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2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3253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55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3256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8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3259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3260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2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3263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5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3266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8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71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3272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4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3275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7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4267080" y="3867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2827800" y="617220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3" name=""/>
          <p:cNvGrpSpPr/>
          <p:nvPr/>
        </p:nvGrpSpPr>
        <p:grpSpPr>
          <a:xfrm>
            <a:off x="7248600" y="3124080"/>
            <a:ext cx="1107720" cy="785880"/>
            <a:chOff x="7248600" y="3124080"/>
            <a:chExt cx="1107720" cy="785880"/>
          </a:xfrm>
        </p:grpSpPr>
        <p:sp>
          <p:nvSpPr>
            <p:cNvPr id="3284" name=""/>
            <p:cNvSpPr/>
            <p:nvPr/>
          </p:nvSpPr>
          <p:spPr>
            <a:xfrm flipH="1">
              <a:off x="8003880" y="3124080"/>
              <a:ext cx="352440" cy="166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7248600" y="3562200"/>
              <a:ext cx="247680" cy="347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6" name=""/>
          <p:cNvSpPr/>
          <p:nvPr/>
        </p:nvSpPr>
        <p:spPr>
          <a:xfrm flipH="1">
            <a:off x="6629040" y="4267080"/>
            <a:ext cx="1522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H="1" flipV="1">
            <a:off x="6060960" y="3303720"/>
            <a:ext cx="185760" cy="1187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5410080" y="4952880"/>
            <a:ext cx="4572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533520" y="65412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.  RESV message forwarded transparently through Diff-Ser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533520" y="99072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.  Receiver policy check may be applied at Diff-Serv edg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33520" y="137160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.  RESV is forwarded to campus egress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33520" y="175248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6.  Router applies internal resource check and receiv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533520" y="213372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7.  Checks approved, RESV forwar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 flipH="1">
            <a:off x="4038120" y="523872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 flipH="1">
            <a:off x="4601880" y="4411800"/>
            <a:ext cx="4680" cy="5745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flipH="1" flipV="1">
            <a:off x="3325680" y="5003640"/>
            <a:ext cx="331920" cy="330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flipV="1">
            <a:off x="3276720" y="3276720"/>
            <a:ext cx="152280" cy="1295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2436840" y="4292640"/>
            <a:ext cx="177840" cy="25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00:09:50Z</dcterms:created>
  <dc:creator>aruna,yoramb,timmoore,vponcini</dc:creator>
  <dc:description/>
  <dc:language>en-US</dc:language>
  <cp:lastModifiedBy>Harry R. Worstell</cp:lastModifiedBy>
  <dcterms:modified xsi:type="dcterms:W3CDTF">2000-07-10T19:46:50Z</dcterms:modified>
  <cp:revision>70</cp:revision>
  <dc:subject/>
  <dc:title>MS_QoS_Scenarios</dc:title>
</cp:coreProperties>
</file>