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631-4C7C-4776-9553-5A846A3C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3EA-A16E-4639-B25E-7EF4A1D3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BE9-1FB0-498A-908D-8F8D6442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161-95CA-4B1E-AB0D-CA51B489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34A-0CDF-4BB6-8750-578BE4F4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562-32E2-409D-B484-B4637FC6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15C-1532-4D3C-A270-F82C65C1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CB0-88EA-4E2B-A676-7B7070F5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701-2E73-4CD9-882F-3A7253D3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6DD-9735-4D31-8103-F0E6C2E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C4A-A392-4326-AEBE-411A22E6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2BE-DA14-451F-AFF9-433B2971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a Kasslin and Antti Lappeteläinen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8DABE3-2E49-48B0-BF2D-13A9A09A4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tter Power Control (TPC) for 802.11 WLAN - Rev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a Kasslin and Antti Lappetelä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FC7-9622-4A63-BD37-6E1527CBF7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/ID field used to sign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+ CF-Poll, Data + CF-Ack + CF-Poll and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3594240"/>
          <a:ext cx="9068040" cy="74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94240"/>
                    <a:ext cx="9068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90720" y="4329000"/>
          <a:ext cx="7238880" cy="21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29000"/>
                    <a:ext cx="72388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E0B-C476-4897-B882-A2C9E127B3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chanism to adjust AP's transmission power in a range of few decibels, e.g. 6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ly up to the manufacturer to decide how many power levels and which on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CF1-3DCB-4E51-B3E8-5BA6BE2A0B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ments on a frame-by-frame base (i.e. in the beginning of the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3 dB between consecutiv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imit (e.g. 9 dB) for the cumulative power changes over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E08-88B6-47BE-A141-CBADEA2AAF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required in 5 GHz in CEP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p- and down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B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tailored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control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power limitation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the exist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 for TPC in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152-FA2F-4D99-AA52-18EEA46CAD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490-A632-434E-9901-DF7E85CE89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ANs can be deployed in 5 GHz band in CEPT countries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adiocommunications Committee (ERC) decision ERC/DEC/(99)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limitations, indoor vs. indoor+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ter Power Control (T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Frequency Selection (D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power dissipation, system capac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A0A-1B83-4E4B-AC80-A15D5BFE26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50-5350 MHz for indoor use, mean EIRP limited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70-5725 MHz for indoor and outdoor use, mean EIRP limited to 1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process requ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 up- and downlink to reduce the interference effect caused by RLANs under the coverage area of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a mitigation factor of at least 3 dB on the average output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667-5289-4FFA-8CD4-49EA7B4A0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chemes for CP and C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ower limit for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limitation for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mainly to up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ownlink AP's transmission power has to be adju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beyond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slow adjustments with small step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1F5-45A6-4B81-9349-DBC1A45FBB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ol signals convey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oll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7760" y="1371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40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13372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5360" y="180180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000" y="20574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57400" y="28954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7120" y="25750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fram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4280" y="2819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"background"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3400" y="348948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powe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1400" y="37339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nica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10666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981080"/>
            <a:ext cx="106704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2895480"/>
            <a:ext cx="173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0400" y="2879640"/>
            <a:ext cx="19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_TxP + C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854-9A78-4E4B-B4C9-897061E333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its own transmission power "freel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requirements in the stand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0FE-43CA-4177-8E64-806A89E4CD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pper pow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djustment needed also in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5520" y="1889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1st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2400" y="1889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65104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6360" y="23194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/1st STA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5000" y="257508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106668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498760"/>
            <a:ext cx="106704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400" y="3413160"/>
            <a:ext cx="15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0760" y="339732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9EC-05B1-43A6-9C85-996EB77BDA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fram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xed fiel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5812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def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P_TxP in HIPERLAN/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5-30 dBm covered by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24080" y="3124080"/>
          <a:ext cx="693432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693432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D09-AAA3-4732-8B1D-A64563B796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6:48:11Z</dcterms:created>
  <dc:creator>Mika Kasslin</dc:creator>
  <dc:description/>
  <dc:language>en-US</dc:language>
  <cp:lastModifiedBy>Mika Kasslin</cp:lastModifiedBy>
  <cp:lastPrinted>1998-02-10T13:28:06Z</cp:lastPrinted>
  <dcterms:modified xsi:type="dcterms:W3CDTF">2000-09-09T14:09:15Z</dcterms:modified>
  <cp:revision>31</cp:revision>
  <dc:subject/>
  <dc:title>Transmitter Power Control (TPC) for 802.11 WLAN</dc:title>
</cp:coreProperties>
</file>