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978E-D8FC-4C13-AC25-3009A73B4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13FC-4F86-4C56-BFBD-91FA79C0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B373-DCB9-46B4-A134-C96979F2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717B-2CBA-41C5-B7EB-BAB3D79A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3EF2-1EE5-4CFB-ABA0-7625756B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D797-F3CC-41BF-9FE1-8C46BBC3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6479-4CDB-49DA-A194-140C7AA0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FD76-CDCA-4D68-BF9B-F5DCB990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BCDF-011A-4D54-B7DE-26728984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B7CA-764A-4DEC-84D5-E0E356B0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B5AC-AFFB-4ACE-9E0C-1A3EA138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38E9-D870-4C09-BF6C-9E0183A3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72576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ka Kasslin and Antti Lappeteläinen, Nok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2F5561E-8AA7-4799-822A-FB35E62EE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7621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mitter Power Control (TPC) for 802.11 WLAN - Rev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ka Kasslin and Antti Lappetelä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kia Research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5E12-4BFF-44CF-8C60-662EB031156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 format modifications (2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ation/ID field used to signa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+ CF-Poll, Data + CF-Ack + CF-Poll and CF-Po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52280" y="3594240"/>
          <a:ext cx="9068040" cy="74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594240"/>
                    <a:ext cx="906804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990720" y="4329000"/>
          <a:ext cx="7238880" cy="214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4329000"/>
                    <a:ext cx="7238880" cy="21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3927-249D-40F8-9F74-07EA3BB0FCB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justing TxP in D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chanism to adjust AP's transmission power in a range of few decibels, e.g. 6 d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ly up to the manufacturer to decide how many power levels and which ones ar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DA3F-3DFC-42A9-9EBF-766BC973BD6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justing TxP in DL -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ustments on a frame-by-frame base (i.e. in the beginning of the CF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 3 dB between consecutive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per limit (e.g. 9 dB) for the cumulative power changes over several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B14E-037C-4380-87CE-3D7D9FF5E55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PC required in 5 GHz in CEP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up- and down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dB mit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PC tailored for 802.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-specific power control for P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power limitation for D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cations to the existing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rules for TPC in 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EB94-79DF-41DC-BE60-727ABF31F34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a TP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RC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PC for 802.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thod for P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thod for D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me format mod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74D3-7169-4C05-8A44-02F04331EF0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 TP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LANs can be deployed in 5 GHz band in CEPT countries under certain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ropean Radiocommunications Committee (ERC) decision ERC/DEC/(99)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limitations, indoor vs. indoor+out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mitter Power Control (T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Frequency Selection (DF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 power dissipation, system capacity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1ACA-0CC9-4459-9B0B-BA78299AA0C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RC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ated b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50-5350 MHz for indoor use, mean EIRP limited to 20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70-5725 MHz for indoor and outdoor use, mean EIRP limited to 1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PC process requir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in up- and downlink to reduce the interference effect caused by RLANs under the coverage area of a satel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nsure a mitigation factor of at least 3 dB on the average output po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24E8-CEB6-4604-B4B5-13FBC152D5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schemes for CP and CF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mon power limit for 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-specific power limitation for CF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 mainly to uplin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ownlink AP's transmission power has to be adjus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beyond the scope of the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ely slow adjustments with small steps prefer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89CC-B79F-48F8-8A73-B23DDEDCF3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PC for CFP (1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6000"/>
          </a:bodyPr>
          <a:p>
            <a:pPr marL="54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control signals conveyed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040" indent="-4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aconTx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Beacon management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040" indent="-4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x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Poll data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175248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6600" y="175248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97760" y="13716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92400" y="13716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213372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95360" y="1801800"/>
            <a:ext cx="27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's transmission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95000" y="2057400"/>
            <a:ext cx="25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broadcasted regula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057400" y="289548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57120" y="2575080"/>
            <a:ext cx="29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 frame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94280" y="2819520"/>
            <a:ext cx="25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"background"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380988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3400" y="3489480"/>
            <a:ext cx="33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-specific power 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51400" y="373392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unicast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981080"/>
            <a:ext cx="1066680" cy="838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PC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981080"/>
            <a:ext cx="1067040" cy="838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PC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3120" y="2895480"/>
            <a:ext cx="1730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djust ow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x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Determ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-specif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0400" y="2879640"/>
            <a:ext cx="192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Determ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wn TxPow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_TxP + Co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9DC8-FA80-4764-A030-4C7067D99F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PC for CFP (2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 determines its own transmission power "freely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uracy requirements in the stand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x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e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S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E123-0007-4BBE-B5FF-5E5E2A9860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PC for 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upper power li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aconTx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beac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adjustment needed also in IB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227016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227016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45520" y="1889280"/>
            <a:ext cx="171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/1st 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92400" y="188928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7400" y="265104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36360" y="2319480"/>
            <a:ext cx="361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/1st STA's transmission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95000" y="2575080"/>
            <a:ext cx="25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broadcasted regula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98760"/>
            <a:ext cx="1066680" cy="8380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PC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238880" y="2498760"/>
            <a:ext cx="1067040" cy="8380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PC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400" y="3413160"/>
            <a:ext cx="157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djust ow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x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60760" y="3397320"/>
            <a:ext cx="174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Determ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wn Tx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A747-CDDD-4550-A45F-30EB1B75383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 format modifications (1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new frame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ixed field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eaconTx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beacon fr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358128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about defin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eaconTx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AP_TxP in HIPERLAN/2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5-30 dBm covered by 4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124080" y="3124080"/>
          <a:ext cx="6934320" cy="337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3124080"/>
                    <a:ext cx="6934320" cy="33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9F4D-70D7-431B-B8B2-A4E9DD535D3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0T16:48:11Z</dcterms:created>
  <dc:creator>Mika Kasslin</dc:creator>
  <dc:description/>
  <dc:language>en-US</dc:language>
  <cp:lastModifiedBy>Mika Kasslin</cp:lastModifiedBy>
  <cp:lastPrinted>1998-02-10T13:28:06Z</cp:lastPrinted>
  <dcterms:modified xsi:type="dcterms:W3CDTF">2000-09-09T14:09:15Z</dcterms:modified>
  <cp:revision>31</cp:revision>
  <dc:subject/>
  <dc:title>Transmitter Power Control (TPC) for 802.11 WLAN</dc:title>
</cp:coreProperties>
</file>