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9990DC-CB2F-4584-A0FD-7C7D4EDB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FEC64D-CFE9-451B-9BEC-7DBA64041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13C206-28C4-4DC7-A7B6-C1986C9F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E79A8E-000A-4DAA-AA8C-CBA6C407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5C141A-BDD1-4821-BC38-CFB5CB48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E4D014-B041-4422-8EC0-379E03F3D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FC0FD1-16B0-4561-BDDA-E711B660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8369B0-AE93-4AF1-BCE4-C9578219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4AC8B9-FD61-463F-BAA8-D6765E1A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9EC6BB-66F7-40AF-835F-E3B3D53B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B1E39A-E1F4-4D04-B20D-C515F0B6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058B36-F000-468F-9253-D5F49240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BD9-4F26-4638-8946-5F9C16C7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16F-A8EE-47F0-B694-78D3BB3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922-A32B-4F49-851A-FFF990F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1C6-C6E4-4F59-9E33-A0284BB6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93D-050C-4BC6-A3B3-18E123C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02D-E1CC-4405-B204-89646815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692-F4B2-4C0D-8634-5CEC15A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535-E322-4265-A434-C51A8207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32F-DF98-4E78-8D8F-750C235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24F-A113-47F5-BD6A-1CEB842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DEF-DEC6-4FF0-B7F5-DFE32029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0AA-D429-45D3-9C32-0261771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1444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1C4603-F943-4571-8087-ECC828BC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Global Standard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SI/IEEE/MMAC Convergence</a:t>
            </a:r>
            <a:br>
              <a:rPr sz="24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ly 2000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old Teunissen, Jan Kru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eunissen@lucent.co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84C-E079-471A-9532-6C7D4E88A28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752120"/>
            <a:ext cx="7670880" cy="42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range of data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ness in contention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QoS in centralized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direct mode with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oS and Security that ties in with the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7DE-3410-4BAB-9656-8688821391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im should be a single implementation that supports both best effort and other Qo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best of each standard but assure backward compatibility with current installed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nter-working with other networks - e.g. IMT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compliance with regional radio regulations and support global spectru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chnical and Conformance Test Specifications as basis for ISO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ACA-7716-4532-9287-CBD8E99C87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roc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a small study group to analyze and propose a converg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common set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roponents of each standard: ETSI/IEEE/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t the next meeting (September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one it with the PHY - we can do it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C92-C80D-45DF-A56D-8E8E7DEF9C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esent the different views on Wireless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stablish working group to study IEEE/ETSI/MMAC WLAN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tandardization for Wireless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F0C-184C-488D-BE76-C11693447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o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nc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c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03A-2897-43B9-8D6B-8D41B7D67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LANs are great and 5 GHz stuff is promising but..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produ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, ETSI, 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imilar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 need two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keep it simpl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9AF-286C-4C95-B8D7-68E693DEE7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or’s 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want one device for Wireless LAN func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is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support of multiple devices is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want smooth migration from 2.4 to 5 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standards guys should get their act together and cooperate with their peers worldw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id it with the PHY, why not with the MAC to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5C8-E8F2-4CF9-A4AC-D23FE6B188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rcia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andard is pref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stalled bas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ss of investment by users/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playing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ugging it out in the market makes no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confusion will delay acceptance by the public as well by integ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is a now or never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2F5-320C-4B10-8A28-6FB2372CE7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Radio Conference of 2003 will decide on 5 GHz spectrum for W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the US, Europe and Japan have different perspectives on the need for such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andard, supported by the three major WLAN standards bodies will significantly improve the spectrum case and improve the prospects for WRC 2003 - as well as in the ITU-R prepara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68D-76DE-4B8C-AE1C-3F2BD9AD1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70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 data ra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Ethern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HY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ATM with Q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AC considers both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D41-1A27-47B8-BDEA-6EFE93D03A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echnical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706400"/>
          <a:ext cx="822636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6400"/>
                    <a:ext cx="82263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7CF-9907-4E65-874A-DBB26A5E35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3:56:51Z</dcterms:created>
  <dc:creator>Kruys, Teunissen</dc:creator>
  <dc:description/>
  <dc:language>en-US</dc:language>
  <cp:lastModifiedBy>Harold Teunissen</cp:lastModifiedBy>
  <cp:lastPrinted>1998-02-10T13:28:06Z</cp:lastPrinted>
  <dcterms:modified xsi:type="dcterms:W3CDTF">2000-07-10T21:02:14Z</dcterms:modified>
  <cp:revision>8</cp:revision>
  <dc:subject/>
  <dc:title>One World Standard for RLANS - 04/07/00 </dc:title>
</cp:coreProperties>
</file>