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671-E6F1-479C-ACAC-B496CBB0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14D-7C01-4C8F-B689-98BCD854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437-96B3-41F9-BEB6-7AEF057E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E53-0BAD-45D6-879F-8FB65D23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E14-68E9-48E5-B361-536C145A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263-F567-4ADB-A141-0C270C0F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D06-462B-427D-98A1-B66E2973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7C8-8F37-495C-9C9C-7025627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E02-33A6-4304-B2A9-DB30ED6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D6E-4227-457D-BDC5-76CBB6F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CE9-192A-4D11-9925-85C2B1F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38E-0D8C-4E1F-A5CD-CE16E04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1F7E27-B030-4E79-8758-536AC088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BE2-69E8-45EC-8653-C9F2A22846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C32F7-B011-4685-AB09-43EEEA8A2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 or define new fields in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roadcast it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implement some ACK mechanism for some STAs such as ones with isochronous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240-6A88-4928-8521-E5B9EB146F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B0778-D227-422A-9216-F0F2937E2C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oves first, then ST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mple as changing the carrie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no such a service primitive d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LME primitives such as MLME-JUMP.request &amp; MLME-JUMP.con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not to require any change in PHY since channel change can be ordered to existing PHY by M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move at the end of a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DE9-1A69-4220-BB97-54CE39B393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F7150-F3C5-4AD6-BFEE-6F81E7A577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some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some new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al 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C02-1587-40EC-BD68-CF3FEF1BB0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2BF2E-121D-4D60-9A31-A34768061C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Channel Selection (DCS) instead of DFS for 802.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subject to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C45-4F79-4BCF-960D-C7B741BF40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4EF5F-0DE5-4D24-87F5-902074BF9A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FEF-C68A-4E3B-AB9F-35757A597D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52535-E4E8-4969-99B9-B77C41EE9A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 and/or STA(s) of a BSS experience bad channel condition per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management frames for the channel condition feedback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s can work for overlapping BS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E60-1425-4F55-8F9E-3B1CF4C7F2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54CC4-23AA-4698-9684-2ADAD7D705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90A-F2EB-4873-97E4-DACD23077E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70E9E-A7B0-4F82-92D1-A75EA19E1F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7FC-8342-4F54-AEAC-227359852E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CF2EB-748A-4ED2-8D1C-5D864CDB7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is available to MAC via PHY_RXSTART only when a meaningful MAC fram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andardize the RSSI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95E-38D6-4E7C-B9DC-90350EE29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C9BDE-051E-4A81-BF1B-15DFE691B8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6F4-B477-422E-A56D-1207593D64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2B54B-BABE-4B48-BB12-A56EB5C5C1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per deciding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C40-0ABF-4410-B4C5-A86FD97F7E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F23FF-4FC4-45FF-ADDD-ADE7B504D1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1T03:48:56Z</dcterms:modified>
  <cp:revision>69</cp:revision>
  <dc:subject>Submissions</dc:subject>
  <dc:title>Dynamic Channel Selection (DCS) Scheme for 802.11</dc:title>
</cp:coreProperties>
</file>