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0CDA-E24E-48F1-9C0B-59B66CA6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1F1A-3054-4D63-8CEF-4A6C80D8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045-B24A-43A9-BA2F-396BF92F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43B2-FC84-43B8-91B4-E17B9551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A5A-92F3-4B89-A397-8463A4B7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7C7-1DAA-41BA-8121-92D28512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0EEB-0B79-4F22-8420-0E2A4467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D09-535E-4997-AFFD-78D90E07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B994-B69F-4879-9422-12CCA68F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EBB-C117-4BDD-B315-8649309A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E5F-D994-4DAA-9A96-387692C7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183-901C-4E1C-AA62-63E86D2D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0E1EBCA-F9D9-40B4-B14F-064C7E214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95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ynamic Channel Selection (DCS) Scheme for 802.11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Cervello, S. Choi, S. Mangold*, and A. Soom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s Research-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rcliff Manor,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Aachen University of Technology, Aachen,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1069-3810-46C8-BD33-7EB1E376082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F7E23-83DA-4577-8A77-804901961B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6. Announce of Channel Switch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announce the channel move decision to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cision announced via beacon frames with a new informatio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unced several times to ensure the decision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260-DD37-47ED-8F72-4B493E4AF1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F74EC-C4A3-4B57-885D-5D1DF69770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7. Switch into New Channel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scheduled moment, e.g., TBTT, all STAs including AP change their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one by changing PHY MIB dot11CurrentChannelNumber using PLME SAP prim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ME-SET.request (MIBattribute, MIBattribute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ME-SET.confirm (status, MIBattribu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68A-96CD-47A8-81D5-25709C8E6E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3E9F5-6601-47CA-B39D-765F8F3E8C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CS mechanism proposed for infrastructure BSS of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-dependent algorithms located in 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of channel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wo (new) managemen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add a new information element in beacon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efined WITHOUT any change in 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257-C943-4856-9E3B-1D62DE7799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1F2C7-A3CB-4CDE-BB4A-86BBFB3F3A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PT requires DFS and T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e to have DCS for some environments, e.g., home environment and offices in a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S first, if not working, work in overlapping B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a DCS mechanism WITHOUT requiring any change in PHYs within T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uld work with all the current and future PH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-dependent algorithms located in 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D5E-B1A5-4D7E-9C4F-295194DF128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88D90-816A-4D00-8D7F-624D3A3E6B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Basic Mechanism for Infrastructure BS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on of a new channe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of a channel measurement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measurement process of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report from STAs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switch announcement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into the new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5A9D-0CF4-4CE7-87E4-4EE25D407D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E466F-854C-412D-B47F-CB1220DC37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1. Initiation of Channel Selec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cases of channel selection 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SS is formed by an AP (via MLME-ST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and/or STA(s) experience bad channel condition persistent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ping BSSs de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measurement (Step 3) used to measure current channel quality in each 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management frames for the channel status report from STAs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initiate will be up to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2C2-BD56-43CB-9F4E-241BB05CFE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F1E9B-BA41-4F95-8419-2D51712CEC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2. Channel Measurement Reques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requests channel measurements to some STAs to find the best channel to run its B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STAs will be considered as sleeping 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by AP not desirable except for before the start of a new 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nagement frame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 begin th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hannels to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ong to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easure (explained n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AA2-335E-44D3-8773-858DF71CC0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9945B-8023-49F7-8A59-8FFFB65E08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3. Channel Measurement Proces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 moves to channel(s) to measure as requested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of channel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other BSSs running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RSSI and PER when BSSs de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busy channel 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ion of other BS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“scan” service from MLME to 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ME-SCAN.request and MLME-SCAN.con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F35-300D-48E8-A0B0-4949932402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AA4B6-C80C-498A-A14A-2456BD6A8D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3. Channel Measurement Process (Cont.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of RSSI and 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I value available to MAC via PHY_RXSTART after reception of a valid PLCP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over, RSSI values not standard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of busy channel 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time and number of cases of PHY_CCA(BUSY) without PHY_RX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work unless .11b CS_ONLY CCA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measure alien devices, e.g., H/2, Bluetooth, and micro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3A0-14AD-424D-BBD7-15E22B352B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F93BC-5B5C-4255-867E-C86C1EA663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4. Measurement Report to AP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report of STA(s)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BSS detected in a channel, the result of the third measurement is only meaning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reported during CP or CFP (per being poll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managemen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frame type can be used for current channel status report for 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B424-F110-4B10-9DFE-4F9C18D80F7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EF876-9940-4EA0-8571-D33DE774E9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5. Decision Making by AP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make a decision per hearing the measurement reports from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to move or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hich channel if decided to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 move, e.g., in which TB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mpare other channels with the current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nsider sleeping STAs to determine when to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CB3-F7A6-4C6E-A40E-2CF424D269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8320A-CAFF-4018-B94E-62CA047437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23:27:42Z</dcterms:created>
  <dc:creator>Sunghyun Choi, Philips Research</dc:creator>
  <dc:description>Sunghyun Choi, Philips Research-USA</dc:description>
  <dc:language>en-US</dc:language>
  <cp:lastModifiedBy>Sunghyun Choi</cp:lastModifiedBy>
  <cp:lastPrinted>1998-02-10T13:28:06Z</cp:lastPrinted>
  <dcterms:modified xsi:type="dcterms:W3CDTF">2000-07-13T15:43:40Z</dcterms:modified>
  <cp:revision>109</cp:revision>
  <dc:subject>Submissions</dc:subject>
  <dc:title>Dynamic Channel Selection (DCS) Scheme for 802.11</dc:title>
</cp:coreProperties>
</file>