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9342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F8F229-8A10-4A61-B2A5-E60A980FF7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5834C5-70A6-4D7C-B2E2-A46B91666B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CC4C25-7A34-4CEA-B18B-20D04D4D48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7D587E-2829-4AB5-8B94-2DEBB7761F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6CBEBD-64A5-4570-8640-4C84D68ECD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958432-0BCE-4917-B07A-7AE92F85B4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66C5AC-9770-4ADF-88AE-E4C1F460C0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846F1D-55A9-427B-B4CB-056088B047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854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C33FBB-152D-4B6B-95D9-03944011E8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0876C4-03FF-4904-8984-B06B239D59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A66D57-BF95-48EB-BC80-D7477803FF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D03D32-0FF7-4FDB-88D8-0AAC3B4D83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746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1444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535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09480" y="22860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uly 2000</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86400" y="6399360"/>
            <a:ext cx="312408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reg Parks, ShareWave</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3657600" y="6399360"/>
            <a:ext cx="190512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lide </a:t>
            </a:r>
            <a:fld id="{FC498E6A-1076-48C8-ABAC-776004B74408}" type="slidenum">
              <a:rPr b="1"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4495680" y="228600"/>
            <a:ext cx="3962520" cy="457200"/>
          </a:xfrm>
          <a:prstGeom prst="rect">
            <a:avLst/>
          </a:prstGeom>
          <a:noFill/>
          <a:ln w="0">
            <a:noFill/>
          </a:ln>
        </p:spPr>
        <p:style>
          <a:lnRef idx="0"/>
          <a:fillRef idx="0"/>
          <a:effectRef idx="0"/>
          <a:fontRef idx="minor"/>
        </p:style>
        <p:txBody>
          <a:bodyPr lIns="19080" rIns="19080" tIns="0" bIns="0" anchor="ctr">
            <a:no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 IEEE 802.11-00/196</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590760" y="6446880"/>
            <a:ext cx="9334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Ge Metrics &amp; Criteria </a:t>
            </a:r>
            <a:r>
              <a:rPr b="0" i="1" lang="en-US" sz="4400" spc="-1" strike="noStrike">
                <a:solidFill>
                  <a:srgbClr val="000000"/>
                </a:solidFill>
                <a:latin typeface="Times New Roman"/>
              </a:rPr>
              <a:t>Ad Hoc</a:t>
            </a:r>
            <a:r>
              <a:rPr b="0" lang="en-US" sz="4400" spc="-1" strike="noStrike">
                <a:solidFill>
                  <a:srgbClr val="000000"/>
                </a:solidFill>
                <a:latin typeface="Times New Roman"/>
              </a:rPr>
              <a:t> Group Summary Report</a:t>
            </a:r>
            <a:endParaRPr b="0" lang="en-US" sz="4400" spc="-1" strike="noStrike">
              <a:solidFill>
                <a:srgbClr val="000000"/>
              </a:solidFill>
              <a:latin typeface="Times New Roman"/>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egory H. Park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eWave, Inc.</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eg.Parks@ShareWave.com</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B2587C01-B964-40DC-8722-9A72C41F3E75}" type="slidenum">
              <a:t>1</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orities &amp; Admittance</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815328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assumed that 8 priorities can be specifi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gging of traffic models with priority information is tb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of these priorities is up to the MAC proposa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ponse to bandwidth available RSVP/SBM requests is up to MAC proposal</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4CF3C3CD-6AE2-4B7F-AA23-B2569535FFBF}" type="slidenum">
              <a:t>10</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pological Models</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SS Topolog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de Topolog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eam Topologie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E6846BAE-F533-477B-9583-7E0843213EB2}" type="slidenum">
              <a:t>11</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SS Topologies</a:t>
            </a:r>
            <a:endParaRPr b="0" lang="en-US" sz="4400" spc="-1" strike="noStrike">
              <a:solidFill>
                <a:srgbClr val="000000"/>
              </a:solidFill>
              <a:latin typeface="Times New Roman"/>
            </a:endParaRPr>
          </a:p>
        </p:txBody>
      </p:sp>
      <p:sp>
        <p:nvSpPr>
          <p:cNvPr id="68" name="PlaceHolder 2"/>
          <p:cNvSpPr>
            <a:spLocks noGrp="1"/>
          </p:cNvSpPr>
          <p:nvPr>
            <p:ph/>
          </p:nvPr>
        </p:nvSpPr>
        <p:spPr>
          <a:xfrm>
            <a:off x="685440" y="1981080"/>
            <a:ext cx="8077320" cy="4114800"/>
          </a:xfrm>
          <a:prstGeom prst="rect">
            <a:avLst/>
          </a:prstGeom>
          <a:noFill/>
          <a:ln w="0">
            <a:noFill/>
          </a:ln>
        </p:spPr>
        <p:txBody>
          <a:bodyPr lIns="92160" rIns="92160" tIns="46080" bIns="4608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ree BSSs with APs arranged along a line segment</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BSS is partially overlapped (to an extent tbd) with any adjacent BS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wo BSSs at the extremes of the line along which they are arranged are overlapped to the extent that each can detect as interference the others’ headers and preambles but not the others’ data</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BSS is loaded with the same traffic type and amount with the exception of the traffic incurred during implementation the handoff loading model</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3CBC4467-FA22-459B-AED8-4519F5DD8BAB}" type="slidenum">
              <a:t>12</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de Topologies</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l 1: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P, 2 STAs, and 1 open STA location equally spaced around the periphery of a circle of radius tbd with the AP located at the center (?) of the circle</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l 2:</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P, tbd STAs, and 1 open STA location equally spaced around the periphery of a circle of radius tbd with the AP located at the center (?) of the circle</a:t>
            </a:r>
            <a:endParaRPr b="0" lang="en-US" sz="2400" spc="-1" strike="noStrike">
              <a:solidFill>
                <a:srgbClr val="000000"/>
              </a:solidFill>
              <a:latin typeface="Times New Roman"/>
            </a:endParaRPr>
          </a:p>
          <a:p>
            <a:pPr lvl="2" marL="108576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number of STAs is determined from the number of streams to be transported, where no more than 2 simplex or duplex streams are allowed between any one pair of STAs</a:t>
            </a:r>
            <a:endParaRPr b="0" lang="en-US" sz="20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3039EAE7-D385-4D2E-A9DA-8A826AA6D63D}" type="slidenum">
              <a:t>13</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eam Topologies</a:t>
            </a:r>
            <a:endParaRPr b="0" lang="en-US" sz="4400" spc="-1" strike="noStrike">
              <a:solidFill>
                <a:srgbClr val="000000"/>
              </a:solidFill>
              <a:latin typeface="Times New Roman"/>
            </a:endParaRPr>
          </a:p>
        </p:txBody>
      </p:sp>
      <p:sp>
        <p:nvSpPr>
          <p:cNvPr id="72" name="PlaceHolder 2"/>
          <p:cNvSpPr>
            <a:spLocks noGrp="1"/>
          </p:cNvSpPr>
          <p:nvPr>
            <p:ph/>
          </p:nvPr>
        </p:nvSpPr>
        <p:spPr>
          <a:xfrm>
            <a:off x="685440" y="1981080"/>
            <a:ext cx="807732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eam Topology 1:</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d evenly amongst 3 STAs except for the MPEG2 streams, if required, one of which is to be distributed between any two non-AP STAs and the other two(?) of which are to be multicast from the AP to any two non-AP STA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eam Topology 2:</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more than 2 simplex or duplex streams between any two STAs; the exact topological distribution is tbd except for the MPEG2 streams, if required, one of which is to be distributed between any two non-AP STAs and the other two(?) of which are to be multicast from the AP to any two non-AP STAs </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491069BC-98FB-40D7-9D09-F515006DCBB5}" type="slidenum">
              <a:t>14</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ading Models</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ic Load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ynamic Load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ndoff Loading</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6DE015A4-4F00-46DE-8FC7-09F410DB931E}" type="slidenum">
              <a:t>15</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53316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tic Loading Models</a:t>
            </a:r>
            <a:endParaRPr b="0" lang="en-US" sz="4400" spc="-1" strike="noStrike">
              <a:solidFill>
                <a:srgbClr val="000000"/>
              </a:solidFill>
              <a:latin typeface="Times New Roman"/>
            </a:endParaRPr>
          </a:p>
        </p:txBody>
      </p:sp>
      <p:sp>
        <p:nvSpPr>
          <p:cNvPr id="76" name="PlaceHolder 2"/>
          <p:cNvSpPr>
            <a:spLocks noGrp="1"/>
          </p:cNvSpPr>
          <p:nvPr>
            <p:ph/>
          </p:nvPr>
        </p:nvSpPr>
        <p:spPr>
          <a:xfrm>
            <a:off x="533160" y="1676520"/>
            <a:ext cx="8305560" cy="4114800"/>
          </a:xfrm>
          <a:prstGeom prst="rect">
            <a:avLst/>
          </a:prstGeom>
          <a:noFill/>
          <a:ln w="0">
            <a:noFill/>
          </a:ln>
        </p:spPr>
        <p:txBody>
          <a:bodyPr lIns="92160" rIns="92160" tIns="46080" bIns="4608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models include 50%, 85% &amp; 125% loading</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50%, 85% loading are defined as the  amount of combined loading at each STA which is expected to result in an air time occupancy of close to the specified amount given an estimate of the efficiency of the MAC.</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mary control of loading is variability of bulk data</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0% is required(?); 125% loading is pathological case</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fferences between measured occupancies will indicate differences in efficiency between proposal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918157FF-6047-4005-81E7-7C8F535031AE}" type="slidenum">
              <a:t>16</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tic Loading Models (cont.)</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815328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l 1: 11 Mbps #1 (some enterpris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duplex voice, 0(?) MP3, 0(?) MPEG2</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ainder is bulk data distributed equally between STA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l 2: 54 Mbps #1 (some enterpris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duplex voice, 0(?) MP3, 0(?) MPEG2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ainder is bulk data distributed equally between STAs</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C45E95DC-3EDD-457A-9B3A-DA3F498899B6}" type="slidenum">
              <a:t>17</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atic Loading Models (cont.)</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8153280" cy="4114800"/>
          </a:xfrm>
          <a:prstGeom prst="rect">
            <a:avLst/>
          </a:prstGeom>
          <a:noFill/>
          <a:ln w="0">
            <a:noFill/>
          </a:ln>
        </p:spPr>
        <p:txBody>
          <a:bodyPr lIns="92160" rIns="92160" tIns="46080" bIns="4608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l 3: 11 Mbps #2 (some homes)</a:t>
            </a:r>
            <a:endParaRPr b="0" lang="en-US" sz="28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voice, tbd MP3</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MPEG2 between 2 non-AP STA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ainder is bulk data distributed equally between STAs</a:t>
            </a:r>
            <a:endParaRPr b="0" lang="en-US" sz="24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l 4: 54 Mbps #2 (some homes)</a:t>
            </a:r>
            <a:endParaRPr b="0" lang="en-US" sz="28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voice, tbd MP3</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MPEG2 between 2 non-AP STA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MPEG2 multicast from AP to two STA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ainder is bulk data distributed equally between STAs</a:t>
            </a:r>
            <a:endParaRPr b="0" lang="en-US" sz="2400" spc="-1" strike="noStrike">
              <a:solidFill>
                <a:srgbClr val="000000"/>
              </a:solidFill>
              <a:latin typeface="Times New Roman"/>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56F4940F-6ECA-461C-A4BE-727925CB3004}" type="slidenum">
              <a:t>18</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ynamic Loading Models</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ic Loading Model, quiescent @85%</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a new STA to the BSS (authenticate and associat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a new bi-directional voice stream between the newly associated STA and a different non-AP STA</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termin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the connection be mad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long does the connection take to be mad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does the addition of this STA and stream affect the rest of the quiescent system</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AAD1984B-0545-4BE1-B08D-CA3212448104}" type="slidenum">
              <a:t>19</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rticipants</a:t>
            </a:r>
            <a:br>
              <a:rPr sz="4400"/>
            </a:br>
            <a:r>
              <a:rPr b="0" i="1" lang="en-US" sz="1800" spc="-1" strike="noStrike">
                <a:solidFill>
                  <a:srgbClr val="000000"/>
                </a:solidFill>
                <a:latin typeface="Times New Roman"/>
              </a:rPr>
              <a:t>over five teleconferences</a:t>
            </a:r>
            <a:endParaRPr b="0" lang="en-US" sz="18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ter Ecclesi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eg Chess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ith Aman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thew Sherma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im Godfre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Ge Functional Requirements </a:t>
            </a:r>
            <a:r>
              <a:rPr b="0" i="1" lang="en-US" sz="3200" spc="-1" strike="noStrike">
                <a:solidFill>
                  <a:srgbClr val="000000"/>
                </a:solidFill>
                <a:latin typeface="Times New Roman"/>
              </a:rPr>
              <a:t>ad hoc</a:t>
            </a:r>
            <a:r>
              <a:rPr b="0" lang="en-US" sz="3200" spc="-1" strike="noStrike">
                <a:solidFill>
                  <a:srgbClr val="000000"/>
                </a:solidFill>
                <a:latin typeface="Times New Roman"/>
              </a:rPr>
              <a:t> group</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rious participant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09064C26-049B-4224-BFC4-03F072D3AEC2}" type="slidenum">
              <a:t>2</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andoff Loading Models</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 Loading Model, quiescent @85%</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ve the dynamically added STA from the current BSS to an adjacent BSS, also moving the voice stream currently associated with that STA (disassociation, authentication, reassocia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ve with the BSS on the same channel, and with the BSS on a different channel (?)</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rmin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 the handoff be mad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 long does the handoff take to be mad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 does the deletion and addition of this STA and stream affect the handed-off stream and the rest of the quiescent system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035CAC77-6F94-4223-B915-76E85A953F03}" type="slidenum">
              <a:t>20</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roughput</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Stream throughput determined by type of traffic issued to and delivered by STA</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ce – defined by traffic model</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P3 – defined by traffic model</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PEG2 – defined by traffic model</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lk Data – measured, not defined</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Overall throughput (MAC efficiency) will be determined from the data carried during packet rate achieved at defined loadings measured on the channel</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17DFB4B6-221B-4F79-B118-827D958FC001}" type="slidenum">
              <a:t>21</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atency</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Latency is defined to be the duration between the time a packet is enqueued at the input to the source STA and dequeued at the output from the destination STA</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oice – 20mS max for STA-to-STA in BSS, 300ms overall round-trip delay budget (ITU)</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P3 – tbd mS max</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PEG2 – tbd mS max</a:t>
            </a:r>
            <a:endParaRPr b="0" lang="en-US" sz="2800" spc="-1" strike="noStrike">
              <a:solidFill>
                <a:srgbClr val="000000"/>
              </a:solidFill>
              <a:latin typeface="Times New Roman"/>
            </a:endParaRPr>
          </a:p>
          <a:p>
            <a:pPr lvl="1" marL="735480" indent="-282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lk Data – no requirement</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4156E37F-9AF6-4299-B73B-C21D31574AE7}" type="slidenum">
              <a:t>22</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itter</a:t>
            </a:r>
            <a:endParaRPr b="0" lang="en-US" sz="4400" spc="-1" strike="noStrike">
              <a:solidFill>
                <a:srgbClr val="000000"/>
              </a:solidFill>
              <a:latin typeface="Times New Roman"/>
            </a:endParaRPr>
          </a:p>
        </p:txBody>
      </p:sp>
      <p:sp>
        <p:nvSpPr>
          <p:cNvPr id="90" name="PlaceHolder 2"/>
          <p:cNvSpPr>
            <a:spLocks noGrp="1"/>
          </p:cNvSpPr>
          <p:nvPr>
            <p:ph/>
          </p:nvPr>
        </p:nvSpPr>
        <p:spPr>
          <a:xfrm>
            <a:off x="685440" y="1981080"/>
            <a:ext cx="8077320" cy="4114800"/>
          </a:xfrm>
          <a:prstGeom prst="rect">
            <a:avLst/>
          </a:prstGeom>
          <a:noFill/>
          <a:ln w="0">
            <a:noFill/>
          </a:ln>
        </p:spPr>
        <p:txBody>
          <a:bodyPr lIns="92160" rIns="92160" tIns="46080" bIns="46080" anchor="t">
            <a:normAutofit fontScale="93000"/>
          </a:bodyPr>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Jitter is defined to be the statistical distribution of variation in the arrival time of an individual packet at the destination. Jitter applies largely to constant packet rate traffic and should generally be no greater than ½ the time between adjacent packets in a stream assuming the packet under study is centered in time between the two adjacent packet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690840" indent="-2656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ce – Gaussian distribution, +/- tbd mS @ 2 sigma</a:t>
            </a:r>
            <a:endParaRPr b="0" lang="en-US" sz="2400" spc="-1" strike="noStrike">
              <a:solidFill>
                <a:srgbClr val="000000"/>
              </a:solidFill>
              <a:latin typeface="Times New Roman"/>
            </a:endParaRPr>
          </a:p>
          <a:p>
            <a:pPr lvl="1" marL="690840" indent="-2656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P3 – Gaussian distribution, +/- tbd mS @ 2 sigma</a:t>
            </a:r>
            <a:endParaRPr b="0" lang="en-US" sz="2400" spc="-1" strike="noStrike">
              <a:solidFill>
                <a:srgbClr val="000000"/>
              </a:solidFill>
              <a:latin typeface="Times New Roman"/>
            </a:endParaRPr>
          </a:p>
          <a:p>
            <a:pPr lvl="1" marL="690840" indent="-2656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PEG2 – Gaussian distribution, +/- tbd mS @ 2 sigma</a:t>
            </a:r>
            <a:endParaRPr b="0" lang="en-US" sz="2400" spc="-1" strike="noStrike">
              <a:solidFill>
                <a:srgbClr val="000000"/>
              </a:solidFill>
              <a:latin typeface="Times New Roman"/>
            </a:endParaRPr>
          </a:p>
          <a:p>
            <a:pPr lvl="1" marL="690840" indent="-2656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lk Data – no requirement</a:t>
            </a:r>
            <a:endParaRPr b="0" lang="en-US" sz="2400" spc="-1" strike="noStrike">
              <a:solidFill>
                <a:srgbClr val="000000"/>
              </a:solidFill>
              <a:latin typeface="Times New Roman"/>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3D90BEBF-1F75-463C-8626-5A9B19B3702F}" type="slidenum">
              <a:t>23</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ther Considerations</a:t>
            </a: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verlapping BSS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e BSS topologie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ynamic Frequency Selectio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expected need to be simulated</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nsmit Power Contro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 for simulation should be discussed</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04DDA49F-86A0-4D56-AB78-55D409D0EEC9}" type="slidenum">
              <a:t>24</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xt Steps</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ide whether this document and companion document #143 will serve as baseline document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so, decide what remains to be modified or completed in these documents, and with what process and priority, in order to move toward a complete documen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not, decide how else to proceed to baseline document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ither continue to modify this document</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 create a new document</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FDB02993-933C-44F4-A0B6-C2985CAAE6AA}" type="slidenum">
              <a:t>25</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ents</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ferences &amp; Objective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 Consideration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ffic Models &amp; Prioritie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pological Model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ic and Dynamic Loading and Handoff</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roughput, Latency &amp; Jitter</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 Consideration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xt Step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FD3D7976-0BE1-4E96-A75B-B52A4EBDBFB6}" type="slidenum">
              <a:t>3</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ferences</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anion Documen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0/143r3</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ther references tbd</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9A601366-4E22-4899-BA86-1684280A4230}" type="slidenum">
              <a:t>4</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e up with a set of Metrics and Criteria which will serve as a uniform set of simulation cases against which we can compare proposal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re to create the smallest set of cases that cover the broadest range of capabilities in order to limit simulation cases and time spent simulating ca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bd) Use some portion of the set of Metrics and Criteria as functional requirements that any proposal must meet</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7C2ECBBB-FAD9-41EA-A861-3D236DE67BB3}" type="slidenum">
              <a:t>5</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ral Considerations</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8153280" cy="4114800"/>
          </a:xfrm>
          <a:prstGeom prst="rect">
            <a:avLst/>
          </a:prstGeom>
          <a:noFill/>
          <a:ln w="0">
            <a:noFill/>
          </a:ln>
        </p:spPr>
        <p:txBody>
          <a:bodyPr lIns="92160" rIns="92160" tIns="46080" bIns="4608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ulation model</a:t>
            </a:r>
            <a:endParaRPr b="0" lang="en-US" sz="28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Net-based common model</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on parameterization pre-determined</a:t>
            </a:r>
            <a:endParaRPr b="0" lang="en-US" sz="24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ffic generator</a:t>
            </a:r>
            <a:endParaRPr b="0" lang="en-US" sz="28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on to OpNet and to empirical testing</a:t>
            </a:r>
            <a:endParaRPr b="0" lang="en-US" sz="2400" spc="-1" strike="noStrike">
              <a:solidFill>
                <a:srgbClr val="000000"/>
              </a:solidFill>
              <a:latin typeface="Times New Roman"/>
            </a:endParaRPr>
          </a:p>
          <a:p>
            <a:pPr lvl="2" marL="1074600" indent="-22608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ows validation of simulation model through empirical testing</a:t>
            </a:r>
            <a:endParaRPr b="0" lang="en-US" sz="20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asurement points</a:t>
            </a:r>
            <a:endParaRPr b="0" lang="en-US" sz="28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tilization &amp; Throughput: On the channel</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tency &amp; Jitter: At the receiving STA</a:t>
            </a:r>
            <a:endParaRPr b="0" lang="en-US" sz="2400" spc="-1" strike="noStrike">
              <a:solidFill>
                <a:srgbClr val="000000"/>
              </a:solidFill>
              <a:latin typeface="Times New Roman"/>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6FAB299C-B7C6-44A5-B16E-AA8568757539}" type="slidenum">
              <a:t>6</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hysical Layer</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02.11b 11 Mbp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optional short header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802.11a 54 Mbp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lifiers tbd</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rror rates and distributions will be determined from the simulation channel model chosen by the Simulation </a:t>
            </a:r>
            <a:r>
              <a:rPr b="0" i="1" lang="en-US" sz="2800" spc="-1" strike="noStrike">
                <a:solidFill>
                  <a:srgbClr val="000000"/>
                </a:solidFill>
                <a:latin typeface="Times New Roman"/>
              </a:rPr>
              <a:t>ad hoc</a:t>
            </a:r>
            <a:r>
              <a:rPr b="0" lang="en-US" sz="2800" spc="-1" strike="noStrike">
                <a:solidFill>
                  <a:srgbClr val="000000"/>
                </a:solidFill>
                <a:latin typeface="Times New Roman"/>
              </a:rPr>
              <a:t> group and approved by the Metrics and Criteria </a:t>
            </a:r>
            <a:r>
              <a:rPr b="0" i="1" lang="en-US" sz="2800" spc="-1" strike="noStrike">
                <a:solidFill>
                  <a:srgbClr val="000000"/>
                </a:solidFill>
                <a:latin typeface="Times New Roman"/>
              </a:rPr>
              <a:t>ad hoc</a:t>
            </a:r>
            <a:r>
              <a:rPr b="0" lang="en-US" sz="2800" spc="-1" strike="noStrike">
                <a:solidFill>
                  <a:srgbClr val="000000"/>
                </a:solidFill>
                <a:latin typeface="Times New Roman"/>
              </a:rPr>
              <a:t> group</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D47D0064-69EF-4261-9B01-7D3CE332BA0A}" type="slidenum">
              <a:t>7</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ffic Models</a:t>
            </a:r>
            <a:endParaRPr b="0" lang="en-US" sz="4400" spc="-1" strike="noStrike">
              <a:solidFill>
                <a:srgbClr val="000000"/>
              </a:solidFill>
              <a:latin typeface="Times New Roman"/>
            </a:endParaRPr>
          </a:p>
        </p:txBody>
      </p:sp>
      <p:sp>
        <p:nvSpPr>
          <p:cNvPr id="60" name="PlaceHolder 2"/>
          <p:cNvSpPr>
            <a:spLocks noGrp="1"/>
          </p:cNvSpPr>
          <p:nvPr>
            <p:ph/>
          </p:nvPr>
        </p:nvSpPr>
        <p:spPr>
          <a:xfrm>
            <a:off x="533160" y="1981080"/>
            <a:ext cx="838188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oice stream</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BR: Two simultaneous opposite-directional (duplex) ADPCM streams each 50 64-byte pps (20ms framing) or 100 32-byte pps (10ms fram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P3/low quality video stream</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BR: 1000 128-byte pps (simplex 128Kbyte/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PEG2/medium quality video stream</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BR: Tbd 1504-byte pps (simplex 4Mbi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BR: 0 – 4 Mbit/s sinusoidal(?) 5 sec period, CBR additiv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0762B538-11C1-43AB-AA09-9C30D36A1642}" type="slidenum">
              <a:t>8</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ffic Models (cont.)</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gh quality video stream (~20Mbps)</a:t>
            </a:r>
            <a:endParaRPr b="0" lang="en-US" sz="28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 as separate from MPEG2 is tbd</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stitute with 2 MPEG2 streams(?)</a:t>
            </a:r>
            <a:endParaRPr b="0" lang="en-US" sz="24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lk data stream</a:t>
            </a:r>
            <a:endParaRPr b="0" lang="en-US" sz="28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BR: 60% 64-byte packets</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BR: 20% 568-byte packets</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BR: 20% 1500-byte packets</a:t>
            </a:r>
            <a:endParaRPr b="0" lang="en-US" sz="24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sued rate varies with desired overall MAC load</a:t>
            </a:r>
            <a:endParaRPr b="0" lang="en-US" sz="24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94 traffic stream</a:t>
            </a:r>
            <a:endParaRPr b="0" lang="en-US" sz="2800" spc="-1" strike="noStrike">
              <a:solidFill>
                <a:srgbClr val="000000"/>
              </a:solidFill>
              <a:latin typeface="Times New Roman"/>
            </a:endParaRPr>
          </a:p>
          <a:p>
            <a:pPr lvl="1" marL="713160" indent="-2743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 as a separate traffic model is tbd</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97AE2E60-3CCA-40A4-88B8-3501884550C2}" type="slidenum">
              <a:t>9</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2-10T13:07:52Z</dcterms:created>
  <dc:creator>V. Hayes</dc:creator>
  <dc:description/>
  <dc:language>en-US</dc:language>
  <cp:lastModifiedBy>Greg Parks</cp:lastModifiedBy>
  <cp:lastPrinted>1998-02-10T13:28:06Z</cp:lastPrinted>
  <dcterms:modified xsi:type="dcterms:W3CDTF">2000-07-12T03:22:25Z</dcterms:modified>
  <cp:revision>45</cp:revision>
  <dc:subject/>
  <dc:title>No Slide Title</dc:title>
</cp:coreProperties>
</file>