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80F-8B6C-430A-8161-20E490B5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901-301F-4C43-8549-055EA73A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589-2C48-4CD6-9A0A-043C1587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D22-6AD8-4AB9-B8C4-255C3EAC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D53-D78D-46FA-9120-CF95214E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3C0-FFDE-4C00-AF3F-354C4D61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637-BA6F-476F-BC92-7585E82C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E82-8F5C-4AF3-AB51-2CC322CE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403-0870-4F38-8A2D-F9CF79D7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7DE-6D2A-4458-84AB-23E6860C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C17-1AEE-4761-A196-609BAF26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E6C-44CB-45FC-98E8-AF2C501E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Alantro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454A50-7355-4D4D-AFFC-565FCC097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b SG Status an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Ph.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b SG Chair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B2E-CFC2-4B93-A298-68D95FB0FB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May 2000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PAR and 5 Criteria (docs 114r2 and 115r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ed unanimous approval for PAR and 5 Criteria at SG and WG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is directed by WG to continue work in anticipation of acceptance of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24D-D88F-424E-835A-CC9013A9B9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and 5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ed SEC of PAR and 5 Criteria at Monday AM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cipate any responses by 5pm on Tu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ddress responses by 5pm on Wedn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 will be taken at SEC meeting on Thursday to approve or disapprove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D04-627B-4032-B715-B501010375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for this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ress release announcing T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call for intent to propose to T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 this initial notification and a latter final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-off date for proposals anticipated to be at the November 2000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ork on proposal selec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ork on functional requirement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ork on comparison criteria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semi-weekly conference calls to work on selection procedure, functional req. and compariso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C46-B81C-4058-9EBE-2D2101A39A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bSG &amp; TG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selection procedure, call for papers, press releas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2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selection procedure, functional requirements, selection criteri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call for proposals with cut-off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-off date for proposals on first day of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hearing proposals and begin selec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787-B87F-4F62-B33D-16882E9FB3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Matthew B. Shoemake</cp:lastModifiedBy>
  <cp:lastPrinted>1998-02-10T13:28:06Z</cp:lastPrinted>
  <dcterms:modified xsi:type="dcterms:W3CDTF">2000-07-10T21:06:01Z</dcterms:modified>
  <cp:revision>15</cp:revision>
  <dc:subject/>
  <dc:title>No Slide Title</dc:title>
</cp:coreProperties>
</file>