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3C4-BDEA-49BA-A1C3-0DA2D1DE0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DA1C-8BFF-46A8-A6A0-1C431103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D2EA-F73B-4D0E-82F1-F84C2231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043-C618-43C1-A0ED-7DE032E19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174-BB31-47D9-BFB3-64603E95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60D-4037-40B5-A1E0-43CE7960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37B-2165-4DCC-B503-48FF33B9F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7CEB-0A97-4A23-9D53-6D29EC00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653A-681A-477A-B8EC-86707C9C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6F34-3AF8-45D3-85F1-AD6FF587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62D4-C6B3-4746-BDA9-D98D0438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0CF-2E80-498B-8B6E-66B72144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6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1444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5356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hew B. Shoemake, Alantro Commun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28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769BCA6-1BC9-482A-A5F3-761274045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43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EEE 802.11 HRb S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tative Agend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ly 2000 Se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Jolla, Californ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thew B. Shoemake, Ph.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b SG Chairper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838F-1408-4155-8E2D-52FADE4246C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Monday, July 10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:30-5:00pm, Ballroom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come from the Ch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ment of secretary for the session to take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us and Mission of the HRb S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00/197 – Status an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ting of the Ag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for submissions to S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80D6-3110-4808-811E-844B477B25D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Monday, July 10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:30-5:00pm, Ballroom B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val of the minutes from May 2000 Seattle Meeting – Document 00/13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ion of Ad Hoc group to draft 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7E8-5E23-4D6B-867E-1122390A29B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Monday, July 10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:30-5:00pm, Ballroom B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ing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of draf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 and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o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n calling for proposals contingent upon approval of P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C9CD-912E-47F7-854E-1E6D5052430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929628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Tuesday, July 11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:00-3:00pm, Ballroom B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739440" indent="-73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 of Draft Press Release by Ad Hoc committ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nts and 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V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 issuing press release contingent upon approval of P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for Propo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f Sub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39440" indent="-739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3080" indent="-647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4880" indent="-55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ing of doc. 00/XXX, TGg Proposal Selectio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CAB-7D30-4E9C-BA79-2EC2A813FE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Tuesday, July 11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:30-5:00pm, Ballroom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ing of document 00/XXX, IEEE 802.11 TGg Proposal Selection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76AD-F7C1-4B07-88F6-1128A613E1C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Wednesday, July 12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:30-10:00am, Ballroom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Rel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ing of document 00/YYY, IEEE 802.11 TGg Func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844C-4036-4A87-AC64-FD1A8F3EAAB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Thursday, July 1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:30-10:00am, Ballroom 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Bus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s arising from PAR and 5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6416-A360-4B82-9E41-B0CCA4E85E5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enda, Thursday, July 13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:30-10:00am, Ballroom B  (Cont’d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-812880">
              <a:spcBef>
                <a:spcPts val="700"/>
              </a:spcBef>
              <a:buClr>
                <a:srgbClr val="000000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Bus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ison Criteria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 of general group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fting of document 00/ZZZ, IEEE 802.11 TGg Proposal Comparison Criteria Matr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-711360">
              <a:spcBef>
                <a:spcPts val="601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erence Calls for: Selection Process, Functional Requirements and Comparison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467000" indent="-609840">
              <a:spcBef>
                <a:spcPts val="499"/>
              </a:spcBef>
              <a:buClr>
                <a:srgbClr val="000000"/>
              </a:buClr>
              <a:buFont typeface="Times New Roman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68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1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hn Doe, His Compan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06A9-1270-40BB-BD4E-60A7B87C51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onth 199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0T13:07:52Z</dcterms:created>
  <dc:creator>V. Hayes</dc:creator>
  <dc:description/>
  <dc:language>en-US</dc:language>
  <cp:lastModifiedBy>Matthew B. Shoemake</cp:lastModifiedBy>
  <cp:lastPrinted>1998-02-10T13:28:06Z</cp:lastPrinted>
  <dcterms:modified xsi:type="dcterms:W3CDTF">2000-07-10T21:19:53Z</dcterms:modified>
  <cp:revision>46</cp:revision>
  <dc:subject/>
  <dc:title>No Slide Title</dc:title>
</cp:coreProperties>
</file>