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D870-D218-4911-8C99-3DD4DDAE6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B7CE-9B43-46DC-8186-D11B68CD6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0000" y="4341960"/>
            <a:ext cx="50580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F95-A8E4-455C-BDEE-21124172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BCE-3D53-445A-9E0A-C3E835BA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165-7C42-4C8D-B969-341E3D0C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1FD-485F-4A5C-9D09-86586257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E23-1F5F-4C10-B556-20E184CE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5AD-C23D-469B-B3B3-4AA097C1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417-1607-43B7-B166-7C2A9350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3AF-DE03-4B4B-96E5-2B581AEB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7CD-A1E1-40D0-9E7C-6AA92251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CC0-495F-40AD-8D96-20729933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AF8-9A7C-4E09-97EE-124A50E1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071-3EAE-4C22-84CE-19DE82ED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B6FB8D-0834-414B-807C-6CAAFBA43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059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ug-n-Play Security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ome &amp; Small Business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 Brockman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s Not Addres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len’ STAs – access allowed until removed from A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omised private k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argeted environments, ease of use more important than quest for perfect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of static privat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anufacture time (pre-calc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on first start-up of AP/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able security by private key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may be c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Volatile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ow as 22 bytes per MAC/PubKey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etail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/Multicast Key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authentication, AP sends key information to newly authenticated 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SS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vidual session-key/authentication per STA-STA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 STA to STA traffic within a B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AP may have ability to authenticate STAs and has ACL. Possible solution: AP acts as Key Distribution Center for the BSS and generates and distributes session keys for direct STA to STA traffic within its 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ward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WEP may still be used for traffic to legacy stations, if this support is required. Broadcast/multicast must use WEP also, the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ssion Key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w session key may be generated at any required time, based on local policy 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ecurity solution in an unmanaged environment (eg compare to configuration ease of Ethernet based net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EP keys, password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implementation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ility: single client for use in various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user has DSL/Cable and two P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s to create wireless home networ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Security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try to access the broadband pi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steal files from P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does not care for any extra passwords or 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in other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e-Hellman based session ke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 based Access Control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ility/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Management’ MAC address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static random private/public key pair per MAC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first contact, APs, St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/PubKey pairs for other devices if they are on the Access Control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ubsequent contacts, stored MAC/PubKey can be used to prove identity of other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Control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L can operate usefully because MAC addresses can be authent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L could be managed through MI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learning mode also (eg learn next STA if button is pres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iffie-Hellman key exchang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ice and Bob want to construct a private key over a public channel. Both agree on a public prim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primitive roo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ice chooses a random value x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ice sends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to Bob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b chooses a random value 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b sends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ice computes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as (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 p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b computes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as (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 p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screte logarithm problem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nd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, fi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fie-Hellman problem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, and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, find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Outline of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 derives its Public Ke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’= 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od 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its fixed Private Ke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n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’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P over the air as part of the Authentication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checks MAC address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’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ts records. If successful, AP derives Public Ke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’=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od 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its fixed Private ke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n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A over 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 calculat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S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(Y’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od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sends a hashed 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(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S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AP over the a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calculat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(X’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f the STA has knowledge of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completed the calculation successfully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S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refo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(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S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(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If this comparison fails, this points to a Rogue STA. Otherwise, STA identity is pr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and STA derive a session key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s can not deri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the session 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ed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to authenticate with MAC address not in A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to authenticate with correct MAC address – different public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to authenticate with correct MAC address and public key – unable to calc session key (not knowing private 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an be mutu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00:06:50Z</dcterms:created>
  <dc:creator>Ron Brockmann</dc:creator>
  <dc:description/>
  <dc:language>en-US</dc:language>
  <cp:lastModifiedBy>Harry Worstell</cp:lastModifiedBy>
  <cp:lastPrinted>1998-07-22T00:48:38Z</cp:lastPrinted>
  <dcterms:modified xsi:type="dcterms:W3CDTF">2000-09-21T00:17:43Z</dcterms:modified>
  <cp:revision>268</cp:revision>
  <dc:subject/>
  <dc:title>Plug-n-Play Security for Home and Small Business</dc:title>
</cp:coreProperties>
</file>