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C3D-D16E-479D-9C95-127E9CA1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9E3-0E97-47C4-AA03-7C76A4C6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3B0-0BA7-4839-8997-770E24E7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45A-2A7E-45DB-B96F-C0541B5A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085-349B-4273-8A2B-15D3A979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D55-4FE2-43B0-8987-8A348D11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1AB-6E11-409C-A0DB-926C28BC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A8C-7F79-4145-A520-A3EFCBF7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EAD-8CE7-4D82-A345-D142040D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339-D008-4A72-B6FA-FF7737A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CEF-51B4-4A24-A037-B882234D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987-F853-4DCF-9036-7B8ED168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48280" y="6474960"/>
            <a:ext cx="92376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C584F2-EA65-495C-B583-E8D58CDFC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equency Domain Modulators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or 802.11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0384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D27-7897-4C01-922D-794B902E62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28600" y="917640"/>
            <a:ext cx="2057400" cy="1598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2133360" cy="1650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572000" y="914400"/>
            <a:ext cx="2133720" cy="1657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362320" y="2743200"/>
            <a:ext cx="2133360" cy="16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851480" y="226080"/>
            <a:ext cx="42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 Mbps Subcarrier 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6810480" y="914400"/>
            <a:ext cx="2181240" cy="16891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171360" y="2743200"/>
            <a:ext cx="2114640" cy="16383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4572000" y="266688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6781680" y="2666880"/>
            <a:ext cx="2210040" cy="1665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152280" y="4648320"/>
            <a:ext cx="2133720" cy="1617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0"/>
          <a:stretch/>
        </p:blipFill>
        <p:spPr>
          <a:xfrm>
            <a:off x="2362320" y="4653000"/>
            <a:ext cx="2133360" cy="1595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1"/>
          <a:stretch/>
        </p:blipFill>
        <p:spPr>
          <a:xfrm>
            <a:off x="4619520" y="4581360"/>
            <a:ext cx="2086200" cy="158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874-5816-4400-8A20-3AE592DDAF3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96520" y="761760"/>
            <a:ext cx="422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5.5 Mbps CCK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7960" y="262260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49560" y="285120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5320" y="285120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59240" y="2622600"/>
            <a:ext cx="3808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57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78360" y="39942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3064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35560" y="39942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8784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401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9276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97120" y="3994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3160" y="221616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78360" y="26226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6040" y="2887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5240" y="4030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59240" y="3003480"/>
            <a:ext cx="380880" cy="381240"/>
          </a:xfrm>
          <a:prstGeom prst="upArrow">
            <a:avLst>
              <a:gd name="adj1" fmla="val 50000"/>
              <a:gd name="adj2" fmla="val 250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35560" y="2698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435560" y="2698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262908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3600" y="19051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im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5240" y="4570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43434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5720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67080" y="43434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45720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45720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572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5240" y="51800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49528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51814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51814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51814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5240" y="57895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55627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57913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7080" y="57913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57913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5791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79640" y="441972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 Sp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28600" y="3559320"/>
            <a:ext cx="3200400" cy="23428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3048120" cy="22384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324480" y="4800600"/>
            <a:ext cx="1295640" cy="990720"/>
          </a:xfrm>
          <a:prstGeom prst="leftArrow">
            <a:avLst>
              <a:gd name="adj1" fmla="val 50000"/>
              <a:gd name="adj2" fmla="val 32694"/>
            </a:avLst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0A7-DA14-4B45-B6A8-2C091F5188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687280" y="26668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23320" y="2438280"/>
            <a:ext cx="119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/P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21160" y="2362320"/>
            <a:ext cx="12952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38680" y="2362320"/>
            <a:ext cx="83844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83120" y="26668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259092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24760" y="403848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Code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tru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21160" y="39625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71920" y="2590920"/>
            <a:ext cx="10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68320" y="2514600"/>
            <a:ext cx="129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5320" y="2576520"/>
            <a:ext cx="69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7440" y="2819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6396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16440" y="281952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12680" y="837720"/>
            <a:ext cx="519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5.5 Mbps CCK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15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2133720"/>
            <a:ext cx="3505320" cy="2819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97760" y="3249720"/>
            <a:ext cx="15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Const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Ma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038480" y="3580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962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181480" y="27432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200040" y="2743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89240" y="3656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5592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7484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5257800" y="2285640"/>
            <a:ext cx="609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5320" y="4067280"/>
            <a:ext cx="69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4343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038560" y="3786480"/>
            <a:ext cx="3473640" cy="2691720"/>
            <a:chOff x="5038560" y="3786480"/>
            <a:chExt cx="3473640" cy="2691720"/>
          </a:xfrm>
        </p:grpSpPr>
        <p:sp>
          <p:nvSpPr>
            <p:cNvPr id="393" name=""/>
            <p:cNvSpPr/>
            <p:nvPr/>
          </p:nvSpPr>
          <p:spPr>
            <a:xfrm>
              <a:off x="5038560" y="6226560"/>
              <a:ext cx="3473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04400" y="4358880"/>
              <a:ext cx="72360" cy="5832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183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3836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519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543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6788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879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0184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53752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8496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1700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4839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8708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0995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42104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7331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32680" y="379656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5848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2964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366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0108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0804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792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5100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62640" y="6231960"/>
              <a:ext cx="26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      2       3       4       5       6      7       8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8E8-F40E-4131-A232-FAF652E3DDD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312920" y="22608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5.5 Mbps Codeword Subcarrier Spectr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3733920" cy="2745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3733920" cy="2735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495680" y="762120"/>
            <a:ext cx="3733920" cy="2727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685800" y="3581280"/>
            <a:ext cx="3657600" cy="268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0AD-9171-432A-B7A4-08677E6E2FF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57200" y="733320"/>
            <a:ext cx="2438280" cy="18604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200400" y="723960"/>
            <a:ext cx="2438280" cy="1866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2590920" cy="19159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57200" y="2705040"/>
            <a:ext cx="2362320" cy="18082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457200" y="4597560"/>
            <a:ext cx="2362320" cy="18032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3209760" y="2666880"/>
            <a:ext cx="2428920" cy="18655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5943600" y="2743200"/>
            <a:ext cx="2438280" cy="1866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3200400" y="4599000"/>
            <a:ext cx="2352600" cy="18018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47800" y="2260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5.5 Mbps Subcarrier 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01920" y="5043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onste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0EB-8C06-4F0E-BE1D-42C7D5F94EF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396520" y="761760"/>
            <a:ext cx="422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1 Mbps CCK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960" y="262260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49560" y="285120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5320" y="285120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59240" y="2622600"/>
            <a:ext cx="3808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57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78360" y="39942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3064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829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35560" y="39942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8784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401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9276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97120" y="3994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13160" y="221616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78360" y="26226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6040" y="2887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65240" y="4030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59240" y="3003480"/>
            <a:ext cx="380880" cy="381240"/>
          </a:xfrm>
          <a:prstGeom prst="upArrow">
            <a:avLst>
              <a:gd name="adj1" fmla="val 50000"/>
              <a:gd name="adj2" fmla="val 250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35560" y="2698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435560" y="2698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62908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63600" y="19051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im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65240" y="4570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43434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45720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67080" y="43434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19720" y="45720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24280" y="45720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81280" y="4572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5240" y="51800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49528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625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51814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197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24280" y="51814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769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81280" y="51814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565240" y="57895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55627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9625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14800" y="57913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57913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197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24280" y="57913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769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5791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24200" y="4419720"/>
            <a:ext cx="145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4 Sp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228600" y="3559320"/>
            <a:ext cx="3200400" cy="23428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3048120" cy="22384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6324480" y="4800600"/>
            <a:ext cx="1295640" cy="990720"/>
          </a:xfrm>
          <a:prstGeom prst="leftArrow">
            <a:avLst>
              <a:gd name="adj1" fmla="val 50000"/>
              <a:gd name="adj2" fmla="val 32694"/>
            </a:avLst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A50-F772-4049-B2C2-219B5484EA3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5687280" y="26668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23320" y="2438280"/>
            <a:ext cx="119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/P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21160" y="2362320"/>
            <a:ext cx="12952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38680" y="2362320"/>
            <a:ext cx="83844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83120" y="26668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259092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6280" y="403848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Code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tru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3962520"/>
            <a:ext cx="15397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771920" y="2590920"/>
            <a:ext cx="10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68320" y="2514600"/>
            <a:ext cx="129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5320" y="2576520"/>
            <a:ext cx="69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87440" y="2819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6396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16440" y="281952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771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12680" y="837720"/>
            <a:ext cx="519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1 Mbps CCK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915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3880" y="2133720"/>
            <a:ext cx="3505320" cy="2819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97760" y="3413160"/>
            <a:ext cx="15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Const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Ma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038480" y="3580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962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181480" y="27432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200040" y="2743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89240" y="3656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5592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7484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5257800" y="2285640"/>
            <a:ext cx="609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5320" y="4067280"/>
            <a:ext cx="69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4343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038560" y="3786480"/>
            <a:ext cx="3473640" cy="2691720"/>
            <a:chOff x="5038560" y="3786480"/>
            <a:chExt cx="3473640" cy="2691720"/>
          </a:xfrm>
        </p:grpSpPr>
        <p:sp>
          <p:nvSpPr>
            <p:cNvPr id="521" name=""/>
            <p:cNvSpPr/>
            <p:nvPr/>
          </p:nvSpPr>
          <p:spPr>
            <a:xfrm>
              <a:off x="5038560" y="6226560"/>
              <a:ext cx="3473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04400" y="4358880"/>
              <a:ext cx="72360" cy="5832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183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3836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519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543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88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879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0184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53752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8496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61700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64839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678708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0995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2104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7331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2680" y="379656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5848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2964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366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0108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0804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792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100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62640" y="6231960"/>
              <a:ext cx="26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      2       3       4       5       6      7       8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666-1A72-4E7F-B23F-F6D822A3FD0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782720" y="226080"/>
            <a:ext cx="43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1 Mbps Subcarrier 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628560" y="2577960"/>
            <a:ext cx="3791160" cy="3060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743360" y="2587680"/>
            <a:ext cx="3791160" cy="3051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524960" y="181224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-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3, 5,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49200" y="182844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-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 4, 6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05960" y="100548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546-A772-4016-8088-42F3169E3C7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5687280" y="26668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23320" y="2438280"/>
            <a:ext cx="119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/P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21160" y="2362320"/>
            <a:ext cx="12952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38680" y="2362320"/>
            <a:ext cx="83844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783120" y="26668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259092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71960" y="2590920"/>
            <a:ext cx="69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28335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16440" y="281952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771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12680" y="837720"/>
            <a:ext cx="519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1 Mbps PBCC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17640" y="4648320"/>
            <a:ext cx="329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Constellation Mapper Exis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but is Com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181480" y="27432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5592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5257800" y="2285640"/>
            <a:ext cx="609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038560" y="3786480"/>
            <a:ext cx="3473640" cy="2691720"/>
            <a:chOff x="5038560" y="3786480"/>
            <a:chExt cx="3473640" cy="2691720"/>
          </a:xfrm>
        </p:grpSpPr>
        <p:sp>
          <p:nvSpPr>
            <p:cNvPr id="570" name=""/>
            <p:cNvSpPr/>
            <p:nvPr/>
          </p:nvSpPr>
          <p:spPr>
            <a:xfrm>
              <a:off x="5038560" y="6226560"/>
              <a:ext cx="3473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04400" y="4358880"/>
              <a:ext cx="72360" cy="5832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183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36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519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543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6788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3879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0184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3752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8496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1700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64839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678708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0995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742104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7331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32680" y="379656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5848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2964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366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0108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90804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792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5100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462640" y="6231960"/>
              <a:ext cx="26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      2       3       4       5       6      7       8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 rot="18209400">
            <a:off x="2895480" y="380988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C19-1689-4BB3-8C03-F04B13CCF2B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914400" y="3333600"/>
            <a:ext cx="10666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14400" y="34851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37400" y="3408840"/>
            <a:ext cx="8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1240" y="348516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70200" y="3408840"/>
            <a:ext cx="13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20640" y="34851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81320" y="3287880"/>
            <a:ext cx="103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c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33720" y="3333600"/>
            <a:ext cx="10666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52680" y="3333600"/>
            <a:ext cx="106704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3333600"/>
            <a:ext cx="12952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3333600"/>
            <a:ext cx="6094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781680" y="3333600"/>
            <a:ext cx="106704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3638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363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419720" y="363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3638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29400" y="363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75720" y="2647080"/>
            <a:ext cx="53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02.11A OFDM MODULATOR BLOCK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83040" y="4250160"/>
            <a:ext cx="226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Sub-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Conste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PSK:  6, 9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QPSK:  12, 18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6 QAM:  24, 36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64 QAM:  48, 54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943600" y="379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79640" y="897480"/>
            <a:ext cx="43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DM DIRECTLY EMB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QUENCY DOMAIN SIGN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314840" y="2590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50440" y="1981080"/>
            <a:ext cx="279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Used to Eliminate th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 IBI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79680" y="4191120"/>
            <a:ext cx="106704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323520" y="4281480"/>
            <a:ext cx="117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72428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9720" y="457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467480" y="411444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61120" y="4373640"/>
            <a:ext cx="12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ycl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ub-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5CB-FEB6-453F-8FCB-16BD2F38A9C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82080" y="106596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65120" y="1902240"/>
            <a:ext cx="659016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e frequency domain modulator for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1 and 2 Mbps Barker sign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e frequency domain modulator f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5.5 and 11 Mbps CCK sign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e frequency domain modulator f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5.5 and 11 Mbps PBCC sign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802.11b frequency domain modulato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to OFDM modu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ic extensions for Barker or CCK transmiss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non 802.11b vari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E2C-A4A8-4B0F-A8ED-39924528F8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51000" y="2600280"/>
            <a:ext cx="76212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13120" y="2600280"/>
            <a:ext cx="396252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075400" y="358344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85080" y="358344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787920" y="28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FFT/FFT S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121120" y="2725920"/>
            <a:ext cx="77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yc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51000" y="3600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13120" y="36003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151000" y="245736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08120" y="216108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 usecs OFDM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98720" y="5958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3036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4559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6082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7608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9131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0654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32180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3703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5226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6752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8275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9798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1324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2847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4370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5896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7419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8942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0468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1991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8086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9612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1135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62658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64184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70320" y="481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22600" y="481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3522240" y="488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41720" y="488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25280" y="4732920"/>
            <a:ext cx="22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312.5 KHz Tone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66320" y="5197680"/>
            <a:ext cx="117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Sub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98400" y="525996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03640" y="601884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90200" y="36612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73200" y="88344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802.11a OFDM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240" y="194688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20 MHz x 4 usecs = 80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303640" y="44575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418440" y="44575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53280" y="444708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~16.2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18240" y="46004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303640" y="46004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7458600">
            <a:off x="6590520" y="2324160"/>
            <a:ext cx="1143000" cy="7621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27600" y="1461960"/>
            <a:ext cx="20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quivalen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64 Chip Code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F8C-8073-4EFE-9E1D-4288657AD04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215080" y="671040"/>
            <a:ext cx="454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yclic Extension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sed on Any Code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954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24040" y="25146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526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812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09840" y="25146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384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670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956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24240" y="25146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52840" y="2514600"/>
            <a:ext cx="228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81440" y="2514600"/>
            <a:ext cx="2286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954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24040" y="46483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526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812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309840" y="46483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384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7670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956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24240" y="46483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52840" y="4648320"/>
            <a:ext cx="2286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81440" y="4648320"/>
            <a:ext cx="2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38240" y="4648320"/>
            <a:ext cx="22860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166840" y="4648320"/>
            <a:ext cx="2286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938240" y="4648320"/>
            <a:ext cx="2286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66840" y="4648320"/>
            <a:ext cx="2286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8280" y="20268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de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2840" y="4128840"/>
            <a:ext cx="13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yclicall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xt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de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35320" y="1767600"/>
            <a:ext cx="26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   2   3    4   5   6   7    8   9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23760" y="391572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 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1    2   3    4   5   6   7    8   9   10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751760" y="5334120"/>
            <a:ext cx="2971800" cy="60948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9"/>
          <a:stretch/>
        </p:blipFill>
        <p:spPr>
          <a:xfrm>
            <a:off x="5486400" y="3141720"/>
            <a:ext cx="3200400" cy="234468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5872320" y="2438280"/>
            <a:ext cx="217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Smoothly Ext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Sub-Carriers in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9B0-0B0B-430D-86E1-B1A722FD075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13400" y="837720"/>
            <a:ext cx="519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 and 2 Mbps BARKER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7960" y="3117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49560" y="33465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5320" y="334656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9240" y="3117960"/>
            <a:ext cx="3808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25720" y="4260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78360" y="4489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30640" y="4260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82920" y="4260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35560" y="4489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87840" y="4260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40120" y="4260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2760" y="4260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45040" y="4489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97320" y="44895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49960" y="4489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7120" y="448956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6320" y="255888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Mbps:  B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Mbps:  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78360" y="311796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040" y="3382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5240" y="452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9240" y="3498840"/>
            <a:ext cx="380880" cy="3808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35560" y="319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35560" y="3193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24280" y="31240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62720" y="1941480"/>
            <a:ext cx="3047760" cy="2325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600" y="240048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im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4880" y="5535720"/>
            <a:ext cx="15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ar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inc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07400" y="4343400"/>
            <a:ext cx="15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inc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FDA-EC9D-458E-A12E-28CACD485BD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657600" cy="2981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137160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8108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3372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7652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82880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8600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3828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9092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74320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9548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51120" y="36180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6960" y="45259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80720" y="1202760"/>
            <a:ext cx="69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arker Code Viewed in Discret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6200" y="29844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11 Chip BARKER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6800" y="226224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FT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429000"/>
            <a:ext cx="609480" cy="1600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B9A-2A08-4206-B82A-B9C328772C3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164160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793880" y="466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51080" y="466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0336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4616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09880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5600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70828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60560" y="466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013200" y="466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65480" y="466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3000" y="4660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1120" y="40114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6960" y="491976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4468680"/>
            <a:ext cx="1522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087800"/>
            <a:ext cx="60984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68560" y="37180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ip Pu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84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4468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468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8560" y="43927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30840" y="46213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83120" y="439272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35760" y="43927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88040" y="46213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0320" y="439272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92960" y="43927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45240" y="43927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97520" y="462132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50160" y="46213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02440" y="46213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49960" y="4621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7720" y="46576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200400" cy="228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03080" y="5194440"/>
            <a:ext cx="157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eriodically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Barker 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9440" y="5194440"/>
            <a:ext cx="135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eriodically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Barker C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4040" y="507996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conv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8960" y="1218240"/>
            <a:ext cx="338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arker C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preading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200" y="762120"/>
            <a:ext cx="147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Pulse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En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67480" y="15238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476-7899-4F7F-9186-1EE93091000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83720" y="990000"/>
            <a:ext cx="57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arker Mode Signaling Revis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960" y="28335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49560" y="30621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5320" y="306216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59240" y="283356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5720" y="3747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78360" y="3976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30640" y="3747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2920" y="3747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5560" y="3976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87840" y="3747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40120" y="3747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92760" y="3747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45040" y="3976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97320" y="39765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49960" y="3976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97120" y="397656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640" y="230040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Mbps:  B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Mbps:  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78360" y="283356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040" y="30988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9240" y="3214800"/>
            <a:ext cx="380880" cy="3808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5560" y="290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435560" y="2909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3525840"/>
            <a:ext cx="2209680" cy="1655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724280" y="284004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553080" y="4572000"/>
            <a:ext cx="2286000" cy="174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2695680" cy="2117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20600" y="198108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ime Domain Multiply Eq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requency Domain Con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5240" y="39625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248520" y="1752480"/>
            <a:ext cx="2666880" cy="1987560"/>
            <a:chOff x="6248520" y="1752480"/>
            <a:chExt cx="2666880" cy="198756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6248520" y="1752480"/>
              <a:ext cx="2666880" cy="1987560"/>
            </a:xfrm>
            <a:prstGeom prst="rect">
              <a:avLst/>
            </a:prstGeom>
            <a:ln w="12600">
              <a:solidFill>
                <a:srgbClr val="3333cc"/>
              </a:solidFill>
              <a:miter/>
            </a:ln>
          </p:spPr>
        </p:pic>
        <p:sp>
          <p:nvSpPr>
            <p:cNvPr id="169" name=""/>
            <p:cNvSpPr/>
            <p:nvPr/>
          </p:nvSpPr>
          <p:spPr>
            <a:xfrm>
              <a:off x="7481880" y="1947600"/>
              <a:ext cx="166680" cy="156204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15360" y="1947600"/>
              <a:ext cx="166680" cy="156204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48400" y="2109600"/>
              <a:ext cx="166680" cy="140004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15280" y="2239560"/>
              <a:ext cx="166680" cy="127008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81800" y="2369880"/>
              <a:ext cx="166680" cy="113976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8480" y="1947600"/>
              <a:ext cx="166680" cy="156204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81960" y="1947600"/>
              <a:ext cx="166680" cy="156204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15080" y="2044440"/>
              <a:ext cx="166680" cy="146520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48560" y="2174760"/>
              <a:ext cx="166680" cy="133488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82040" y="2304720"/>
              <a:ext cx="166680" cy="120492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5400000">
            <a:off x="6972120" y="3467160"/>
            <a:ext cx="533520" cy="1371600"/>
          </a:xfrm>
          <a:custGeom>
            <a:avLst/>
            <a:gdLst>
              <a:gd name="textAreaLeft" fmla="*/ 83160 w 533520"/>
              <a:gd name="textAreaRight" fmla="*/ 466920 w 5335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96144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Compo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B26-8013-4E6A-B27E-7EC4F4D0701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14600" y="1593720"/>
            <a:ext cx="6095880" cy="465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4120" y="2050920"/>
            <a:ext cx="380880" cy="36576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cc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2050920"/>
            <a:ext cx="381240" cy="36576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2432160"/>
            <a:ext cx="380880" cy="327636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2736720"/>
            <a:ext cx="381240" cy="29718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00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041640"/>
            <a:ext cx="380880" cy="266688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cc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2050920"/>
            <a:ext cx="380880" cy="36576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cc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2050920"/>
            <a:ext cx="380880" cy="36576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00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2279520"/>
            <a:ext cx="381240" cy="34290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2584440"/>
            <a:ext cx="380880" cy="312408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cc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2889360"/>
            <a:ext cx="380880" cy="281916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172200" y="2965320"/>
            <a:ext cx="9907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6400" y="2203560"/>
            <a:ext cx="147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Pulse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En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2432160"/>
            <a:ext cx="30481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88560" y="1736640"/>
            <a:ext cx="152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onstitu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tack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34640" y="867240"/>
            <a:ext cx="70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pread Spectrum:  Stacked Carriers Com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" y="4471920"/>
            <a:ext cx="1828800" cy="1395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90720" y="3124080"/>
            <a:ext cx="1143000" cy="10670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561-7419-492D-B9FB-FAD0DFF4F8F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352680" cy="2629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276360" cy="2657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910200" y="2514600"/>
            <a:ext cx="192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zFreqRespDe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.49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24.96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90.4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7.68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8.6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138.6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57.68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.4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4.96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40.49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920" y="2514600"/>
            <a:ext cx="156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FreqR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28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800" y="2514600"/>
            <a:ext cx="108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q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4647960" cy="358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2819520"/>
            <a:ext cx="46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24382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24382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14480" y="98964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b-C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mplitude/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6BF-530D-4ACE-BEA3-C787B096E98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688000" y="26668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 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23320" y="2438280"/>
            <a:ext cx="119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/P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21160" y="2362320"/>
            <a:ext cx="12952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2362320"/>
            <a:ext cx="83844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83120" y="26668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59092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24040" y="403848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1160" y="39625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69400" y="25909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PSK/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68320" y="2514600"/>
            <a:ext cx="129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7120" y="257652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87440" y="2819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6396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16440" y="281952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2680" y="837720"/>
            <a:ext cx="519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 and 2 Mbps BARKER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3505320" cy="2819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520" y="3733920"/>
            <a:ext cx="186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Const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M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69680" y="3792240"/>
            <a:ext cx="3624480" cy="2657520"/>
            <a:chOff x="5269680" y="3792240"/>
            <a:chExt cx="3624480" cy="2657520"/>
          </a:xfrm>
        </p:grpSpPr>
        <p:sp>
          <p:nvSpPr>
            <p:cNvPr id="229" name=""/>
            <p:cNvSpPr/>
            <p:nvPr/>
          </p:nvSpPr>
          <p:spPr>
            <a:xfrm>
              <a:off x="5417640" y="6194160"/>
              <a:ext cx="3104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561280" y="6168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5720" y="6219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84136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11840" y="6219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12036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1200" y="6219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40692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78480" y="6219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687360" y="6168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57480" y="6219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973560" y="6168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7356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25364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5472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53300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3264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820280" y="6168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2028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099640" y="6168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9928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37972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08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32840" y="4356360"/>
              <a:ext cx="64440" cy="572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11840" y="4356360"/>
              <a:ext cx="64800" cy="572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2280" y="4337280"/>
              <a:ext cx="6372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8480" y="4337280"/>
              <a:ext cx="6444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8920" y="4337280"/>
              <a:ext cx="6372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45120" y="5645880"/>
              <a:ext cx="64440" cy="5652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24480" y="4337280"/>
              <a:ext cx="6480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04560" y="4337280"/>
              <a:ext cx="6444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91120" y="4337280"/>
              <a:ext cx="6444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71200" y="4337280"/>
              <a:ext cx="6444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50560" y="4337280"/>
              <a:ext cx="6480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561280" y="4382640"/>
              <a:ext cx="72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84136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12036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40692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687360" y="4382640"/>
              <a:ext cx="72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973560" y="5670720"/>
              <a:ext cx="720" cy="52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25364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53300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7820280" y="4382640"/>
              <a:ext cx="72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099640" y="4382640"/>
              <a:ext cx="72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837972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46040" y="6327720"/>
              <a:ext cx="51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eq (MHz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69680" y="380016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0200" y="404352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91760" y="37922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35000" y="37922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33680" y="40514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17240" y="522576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72360" y="4051440"/>
              <a:ext cx="7218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55280" y="404352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87200" y="37922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73920" y="3792240"/>
              <a:ext cx="7218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2000" y="405252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4038480" y="3580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962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181480" y="27432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200040" y="2743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39560" y="3656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6600" y="2437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7484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5257800" y="2285640"/>
            <a:ext cx="609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547-E6CA-4C65-A682-203EE40502F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Mark Webster</dc:creator>
  <dc:description/>
  <dc:language>en-US</dc:language>
  <cp:lastModifiedBy>Harris Semiconductor</cp:lastModifiedBy>
  <cp:lastPrinted>2000-07-06T16:37:24Z</cp:lastPrinted>
  <dcterms:modified xsi:type="dcterms:W3CDTF">2000-07-10T21:18:12Z</dcterms:modified>
  <cp:revision>91</cp:revision>
  <dc:subject/>
  <dc:title>Frequency Domain Modulators for 802.11b</dc:title>
</cp:coreProperties>
</file>