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902825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80D7-3559-4EDF-BD8E-FBA83192A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21932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B25B-8FD8-4E20-82F1-ABEBF334A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020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193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2020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DDB4-6015-43F2-8D7E-87F740549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7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7496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219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7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7496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7D79-6BCB-4E80-89A4-F4D888E1F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1175-862F-42AA-AA26-B93AFFAFA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B135-DCFB-4C5B-B77C-2294CB991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020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399D-BA61-47F8-9E72-2CE7A9DE5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1EE4-12D8-4016-ABB7-15EBA15C2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19320" y="6094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3266-80E2-4B7F-A5FC-2FB17318E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020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193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8401-2BDC-4D69-BF1E-81443A2D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020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2020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BA29-E39F-4B99-9E64-AB494BF2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020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118A-E9B3-4A7B-B9AE-8B52120C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9564840" y="4800600"/>
          <a:ext cx="326880" cy="198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564840" y="4800600"/>
                    <a:ext cx="326880" cy="19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37320" indent="-337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160" indent="-28188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25000" indent="-223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75720" indent="-2253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24640" indent="-2253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24640" indent="-2253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24640" indent="-2253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142640" y="31968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6019920" y="639900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4878000" y="639900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2EE5984-EC24-4C7A-8686-2A7D0DF3E4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29200" y="32004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2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219320" y="53352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219320" y="6399360"/>
            <a:ext cx="711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219320" y="6400800"/>
            <a:ext cx="784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7627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mplementation Options for the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istribution System in the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802.11 Wireless LAN Infrastructure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486080" y="3200040"/>
            <a:ext cx="693072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mre El-Hoiydi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SEM, Switzerl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EEE ICC 200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re El-Hoiydi, CS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6507-11D5-4E03-9473-D6BF3FCD9CA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84168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plementation Options for the Distribution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8920" indent="-3589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oice of a distribution transport protocol and address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3002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LC Type 1 (connectionless) transport, MAC address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0">
              <a:spcBef>
                <a:spcPts val="624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3002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DP/IP transport, IP layer address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0">
              <a:spcBef>
                <a:spcPts val="624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oice of a mobility management signalling 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re El-Hoiydi, CS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4DEE-F1A9-4806-B7DD-2730D43E25A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84168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verview of the discussed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42680" y="1676520"/>
            <a:ext cx="862956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8920" indent="-3589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C Layer Address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3002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ption 1: Separated Access Points and Porta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3002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ption 2: Joined Access Point and Porta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3002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ption 3: MAC Bridg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0">
              <a:spcBef>
                <a:spcPts val="624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twork Layer Address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3002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ption 4: Network Layer Address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624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re El-Hoiydi, CS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DBF9-67A1-4CB6-8D08-8410B2EC81B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19160" y="762120"/>
            <a:ext cx="62830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parated AP / Port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990720" y="1447920"/>
          <a:ext cx="8458200" cy="49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447920"/>
                    <a:ext cx="8458200" cy="49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609480" y="380880"/>
            <a:ext cx="205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tion 1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re El-Hoiydi, CSE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A53C-75D4-412D-8679-7F44D5A9570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743040" y="2133720"/>
            <a:ext cx="841680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8920" indent="-3589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x size of a 802.11 MSDU = 2304 By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x size of the payload in 802.3 = 1492 By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75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gmentation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nection protocol needed to avoid mixing segments from different sour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75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75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75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380880"/>
            <a:ext cx="4800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nsport pla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380880"/>
            <a:ext cx="205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tion 1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re El-Hoiydi, CSE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CC20-BB80-4A01-B8C3-56D715CA5BB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86263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8920" indent="-358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of the mobility management signalling is that each access point or portal knows through which access point or portal a given MAC address can be reach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ccess point correspond to what MAC addres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proposed to use a dynamic route resolution protocol similar to the Ethernet Address Resolution Protocol (ARP, RCF82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70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380880"/>
            <a:ext cx="205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tion 1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380880"/>
            <a:ext cx="4800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gnal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re El-Hoiydi, CSE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0F79-041E-4726-BB2F-40F68BAB58B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380880" y="1622520"/>
          <a:ext cx="9159840" cy="462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22520"/>
                    <a:ext cx="9159840" cy="46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609480" y="380880"/>
            <a:ext cx="205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tion 1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380880"/>
            <a:ext cx="4800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ute Resol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re El-Hoiydi, CSE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E7E2-DD09-4639-8A02-807C80BFCC3E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380880" y="1905120"/>
          <a:ext cx="9068040" cy="332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05120"/>
                    <a:ext cx="9068040" cy="33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609480" y="380880"/>
            <a:ext cx="205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tion 1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19520" y="380880"/>
            <a:ext cx="4800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ndo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re El-Hoiydi, CSE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2C39-7AEE-4101-A9DC-D21878274265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609480" y="1181160"/>
          <a:ext cx="8763120" cy="552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181160"/>
                    <a:ext cx="8763120" cy="552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609480" y="152280"/>
            <a:ext cx="205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tion 2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19520" y="152280"/>
            <a:ext cx="4800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oined AP / Port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re El-Hoiydi, CSE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7C07-54D5-41E1-90A2-69BA88C689EF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84168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tion 2 versus Option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43040" y="1676520"/>
            <a:ext cx="84168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8920" indent="-358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bility management signalling protocol is identical as in option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70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ing the portal functions in the access points prevents the need of forwarding over the distribution medium the traffic to/from the wired 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re El-Hoiydi, CS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E164-0652-494C-9E38-477F704E40B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742680" y="1752120"/>
            <a:ext cx="8705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8920" indent="-358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MSDU maximum size in 802.11 is reduced from 2304 to 1476, each access point can be a filtering b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ccess point will forward into the cell the frames destined to associated s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need of mobility management signa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ociation protocol is sufficient to give enough information for the filtering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304920"/>
            <a:ext cx="205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tion 3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19520" y="304920"/>
            <a:ext cx="4800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C Brid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re El-Hoiydi, CSE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A608-2126-457C-B5A5-F0677D9CDD1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84168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EEE 802.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41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H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3002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requency-Hopping / DSSS / Infra Re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AC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3002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ireless Etherne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etwork Architectur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3002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d Hoc Network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3002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nfrastructure Network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re El-Hoiydi, CS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DD69-A1F4-4F89-A40A-B6A241A970F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985680" y="1228680"/>
          <a:ext cx="8006040" cy="532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5680" y="1228680"/>
                    <a:ext cx="8006040" cy="532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609480" y="304920"/>
            <a:ext cx="205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tion 3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19520" y="304920"/>
            <a:ext cx="4800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twork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re El-Hoiydi, CSE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7BAC-EBB9-41CC-BFB8-2B3C91F7A444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838080" y="1295280"/>
          <a:ext cx="8382240" cy="539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95280"/>
                    <a:ext cx="8382240" cy="539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609480" y="304920"/>
            <a:ext cx="205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tion 4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19520" y="304920"/>
            <a:ext cx="6095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twork Layer Address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re El-Hoiydi, CSE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A249-B8CF-4DF2-BF96-EF40D6E17D38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743040" y="1447560"/>
            <a:ext cx="84772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8920" indent="-358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points not linked through a broadcast medium any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ingRequest and RoutingIndication messages cannot be broadcast any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proposed to use a dynamic address resolution protocol similar to the Address Resolution Protocol over ATM (ARP over ATM, RCF22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access point must be given the IP address of the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304920"/>
            <a:ext cx="205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tion 4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19520" y="304920"/>
            <a:ext cx="4800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gnal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re El-Hoiydi, CSE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0F8A-906C-48F6-908B-2D0EECF52FB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950760" y="1371600"/>
          <a:ext cx="7953480" cy="459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0760" y="1371600"/>
                    <a:ext cx="7953480" cy="45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609480" y="304920"/>
            <a:ext cx="205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tion 4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19520" y="304920"/>
            <a:ext cx="4800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ute Resol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re El-Hoiydi, CSE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6523-7901-4A4B-93E3-7026FFE0EFBD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228600" y="1676520"/>
          <a:ext cx="9296280" cy="35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9296280" cy="35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609480" y="304920"/>
            <a:ext cx="205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tion 4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19520" y="304920"/>
            <a:ext cx="4800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ndo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re El-Hoiydi, CSE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436B-5669-42F4-99D8-2501130C02F9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80880" y="1297080"/>
          <a:ext cx="10287000" cy="499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7080"/>
                    <a:ext cx="10287000" cy="49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re El-Hoiydi, CSE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5854-665F-467B-8F1F-08205DC9155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84168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ndardis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90676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8920" indent="-358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2.11 TGf Task Group has started the work on IA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IAPP proposal made in 19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3002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ses IP layer address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3002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ransmission of unsolicited “announce” messag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57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3002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ay 2000, fist meeting hel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3002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uly 2000, proposa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3002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pt 2000, first draf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0">
              <a:spcBef>
                <a:spcPts val="624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re El-Hoiydi, CS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BB48-B222-4815-9612-8CA1FD1E18D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84168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43040" y="1676520"/>
            <a:ext cx="84168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8920" indent="-358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 bridge solution simple but limi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be augmented with a network layer IA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70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70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aining points to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8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act of lost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8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act of crossed handover messages (RoutingIndicatio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8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ison between schemes based on requests or on unsolicited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re El-Hoiydi, CS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AB3D-275C-47C1-9255-432228C9CA6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84168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 Hoc Net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670120" y="1981080"/>
          <a:ext cx="4335480" cy="388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70120" y="1981080"/>
                    <a:ext cx="4335480" cy="38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re El-Hoiydi, CSE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1DB6-D284-4B6A-B717-409D7BA13E4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84168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rastructure Net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066680" y="1413000"/>
          <a:ext cx="7772400" cy="518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413000"/>
                    <a:ext cx="7772400" cy="51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re El-Hoiydi, CSE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A6B4-2DAD-4938-8C1B-7AF1125D0C6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84168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915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8920" indent="-3589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sic Service Set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 wireless ce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tended Service Set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ll wireless cel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tribution System: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75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75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 Point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onnection DS - B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rtal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onnection DS - Wired L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410080" y="2819520"/>
            <a:ext cx="4191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Glue between the BSS to form the ES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re El-Hoiydi, CS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B3A6-31C7-4739-A6AB-FFCDAB9EA9F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84168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stribution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915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8920" indent="-3589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ral cells form a virtual single shared-mediu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tribution system responsible of routing fram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tribution system transparent to LL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rtal + Access Points = MAC Bridge between the wired LAN and the cel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219320" y="4278240"/>
          <a:ext cx="7205400" cy="235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278240"/>
                    <a:ext cx="7205400" cy="23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re El-Hoiydi, CS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7094-8111-4CF8-8282-9FE7B5120E4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84168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eration: Traff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3657240"/>
            <a:ext cx="30481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8920" indent="-358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direct traffic between 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57200" y="1676520"/>
          <a:ext cx="8991720" cy="177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991720" cy="17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3200400" y="3809880"/>
          <a:ext cx="5875200" cy="248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3809880"/>
                    <a:ext cx="5875200" cy="24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re El-Hoiydi, CS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44C5-EB3D-4783-AA36-92674ABFAE3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eration: Roa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914400" y="1371600"/>
          <a:ext cx="7924680" cy="335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371600"/>
                    <a:ext cx="7924680" cy="33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743040" y="4800600"/>
            <a:ext cx="8416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 fontScale="87000"/>
          </a:bodyPr>
          <a:p>
            <a:pPr marL="312120" indent="-31212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sociation protocol gives to the distribution system the necessary information to perform the mobility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re El-Hoiydi, CSE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BBEE-B961-4975-853C-B45705A486A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32960" y="380520"/>
            <a:ext cx="8417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gical 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3660840" y="1371600"/>
          <a:ext cx="5711760" cy="49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60840" y="1371600"/>
                    <a:ext cx="5711760" cy="49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1920" y="144792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44520" indent="-34452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on Ser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6640" indent="-28800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enticatio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6640" indent="-28800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rypti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6640" indent="-28800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DU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tribution System Ser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6640" indent="-28800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ociati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6640" indent="-28800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ion (unspecified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6640" indent="-28800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ion (unspecifi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re El-Hoiydi, CS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BE2D-74ED-40AB-89A4-B0D779F1B6E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6T08:02:14Z</dcterms:created>
  <dc:creator>Amre El-Hoiydi</dc:creator>
  <dc:description/>
  <dc:language>en-US</dc:language>
  <cp:lastModifiedBy>Harry R. Worstell</cp:lastModifiedBy>
  <cp:lastPrinted>2000-06-09T12:50:42Z</cp:lastPrinted>
  <dcterms:modified xsi:type="dcterms:W3CDTF">2000-07-11T23:24:05Z</dcterms:modified>
  <cp:revision>45</cp:revision>
  <dc:subject>Submission</dc:subject>
  <dc:title>Implementation Options for the              Distribution System in the 802.11 Wireless LAN Infrastructure Network</dc:title>
</cp:coreProperties>
</file>