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737-1233-4D36-A01E-E8B23FE8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EC5-DB53-46C4-987A-CA6E6755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C4B-66CF-4B9D-BCA7-E0092F63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141F-BF9A-4FDD-B3A1-7C00E2C6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1BD-C781-4864-8C92-EC125079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F78-F997-4D2D-AF34-1A541CDE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A33C-33A2-4DA9-88BD-E8BCF008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79B-44FD-4DAB-8348-93490BE5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7FE-024E-43DE-8741-40CCD311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82B-0FCB-4722-8872-9EBEB339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FDA-28D8-465B-AFC1-FC9BC14B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6BE-0E05-4AB7-A2CD-35BB9B20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, TG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D457953-CDFD-4A17-98CB-9144C550F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" y="6446880"/>
            <a:ext cx="974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2000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ttle, 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BBB-AB16-4B11-ADE4-07BA9CDFD93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of comments from letter ballot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541-5359-4D02-BA4E-E215F71812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s Recei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8 comments were sub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mments are ed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A7F-66B3-4491-BC04-C9F3BB6FDD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 Re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42A-BF0F-4068-B3D5-E116DF214C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65C4-3E67-4480-AB21-83DBBE9E5D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O'Hara</dc:creator>
  <dc:description/>
  <dc:language>en-US</dc:language>
  <cp:lastModifiedBy>Bob O'Hara</cp:lastModifiedBy>
  <dcterms:modified xsi:type="dcterms:W3CDTF">2000-07-12T17:22:51Z</dcterms:modified>
  <cp:revision>11</cp:revision>
  <dc:subject/>
  <dc:title>TGd Agenda, March 2000</dc:title>
</cp:coreProperties>
</file>