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F85D-B3A7-47D8-8C45-674CD07FE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D2BC-A6A9-44CD-8FD8-D9896180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6355-FE07-46F2-9362-BAAE1C356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885C-BE90-48E7-8F87-F8145780B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1B35-6EC6-4D2D-8875-CB323990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D8D5-A5FE-40A8-8F37-0D3D8531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3E03-1540-4671-B652-BB77117D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C051-E27C-474D-9C08-E2B20B73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0492-9168-4456-BB4F-21725669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317C-FFF7-4E75-9772-CC59AAC0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132B-9B68-4067-B0D7-A6C06490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3822-4D30-48DC-8931-DBD919CE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 O’Hara, Chairman, TG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1437E0E-38E4-41F9-80F7-88E54F4B3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4000" y="6446880"/>
            <a:ext cx="916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Gd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Gd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ly 2000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67D8-6AE5-4E7A-A8A2-597AEAF15D7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val of the 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ved unanim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A792-4F0C-4155-BAE4-B1ADFF2D242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of Comments Receiv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8 comments were submit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comments were edito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 comments were accep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comments were withdra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comment was resolved without change to the d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CDC2-2D9A-42DA-911B-4AC687F192E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option of Comment Resol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dopt the comment resolutions if document 00/22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d: Ch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ed: (memory fails 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ly: 11/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3AA3-8105-4387-8ED7-D653DA3416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802.11d Draf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1d-D1.99.pd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the server in the Drafts direc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s change b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1d-D2.pd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the server in the Drafts direc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raft to be sent to sponsor bal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B113-C204-491E-AA3F-CDD25E7FAA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d that 802.11d Draft 2 (file: 802.11d-D2.pdf) be forwarded to ExCom to be issued for sponsor bal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d: Bob O’H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l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0A8E-C32A-4B7C-AA21-D0E6DDB5563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0DF4-63E0-418F-BEC3-DD13CB70B5D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ob O'Hara</dc:creator>
  <dc:description/>
  <dc:language>en-US</dc:language>
  <cp:lastModifiedBy>Bob O'Hara</cp:lastModifiedBy>
  <dcterms:modified xsi:type="dcterms:W3CDTF">2000-07-12T17:38:04Z</dcterms:modified>
  <cp:revision>10</cp:revision>
  <dc:subject/>
  <dc:title>TGd Agenda, March 2000</dc:title>
</cp:coreProperties>
</file>