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7B6-EAF7-41BE-BDE2-62CAEACC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229-F7E7-4C3F-9FEE-ECD0A298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032-4FC1-49F8-A8A6-CFF025F2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9B8-431B-45D9-A777-05F273F7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4D8-581C-460F-8A0B-239D8DDC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3FA-3248-4B1E-867D-8B1DAEA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2B8-341D-444D-AC2F-36977ABF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A2D-9F01-4B7A-9C3F-09B5EA11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519-B77E-4136-B1C6-91B30A69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AE9-A76B-496F-B260-9384FF71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076-8E19-4AAC-A69F-B54B30D2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6EC-003B-4E16-ABA3-7452D0C4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Ditch, Motor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371EAB-8A59-4D9A-AD4A-BC142C9E4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802" descr=""/>
          <p:cNvPicPr/>
          <p:nvPr/>
        </p:nvPicPr>
        <p:blipFill>
          <a:blip r:embed="rId1"/>
          <a:stretch/>
        </p:blipFill>
        <p:spPr>
          <a:xfrm>
            <a:off x="3886200" y="68580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000 meetings of the IEEE 802.1, 802.11 &amp; 802.15 Working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18-22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Radisson Resort &amp; Spa Scotts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7171 N. Scottsdale Road (NE corner at Indian B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Scottsdale, Ar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Room Rate $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Conference Fee $300-3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includes audio-visual, meeting space, DSL line, Breakfast, Breaks, Lunch 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Hotel Reservation Deadline: Thursday, August 10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Document IEEE 802.15-00/1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Document IEEE 802.11-00/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D94-6AA4-458F-B7BF-47E57050E25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ich Ditch</dc:creator>
  <dc:description>Radisson Resort &amp; Spa Scottsdale</dc:description>
  <dc:language>en-US</dc:language>
  <cp:lastModifiedBy>Harry R. Worstell</cp:lastModifiedBy>
  <cp:lastPrinted>1998-02-10T13:28:06Z</cp:lastPrinted>
  <dcterms:modified xsi:type="dcterms:W3CDTF">2000-07-12T21:15:51Z</dcterms:modified>
  <cp:revision>69</cp:revision>
  <dc:subject>Phoenix September Venue</dc:subject>
  <dc:title>Phoenix September Venue</dc:title>
</cp:coreProperties>
</file>