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9D64-125C-40C6-AD86-7976CC7E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267-42ED-41E5-AF44-114B02E9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15B8-F906-4563-843E-77E53F40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516-5A12-4A7B-B450-13387730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A2C2-8062-4B8B-A11B-C0FB8F63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2E3-04AB-4F02-AF98-88870F9D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6B69-D111-46AF-ACAB-1DB1D95A4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07FC-ADA7-447B-BFFB-56A48C30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1DC-BD1B-4CE1-834F-ECBB7FE4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5775-B2AA-4351-8BA3-D1720AEE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097-DB1A-4931-8770-F9BF23FA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7DB2-7846-4B9E-9CD8-F46CC805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A40B770-098B-4973-ABA3-587449E74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2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itu.int/" TargetMode="External"/><Relationship Id="rId2" Type="http://schemas.openxmlformats.org/officeDocument/2006/relationships/hyperlink" Target="http://www.itu.int/" TargetMode="External"/><Relationship Id="rId3" Type="http://schemas.openxmlformats.org/officeDocument/2006/relationships/hyperlink" Target="http://www.itu.int/" TargetMode="External"/><Relationship Id="rId4" Type="http://schemas.openxmlformats.org/officeDocument/2006/relationships/hyperlink" Target="http://www.itu.int/" TargetMode="External"/><Relationship Id="rId5" Type="http://schemas.openxmlformats.org/officeDocument/2006/relationships/hyperlink" Target="http://www.itu.int/" TargetMode="Externa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and “one 5 GHz standard” ad-ho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dnesday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c Hayes, Lucent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07F-62E2-4F06-8C59-3B8B40EA09C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ation to JRG 8a 9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nominate a liaison officer from IEEE 802.11 to JRG 8a 9b Task 4 and to encourage participation by individuals supported by ITU-R sector member (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www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it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hlinkClick r:id="rId5"/>
              </a:rPr>
              <a:t>in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, link to radio communica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-hoc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cclesine, Mu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/0/0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718D-CB84-475A-B149-DEE6EFFA2C7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entiallity po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of hands for sector members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p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 for Liaison officer volunte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807-A20D-4535-9300-8B3FF500213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on 99-231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approve doc.: 00/216d2 for submission to the FCC as an 802.11 Position statement, anticipating addition of 802.15 as joint submi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-hoc group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uwahara, Zy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/0/0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e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7162920" y="6858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8093" y="10800"/>
                </a:moveTo>
                <a:lnTo>
                  <a:pt x="28598" y="3794"/>
                </a:lnTo>
                <a:lnTo>
                  <a:pt x="28598" y="17806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16247" y="3794"/>
                </a:lnTo>
                <a:lnTo>
                  <a:pt x="16247" y="17806"/>
                </a:lnTo>
                <a:lnTo>
                  <a:pt x="14585" y="17806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C835-AC5A-414A-A0FA-66AE04937EB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gence 5 GHz 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epare a letter to ETSI-BRAN and MMAC to propose a joint collaboration between ETSI-BRAN, MMAC, and IEEE 802.11 on the convergence towards a single global 5GHz wireless LAN stand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-ho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nnis Kuwahara, Steven G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/0/0  pass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e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9BC7-F5CD-49E3-B7C0-C952068A430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TSI_BRAN-IEEE 802.11 joint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enario discussed with Chair ETSI-B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IEEE 802.11 experts participate at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ctober 3-6, 20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eting, Stresa, 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SI members can  participate dir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380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s need to get an invitation from C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egistration required BEFORE July 20,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ITSI-BRAN experts participate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ve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le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se joint ETSI_BRAN-IEEE 802.11 meeting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anuary,  20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lose to Europe: Israel or Tur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?Combined with 802.16 (22-26 January, Tel Aviv)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C99-E62D-4A64-B92C-D6FE57188E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tory and “one 5 GHz standard” ad-hoc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dnesday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ory Meetings held Tuesday and Wednesday 8:30-10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utes 00/@@@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tandard ad-hoc held Tuesday 10:30-12: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utes 00/2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1C78-50DB-40A0-8642-7A014E95AF8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ulator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ition papers to Regulatory bodie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ket 99-231 WBFH and D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0/216 draf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warrant that the CW Jammer test remains in the rules for approval of DS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sion Light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filing to be made available, probable position paper from September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" action="ppaction://hlinksldjump"/>
          </p:cNvPr>
          <p:cNvSpPr/>
          <p:nvPr/>
        </p:nvSpPr>
        <p:spPr>
          <a:xfrm>
            <a:off x="6400800" y="403848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24" h="21600">
                <a:moveTo>
                  <a:pt x="35861" y="10800"/>
                </a:moveTo>
                <a:lnTo>
                  <a:pt x="25355" y="17806"/>
                </a:lnTo>
                <a:lnTo>
                  <a:pt x="25355" y="3794"/>
                </a:lnTo>
                <a:close/>
              </a:path>
              <a:path fill="darken" w="64724" h="21600">
                <a:moveTo>
                  <a:pt x="37706" y="3794"/>
                </a:moveTo>
                <a:lnTo>
                  <a:pt x="37706" y="17806"/>
                </a:lnTo>
                <a:lnTo>
                  <a:pt x="39368" y="17806"/>
                </a:lnTo>
                <a:lnTo>
                  <a:pt x="39368" y="37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F573-E5C5-4DF3-9DD1-4047348234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K Radio Communications-A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osition paper necess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meeting of the UK 5 GHz advisory group scheduled for July 27th, 200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-one can att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Andy for 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ulator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ition papers to Regulatory bodies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7475-4553-484D-B15E-8197A5559C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aison to ETSI-BR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from September, 00/129, questions in response to our request to become HIPERLAN family 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to the requirement to have DFS and TPC, many questions needed to be respond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work is to be done on Liaison letters to address each of the items in the request from ETSI BRA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lan to send a liaison with partial ans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omes a subject in the effort to make a single Global LAN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FF4A-E49D-4F92-B212-EAC71768F5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ulat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mulation of RLAN parameters for sharing with satelli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come a position paper for the Joint Rapporteur Group 8a 9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 to be done by Denis and An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453-5EB2-4B10-868A-E50CC6B9CA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TU-R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438280" y="914400"/>
          <a:ext cx="3787920" cy="31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914400"/>
                    <a:ext cx="378792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911880" y="4038480"/>
            <a:ext cx="728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U-R meetings dealing with 5GHz Issues for WRC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) JTG 4-7-8-9 Sharing Issues in 5GHz B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) JTG 1-6-8-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e Global Harmoniz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estrial Wireless Interactive Multimedia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) For More Information see doc.: IEEE 802.11-00/22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7B9-E10C-4624-A7B0-C7CCDE39C1D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ulation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eparations for WRC 200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y Gowan presented paper 00/22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regarding ITU-R, CEPT and ETSI-BR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dates of meetings and description of commit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evant WRC 2003 agenda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BCC7-B803-4244-8AD3-8F6F3B8187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tion paper to JRG 8a 9b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o prepare a position paper to JRG 8a-9b to input the 802.11 Wireless LAN parameters into WP 7C for use in sharing stud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-hoc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rray, Eccles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/0/0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y and Denis are working on a dra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 Hayes, Lucent Technolog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69E6-EAC0-43F4-84D1-3155F3F8F12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Jul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3T03:25:24Z</dcterms:created>
  <dc:creator>Vic Hayes</dc:creator>
  <dc:description/>
  <dc:language>en-US</dc:language>
  <cp:lastModifiedBy>Vic Hayes</cp:lastModifiedBy>
  <cp:lastPrinted>1998-02-10T13:28:06Z</cp:lastPrinted>
  <dcterms:modified xsi:type="dcterms:W3CDTF">2000-07-13T06:56:55Z</dcterms:modified>
  <cp:revision>4</cp:revision>
  <dc:subject/>
  <dc:title>Regulatory and one standard ad-hocs Wednesday report</dc:title>
</cp:coreProperties>
</file>