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608-9263-473A-A548-EB89695B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BA2-1473-41E6-8F19-A8233881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F45-DE21-4877-B7E7-16E1D5D8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5FC-7B03-4582-B417-D2B1736E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058-09E2-48A1-8F47-D8574E0A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5CDF-7E89-4489-ABDA-28E4C12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636-CAB1-43C7-86C4-7019F85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300-5BED-470E-BD7B-0060EC64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CB4-6A2C-4F27-8040-AB89A6AE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C17-AD2D-4012-B8D3-B4DFD1F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DD3-5B2A-4FBF-9464-21723F3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388-019F-4BB3-AA8C-74941450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6668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4720" y="6474960"/>
            <a:ext cx="1895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ia M. Poncini,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E7DC84-588A-4219-9C69-8C5CC8A2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b-Cor1 Final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ed the edits to 802.11b-Cor1-AnnexA-Corrections-Draft-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d both corrections to 802.11b-Cor1 for MIB and Annex A to IEEE 802.11 Web Draft Document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7/10 WG Plenary session voted to include MIB and Annex A changes to 8802-11 amd2 as comments. Vote: 35/0/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CF7-3178-4017-980B-63C9496A91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0DD-99ED-4222-B423-0920E23B2E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23:18Z</dcterms:created>
  <dc:creator>Victoria M Poncini</dc:creator>
  <dc:description/>
  <dc:language>en-US</dc:language>
  <cp:lastModifiedBy>Victoria M Poncini</cp:lastModifiedBy>
  <cp:lastPrinted>1998-02-10T13:28:06Z</cp:lastPrinted>
  <dcterms:modified xsi:type="dcterms:W3CDTF">2000-07-13T19:37:40Z</dcterms:modified>
  <cp:revision>1</cp:revision>
  <dc:subject/>
  <dc:title>PowerPoint Presentation</dc:title>
</cp:coreProperties>
</file>