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B58-31BA-40CA-BDCB-1EBCCEDB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686-E926-438A-B4A0-E3284BA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417-8A07-4175-8617-9A001B54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FB2-ECE1-4B9B-9602-755B232C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2E0-9C30-4335-B6F1-2580A9A6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9EE-E83B-45BC-BFF8-007973B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34B-F830-4EC4-B1DF-CBF3A03C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FBA-9C47-48E6-A0DE-5FFD8683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04D-6AF5-4216-8C72-6BE535D8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8BB-00E1-4ACB-845B-FC9F6DD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F68-C507-47B1-859D-4595C68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391-A929-4975-99FC-9F2C342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559377-CA68-40DD-B51D-8B6B2756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IEEE 802.11-00/2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6520" y="6477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s from LinCom Wireless FCC Vis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/3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LinCom Wirel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HRb like signals with F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CC is not entertaining any substantive discussions of potential Higher Rate Spread Spectrum certifications at thi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iting rulemaking related to NPRM 99-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be certified using CW jammer test, which may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 to have a problem with high order modul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ed on it looking like “unspread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sense that 11 Mbps in a 22 MHz bandwidth is about as far as they’ll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Spectrum is like porn, “We (the FCC) know it when we se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higher data rates go to 5 Ghz, that’s why we opened up the UNII ba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LinCom Wirel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a clear indication that they are leaning to replace the CW jammer test with an as yet undefined Gaussian jamm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a sense that an acceptable Processing Gain calculation (for SS systems with less than 10 chips/symbol) may likely NOT include the sum of “bits per symbol spreading gain” plus any coding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LinCom Wirel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Valued Sony Customer</cp:lastModifiedBy>
  <cp:lastPrinted>1998-02-10T13:28:06Z</cp:lastPrinted>
  <dcterms:modified xsi:type="dcterms:W3CDTF">2000-07-12T23:04:59Z</dcterms:modified>
  <cp:revision>20</cp:revision>
  <dc:subject>IEEE 802.15 Tutorial</dc:subject>
  <dc:title>Reliability of IEEE 802.11 WLANs in Presence of Bluetooth Radios</dc:title>
</cp:coreProperties>
</file>