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171A-1636-4729-878E-A1D9DF0D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D755-4170-422A-82A7-84CECA59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5B4A-AFF5-4DCA-94CB-6D77BF06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6F4-7A72-49D0-ABD8-347460AA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A379-298F-458C-A182-05086573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B6DF-8E0C-4380-8770-D8B13C48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40B5-3F4C-4D63-A3C1-361058BD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63E0-219D-4631-9E7C-B072DA59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CF3-B7EA-4741-A850-EC88EA4D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11DB-1439-4BE7-807B-E624C248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8D4-C1F3-4933-A60E-D9F47245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83F2-1AD0-44B1-9628-8BBF2FC7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257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s Kuwahara,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745479F-C19A-4358-9F95-D1B44D0FB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GHz Sky is Fall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-NII Spectrum Sh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Jolla 13 Jul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 Kuwa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D8E0-C2E9-4BAD-AD9E-873AFE7AB2A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GHz U-N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PL paper on sharing spectrum (02328R- SARs &amp; U-NII_Devices@5.3GH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borne Synthetic Aperture Radar SAR footprint = 181.5 k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rox 70 M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U-NII emitter w/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nna Pattern and Power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mi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-existence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907-9E92-406F-91DC-A2C23BC99B0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100 mW Emi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t ant = -20dBi High Elevation Angle Gain (10 dBi G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LAN signal is approximately 20 dB below sensor thres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C0D-7C16-4862-A149-704CAADC19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250 mW Emi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t ant = -4dBi High Elevation Angle Gain (6 dBi G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LAN signal is approximately 1 dB above sensor thres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CAF8-5FFA-4AFC-A234-FD288C4989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250 mW Emi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t ant = -0dBi High Elevation Angle Gain (0 dBi G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LAN signal is approximately 5 dB above sensor thres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DE0-19D7-4A8B-B0C3-7D6C3FF6BD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th Sensor Satellite folks are pessim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t case is a few WLAN emitters within an 8 X 8 mile square, using 10 dB anten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ase for WLANs with lower gain anten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at: WLANs / RLANs are currently only a footnote for 5.15-.25GHz in ITU-R Radio Re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WLANs be eliminated from ITU re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1FD8-F865-4C25-8DE6-7310BDD2A9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d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 participation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ITU process to lobby for WLAN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ment in multiple regulatory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tion in Working Parties, Task Groups, Joint Rapporteur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 Spectrum is a Shared Re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of a Joint International WLAN forum e.g. 3GPartnershipProje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7BA4-C9E4-4CF7-B25C-CA8CE56F21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5C36-2C38-4EFB-8F66-9C68F3E6DD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Denis Kuwahara</dc:creator>
  <dc:description/>
  <dc:language>en-US</dc:language>
  <cp:lastModifiedBy>Harry R. Worstell</cp:lastModifiedBy>
  <cp:lastPrinted>1998-02-10T13:28:06Z</cp:lastPrinted>
  <dcterms:modified xsi:type="dcterms:W3CDTF">2000-07-19T20:29:42Z</dcterms:modified>
  <cp:revision>9</cp:revision>
  <dc:subject/>
  <dc:title>5GHz Sky is Falling</dc:title>
</cp:coreProperties>
</file>