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1FA-61EF-4C2F-B76B-2E2C6AF7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897-EA19-427F-A552-540814F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32C-44DF-48B4-88DF-3F5AE299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A36-36EA-4FC2-BC49-A7288B2D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036-7889-427C-9F36-A368826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F1C-3E1D-46CE-8FC1-F15345D0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F81-3CFD-4A07-B2B5-B24A7F0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BCA-A9E6-4F5D-B9EC-C7514D49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824-A018-445B-A5A9-92683A6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0B2-5B63-4A50-913C-27B5DD2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9E5-D192-4AA9-8C3C-0EC68B2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E91-C669-496C-885E-D80320B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A4583A-73B3-48B6-8B79-9BAC7A9A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802.11/.15 Joint Meeting Repor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Joll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E1D-0249-4F55-9DC8-C16C175868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to Bluetooth SIGna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1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gular column on 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mments from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some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834-1043-42C4-A0C3-C4E1E89A3B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Layer Model Parameters for First Experi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cenario (2 BT &amp; 2 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BT and 802.11b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validate by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40-F4CC-4B47-8230-2CF251F16D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Project Pl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8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he TG2 Projec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2A4-6DFC-4C68-A2F1-6EFA2F8255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A70-76F5-4472-83C4-7824212566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AF7-2FA9-4398-8391-702D9334A6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d another 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 &amp; 802.15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and 802.15 members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D99-8CFA-4DDC-AAE5-0940E264E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DCD-D2DB-4839-AFE7-A7B906605D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T SIG Coexistenc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application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irst at impact of other o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next at impact of Bluetooth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oing PHY or MAC layer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552-0E5F-4291-9DD6-CBFCA8CCA5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 of the Impact of Bluetooth on IEEE 802.11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versus Signal-to-Interferer Ratio (S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Multipath delay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add equalizer in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772-9F66-4FFF-B88A-7D368B9D8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Blueto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Description 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/MAC Mode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A61-6C9B-4765-952D-2D0EE820C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Kels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keley Wireless Research Cen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1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terested in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haring (USS)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Uncoordinated Coexistence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995-651A-49D6-A5AC-C5F987E295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Harry R. Worstell</cp:lastModifiedBy>
  <cp:lastPrinted>1998-02-10T13:28:06Z</cp:lastPrinted>
  <dcterms:modified xsi:type="dcterms:W3CDTF">2000-07-13T16:27:13Z</dcterms:modified>
  <cp:revision>234</cp:revision>
  <dc:subject>IEEE 802.15 &lt;subject&gt;</dc:subject>
  <dc:title>IEEE P802.15 Working Group for Wireless Personal Area Networks</dc:title>
</cp:coreProperties>
</file>