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B50-6819-4371-A107-FE8625A4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F24-8372-45A1-B91C-EF6BB595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D2B-DB5B-4D57-B558-D15544F5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4FA-E538-4578-A80F-0252B278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AA5-A7DB-4572-9729-02042701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2A5-0AE6-40BB-A76D-83EBD585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07D-568E-4A4C-9B2E-9E04A6F3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79A-9832-4FA9-821B-35411EF5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C05-55D2-42EB-AF44-64FB643E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C05-4AD2-4595-A37C-28A6BE4A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854-4710-4FA5-B23D-D71F34B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E54-49F3-481E-A15B-153B048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969180-3606-4F83-B12F-56D6D23CF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33920" y="396000"/>
            <a:ext cx="47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42-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and “one 5 GHz standard” ad-ho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rsday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 Hayes, Lucen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173-4433-4E5F-A126-0B1ED57E34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and “one 5 GHz standard” ad-ho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rsday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Meetings held Wednesday 16:00-17:00 and Thursday 8:30-11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3EE-D095-43CA-BE44-B1CAFD3AB4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or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ition papers to Regulatory bodi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ket 99-231 WBFH and D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/216 draf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arrant that the CW Jammer test remains in the rules for approval of D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approve doc.: 00/216d3 for submission to the FCC as an 802.11 Position statement, anticipating addition of 802.15 as joint sub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ren/Kuwahara, passed with3/0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/126d4 is the version on the Thursda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44A-088C-458D-9ECF-D4C77C7D97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pprove doc.: 00/216d4 for submission to the FCC as an 802.11 Position statement, anticipating addition of 802.15 as joint sub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2.11, approved 47,1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pprove the addition of 802.15 as the second entity that submits doc.:216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2.15, approved 12, 1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ACF-57F5-42E0-9423-360EC00F93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to ETSI-BR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from September, 00/129, questions in response to our request to become HIPERLAN family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 the document (00/24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most important answers and will have 802.11 and 802.11a standards attached as well as the link to the list of relevant IP letters at the SA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ions the ad-hoc group established for convergence to a single 5 GHz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gulatory ad-hoc group approved the submission with 3/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pprove the submission of document 00/241 to the Chair of ETSI-B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ellern/Murray passed with 3/0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24C-6B9A-439A-A7C2-1B1C7ED978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rove the submission of document 00/241 to the Chair of ETSI-B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approved with 45, 0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3F9-DF1F-480F-A048-44A1CC3F0F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to ETSI-B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letter to MMAC and ETSI-B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no time to make this document, however, the liaison statement to ETSI-BRAN contains sufficient text to make ETSI-BRAN aware of the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letters can be approved at the September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359-06B7-4D06-9A5D-1E2DDF3CFF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ion of RLAN parameters for sharing with satel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document will be completed off-line and placed for review on the web-site. The plan will be to attend the relevant ITU-R meet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roval will be deferred to next m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553-8FAA-4BFB-9E29-026C1C1BAE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TU-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438280" y="914400"/>
          <a:ext cx="378792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14400"/>
                    <a:ext cx="378792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911880" y="4038480"/>
            <a:ext cx="728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U-R meetings dealing with 5GHz Issues for WRC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JTG 4-7-8-9 Sharing Issues in 5GHz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) JTG 1-6-8-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 Global Harmoniz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estrial Wireless Interactive Multimedia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) For More Information see doc.: IEEE 802.11-00/22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556-3642-46A0-AD4F-8EAA420594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3:25:24Z</dcterms:created>
  <dc:creator>Vic Hayes</dc:creator>
  <dc:description/>
  <dc:language>en-US</dc:language>
  <cp:lastModifiedBy>Vic Hayes</cp:lastModifiedBy>
  <cp:lastPrinted>1998-02-10T13:28:06Z</cp:lastPrinted>
  <dcterms:modified xsi:type="dcterms:W3CDTF">2000-07-14T09:06:02Z</dcterms:modified>
  <cp:revision>8</cp:revision>
  <dc:subject/>
  <dc:title>Regulatory and one standard ad-hocs Wednesday report</dc:title>
</cp:coreProperties>
</file>