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F98-16D2-4BB1-92DC-5ED16E7E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837-0C22-4A76-B4D5-92D03228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9EC-A7E8-4760-9915-7A8C154B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ECF-C5E9-425F-8AAC-8D3A9D69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E37-68AC-41E4-B366-05B05083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139-06ED-458C-BA8F-3E6D17A4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79F-2459-4F5E-A50A-C701CC69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44E-5EA7-4C7B-B4E8-FEE6CA9A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1AE-6A36-4BAB-BA99-CC6C39E8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CA9-1258-4678-80A6-28FE8809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890-610F-41F5-AD0E-90CB47F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9C5-0484-41C7-935C-4F4DA90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3024E4-6222-4D21-B3BB-5FC12378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AC applicability for WirelessHU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Godf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9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1B3-18CA-458E-A6C0-79D78E6729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y doesn’t the existing Point Coordination Function provide adequate Q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CF provides a Contention Free Period (CFP), where access to the medium is completely controlled by the Point Coordinator (P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FP begins with a beacon transmitted by the PC. The PC must contend for the medium using the DCF rules. Thus the beacon (and the CFP) may be delayed by other non-coordinated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unacknowledged unicast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standardized mechanism for controlling Point Coordinator bandwidth allocation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attempting to associate or reassociate in a Point Coordinated BSS must contend under DCF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F4D-6DFF-4ADA-BA8B-BA8764F6D0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E QoS Propos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90920"/>
            <a:ext cx="2514600" cy="30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olling Proposal for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SA and Enrichnet - 0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 Enhancements Joi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, Lucent, Sharewave 0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oS Support in 802.11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ilips Research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 PCF Enhancements and Contention Free Bur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WN 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EEE 802.11 Quality of Serv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soft 0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eless LAN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l 0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4320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295280"/>
            <a:ext cx="68580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BM for admis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1295280"/>
            <a:ext cx="76212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802.1d VLAN tags to indicat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911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2600" y="4876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2600" y="5334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26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1295280"/>
            <a:ext cx="68580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DCF rules to provid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769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78400" y="5334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78400" y="4876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47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0520" y="4876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1295280"/>
            <a:ext cx="83808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existing problems with the P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228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228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1295280"/>
            <a:ext cx="76212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 the P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440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440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2280" y="3809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1500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44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472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771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DDD-02B2-44A1-ACAB-3CD3CC3C4F9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E QoS Propos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4320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143000"/>
            <a:ext cx="685800" cy="1371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1143000"/>
            <a:ext cx="762120" cy="1371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762120"/>
            <a:ext cx="5486400" cy="3808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F Enhanc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053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911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6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1143000"/>
            <a:ext cx="8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igate the effects  overlapping BSS on the sam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769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47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1143000"/>
            <a:ext cx="761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 CFP polling orde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143000"/>
            <a:ext cx="914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o allow BW reservation without DCF Con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143000"/>
            <a:ext cx="914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interface for bandwidth alloc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1143000"/>
            <a:ext cx="8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cknowledgement polic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1143000"/>
            <a:ext cx="76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STA – STA trans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228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7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788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1688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260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7840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05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590920"/>
            <a:ext cx="25146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olling Proposal for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SA and Enrichnet - 0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 Enhancements Joi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, Lucent, Sharewave 0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 PCF Enhancements and Contention Free Bur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WN 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676520"/>
            <a:ext cx="230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imes New Roman"/>
              </a:rPr>
              <a:t>Proposals using enhancements to the P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052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6892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1143000"/>
            <a:ext cx="76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ypes of p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472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913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62940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46748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56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CE0-F59E-4F13-84C7-15A25B9A83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E CEPT Harm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enhancements planned for 802.11E is the addition of support for Dynamic Frequency Selection (DFS) and Transmit Power Control (TPC) to the 802.11 M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implementation will require corresponding changes to the 802.11 PH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AE3-D9AE-41CC-A224-21CCBAE9EC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E Security Enhanc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thentication mechanism will be extended to provide mutual authentication in both infrastructure and independent BSS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nhancements will protect network traffic from eavesdropping to a reasonable level compatible with the state of the 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nhancements will allow for authentication of the source of each packet, to prevent link hijacking or undetected insertion of rogue packets into the lin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nhancements will allow key distribution or derivation of per-link or per-session keys, and strongly protect keys and passwords from recovery by eavesdropp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569-6AD0-4E7F-B525-3A8CB77375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E Project Time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1999 – Study Group formed by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1999 – MAC Enhancements PAR sub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00 – PAR Approved, Task Group 802.11E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et of proposals and papers on MAC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0 – First meeting of Task Group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000 – 802 Plenary Meeting, La Jolla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 of presentation of papers and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ement of Requirements and Evaluation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2000 – Selection of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2000 – Target date for first letter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A1A-985F-4CE9-8867-A1707E6E10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32763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HUMAN system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ulti-hop network (wireless distribution system) is not directly supported by the 802.11 M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and forwarding could be handled at higher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 system would make support QoS with 802.11E MAC enhancements much mor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35053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: 802.16hc-00/01 “</a:t>
            </a:r>
            <a:r>
              <a:rPr b="1" lang="en-US" sz="1200" spc="-1" strike="noStrike">
                <a:solidFill>
                  <a:srgbClr val="000000"/>
                </a:solidFill>
                <a:latin typeface="Times-Bold"/>
              </a:rPr>
              <a:t>Requirements for WirelessHUMAN Syste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10B-0C23-48C0-8BAD-7EBC2114F6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MAC is already implemented and i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MAC is highly configu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changes in capabilities and characteristics can be achieved with changes to the MAC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hanges to the parameters are necessary for the WirelessHUMAN application, it does not affect the hardware implementation and thus does not reduce economy of scale advan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133-8153-42B5-BEB0-0281212B0E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ality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has broad market acceptance, and a rapidly growing installed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a WLAN devices will become available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es of scale will reduce the cost for 802.11a and WirelessHUMAN implementations if they use comparable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6EC-83FC-4552-861F-BE34B8B4E5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a PHY is directly applicable to the Wireless HUMAN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operates in the 5GHz UNII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uses OFDM modulation with 52 subcarriers, providing excellent multipath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supports 8 data rates in the range of 6 to 54Mbps, which allows adaptation to various link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a PHY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CAE-68CE-463F-863B-C4148FDA56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02.11A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802-11%20frequency%20plan" descr=""/>
          <p:cNvPicPr/>
          <p:nvPr/>
        </p:nvPicPr>
        <p:blipFill>
          <a:blip r:embed="rId1"/>
          <a:stretch/>
        </p:blipFill>
        <p:spPr>
          <a:xfrm>
            <a:off x="0" y="1828800"/>
            <a:ext cx="562284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467160" cy="1609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3809880"/>
            <a:ext cx="3247920" cy="259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3581280"/>
            <a:ext cx="3581280" cy="1828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521-0E92-4BBC-A65B-40E53471C2D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802.11 MAC appropriate for WirelessHU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MAC was designed to support a relatively unreliable RF link operating in an unlicensed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extremely robust, and provides the level of reliability required by higher layer protoc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C provides a level of indirection which enables nomadic users, and hand-off between access points, without affecting higher layer protoc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9A5-85F9-4C87-BC74-DBD3139E4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potential problems with the 802.11 MAC for WirelessHU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MAC was not designed for node separation distances on the order of kilometers. At 5 kilometers, the propagation delay roughly equals the short interframe space (SIFS) of 16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propagation delays can result in failure of the CSMA/CA access mechanism, causing coll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the MAC’s Point Coordination Function prevents failure, although at a loss of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enhancements described in 802.11E proposals provide further improvements to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C95-C5A5-4E9A-BF78-BFC989AE6B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rovements to the 802.11 M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ptember 1999, the MAC Enhancements study group was formed. Two PARs were gener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related to Quality of Service, Security, Authentication, and other internal MAC functions are being developed by Task Group E. The Task Group will produce a supplement to the 802.11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related to the Inter Access Point Protocol are being developed by Task Group F. This protocol is outside the scope of 802 standards, so Task Group F will produce a Recommended Practices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090-8C54-4B2F-B5A3-C39A0BE050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and Purpose of Project 802.11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, approved in March 2000, defines the scope and purpose of the 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the 802.11 Medium Access Control (MA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and manage Quality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classes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enhanced security and authentication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efficiency enhancements in the areas of the Distributed Coordination Function (DCF) and Point Coordination Function (P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EBB-0E6C-428D-81C7-AA2B946E54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Enhance the 802.11 MA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for Quality of Service over wireless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ove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priorities and classes of service implemented in higher network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improvements in privacy and authent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nesses in existing WEP mechanism have been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regulations regarding export of encry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 to implement different authentication mechanisms in to correspond to differing security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230-ED27-410A-889F-A5D0E54E5E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13:02:09Z</dcterms:created>
  <dc:creator>Tim Godfrey</dc:creator>
  <dc:description>Tim Godfrey, Intersil</dc:description>
  <dc:language>en-US</dc:language>
  <cp:lastModifiedBy>Harry Worstell</cp:lastModifiedBy>
  <cp:lastPrinted>2000-04-29T13:14:27Z</cp:lastPrinted>
  <dcterms:modified xsi:type="dcterms:W3CDTF">2000-10-07T04:08:15Z</dcterms:modified>
  <cp:revision>84</cp:revision>
  <dc:subject>Submission</dc:subject>
  <dc:title>802.11 WirelessHUMAN</dc:title>
</cp:coreProperties>
</file>