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94320" y="93121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5E2A0D-A2D6-49B8-896A-E805EE4B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EEE Networks, Sept/Oct 1999 issue, notab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case for relative differentiated services and the proportional differentiated service model” - C.Dovrolis &amp; P. Ramananthan, University of Wiscons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ir neat concept of proportional service differentiation to maintain fair access to a variable capacity medium was combined with medium load feedback. to yield a distributed QoS mechanism that is self-adjusting and scales well. The key requirement is that all devices have to implement the model and policy and not play “rogu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 interesting property of this scheme is that it does not require changes in the 802.11 MAC and therefore it can be retrofitted on to existing system - at least in princi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fore, this can be applied to the 5 GHz MAC spec as well as a retrofitted as an option on the current 802.11 MAC spe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rther information: the IETF has issued a series of memos and RFC dealing with QoS. D-QoS ties in with IntServ but also with Diffserv - even if no differentiation other than the priority bit is available, the scheme still works - with only two clas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ing with DOCSIS should  also work by mapping DOCSIS priorities onto D-QoS clas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concept of D-QoS is that the available service rate at each station is allocated differentially to different calles of service. By adjusting the separation between class level service rates, the share that a given class gets of the availabe station service rate can be va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The service rate per station varies with the overall network load - that is always true, with any QoS mechanism. Absolute service rates in packets per second are not possible - one can only set targets that can be achieved in good, stable propagation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nsmission opportunity: end of every transmission; every free channel condition and every slot interval during a free channe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critical channel load: no delay in medium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ritical channel load: each node experiences some con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er critical channel load: all nodes experience contention and/or extended back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 Service Rate: total of  transmission opportunities during some interval (may need different scales for sub- and (super)critical condi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Service Rate: fraction of total transmission opportunities allowed for that class. CSR 4 means: 1 in 4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SR for class B is 2 then, even if there is no class A traffic, the device will only attempt to gain medium access one every second opportunity. That means that other stations with Class A service have a better chance of transmitting.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sue of RF chann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.4 G there are 4 (3?) channels, at 5 GHz US, there are 12 channels, in Europe, 17, in Japan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work shows that for a high density scenario with 54 Mb/s per home in a multi-story parallel housing block arrangement, 41 channels would be needed. The main reason is that the medium re-use  is not very good at high bit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1AC-630F-45ED-81C0-29E50B32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1DD-6A48-463D-ACB6-D010AB8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D87-FE5C-46D5-A814-40B6E13D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FCD-EF29-4AA8-99B2-95A64D6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F79-1714-4EC1-826D-881AEBBB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5A2-2386-4B09-9365-D2C947CC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312-383A-49BB-A7BC-E4CF219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3C9-FC07-4D0F-B524-F8D0D38B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8CD-FDF6-45B8-9AD4-E26269E3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E2F-11A5-4AF6-8FC8-318AD064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9A3-E3C6-48CE-9507-965B811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9EA-2C9B-415D-87B1-4F7C15A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5680" y="34992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523200"/>
            <a:ext cx="35114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 Kruys, Harold Teunissen, Lucent 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14440" y="652284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5913C9-0BC8-47D3-B231-A1329247C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2320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QoS model for IEEE 80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5246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228600"/>
            <a:ext cx="39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QoS model for IEEE 802.11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Task Group E September 2000 mee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Kruys - WC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old Teunissen - Bell Labs Tw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09C-EB9E-4BA3-9F41-4113075546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94736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at system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 the application in connection se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QoS Classes of Service as generic classification that can be mapped to specific solutions and mechanisms (e.g. windowing, priorities, leaky bucke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eedback to higher layers to adjust feed rate to the available wireless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 in with IETF work on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 in with “OS” functions - admis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D25-BB36-4C8E-870E-4B273772A8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model for D-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QoS 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ve reduction of service rate for lower classes of service as the medium load goe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dium load feedback to drive local service rate decisions - per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dmis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drop rate feedback to tell the application if a new “connection”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Proportional Diff. Servi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88C-1D2F-43B3-A814-A111517BB5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Policy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Class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delay and jitter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relativ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olicy speci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or proportional servic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 rate control and starvation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medium load on servic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r decrease the relative service rate of each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d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B38-A9C7-4993-8C77-61A6630BEB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3400" y="1676520"/>
            <a:ext cx="76708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5349600" y="4809600"/>
            <a:ext cx="622440" cy="6033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349240" y="3850200"/>
            <a:ext cx="623880" cy="600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349600" y="2904480"/>
            <a:ext cx="622440" cy="6033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5349960" y="1966680"/>
            <a:ext cx="622080" cy="600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38760" y="1959120"/>
            <a:ext cx="1406520" cy="3450240"/>
            <a:chOff x="3938760" y="1959120"/>
            <a:chExt cx="1406520" cy="3450240"/>
          </a:xfrm>
        </p:grpSpPr>
        <p:sp>
          <p:nvSpPr>
            <p:cNvPr id="79" name=""/>
            <p:cNvSpPr/>
            <p:nvPr/>
          </p:nvSpPr>
          <p:spPr>
            <a:xfrm rot="16200000">
              <a:off x="4331160" y="4395240"/>
              <a:ext cx="62172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4330080" y="3435120"/>
              <a:ext cx="62352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4330800" y="2471760"/>
              <a:ext cx="62208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4330800" y="1566720"/>
              <a:ext cx="62208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89520" y="4843800"/>
              <a:ext cx="1304280" cy="509760"/>
              <a:chOff x="3989520" y="4843800"/>
              <a:chExt cx="1304280" cy="509760"/>
            </a:xfrm>
          </p:grpSpPr>
          <p:sp>
            <p:nvSpPr>
              <p:cNvPr id="84" name=""/>
              <p:cNvSpPr/>
              <p:nvPr/>
            </p:nvSpPr>
            <p:spPr>
              <a:xfrm rot="16200000">
                <a:off x="488844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6200000">
                <a:off x="423648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6200000">
                <a:off x="458748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388512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989520" y="3883680"/>
              <a:ext cx="1304280" cy="508680"/>
              <a:chOff x="3989520" y="3883680"/>
              <a:chExt cx="1304280" cy="50868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88880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423684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6200000">
                <a:off x="458784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388548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989520" y="2919960"/>
              <a:ext cx="1304280" cy="509760"/>
              <a:chOff x="3989520" y="2919960"/>
              <a:chExt cx="1304280" cy="509760"/>
            </a:xfrm>
          </p:grpSpPr>
          <p:sp>
            <p:nvSpPr>
              <p:cNvPr id="94" name=""/>
              <p:cNvSpPr/>
              <p:nvPr/>
            </p:nvSpPr>
            <p:spPr>
              <a:xfrm rot="16200000">
                <a:off x="488844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200000">
                <a:off x="423648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58748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388512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989520" y="2014920"/>
              <a:ext cx="1304280" cy="509760"/>
              <a:chOff x="3989520" y="2014920"/>
              <a:chExt cx="1304280" cy="50976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488844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423648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458748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388512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 rot="16200000">
            <a:off x="3296880" y="480960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296160" y="3895920"/>
            <a:ext cx="62388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296880" y="290448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296880" y="199008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4360" y="1828800"/>
            <a:ext cx="1124280" cy="3632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4360" y="31240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 Access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10120" y="1981080"/>
            <a:ext cx="984240" cy="507960"/>
            <a:chOff x="5910120" y="1981080"/>
            <a:chExt cx="984240" cy="507960"/>
          </a:xfrm>
        </p:grpSpPr>
        <p:sp>
          <p:nvSpPr>
            <p:cNvPr id="110" name=""/>
            <p:cNvSpPr/>
            <p:nvPr/>
          </p:nvSpPr>
          <p:spPr>
            <a:xfrm>
              <a:off x="6050880" y="219888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0120" y="198108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78440" y="2962440"/>
            <a:ext cx="986040" cy="580320"/>
            <a:chOff x="5878440" y="2962440"/>
            <a:chExt cx="986040" cy="580320"/>
          </a:xfrm>
        </p:grpSpPr>
        <p:sp>
          <p:nvSpPr>
            <p:cNvPr id="113" name=""/>
            <p:cNvSpPr/>
            <p:nvPr/>
          </p:nvSpPr>
          <p:spPr>
            <a:xfrm>
              <a:off x="6019200" y="3211200"/>
              <a:ext cx="774360" cy="331560"/>
            </a:xfrm>
            <a:prstGeom prst="rightArrow">
              <a:avLst>
                <a:gd name="adj1" fmla="val 50000"/>
                <a:gd name="adj2" fmla="val 5838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8440" y="2962440"/>
              <a:ext cx="986040" cy="165600"/>
            </a:xfrm>
            <a:prstGeom prst="leftArrow">
              <a:avLst>
                <a:gd name="adj1" fmla="val 50000"/>
                <a:gd name="adj2" fmla="val 148859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10120" y="3886200"/>
            <a:ext cx="984240" cy="507960"/>
            <a:chOff x="5910120" y="3886200"/>
            <a:chExt cx="984240" cy="507960"/>
          </a:xfrm>
        </p:grpSpPr>
        <p:sp>
          <p:nvSpPr>
            <p:cNvPr id="116" name=""/>
            <p:cNvSpPr/>
            <p:nvPr/>
          </p:nvSpPr>
          <p:spPr>
            <a:xfrm>
              <a:off x="6050880" y="410400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10120" y="388620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10120" y="4876920"/>
            <a:ext cx="984240" cy="507960"/>
            <a:chOff x="5910120" y="4876920"/>
            <a:chExt cx="984240" cy="507960"/>
          </a:xfrm>
        </p:grpSpPr>
        <p:sp>
          <p:nvSpPr>
            <p:cNvPr id="119" name=""/>
            <p:cNvSpPr/>
            <p:nvPr/>
          </p:nvSpPr>
          <p:spPr>
            <a:xfrm>
              <a:off x="6050880" y="509472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0120" y="487692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2743200"/>
            <a:ext cx="1852560" cy="2771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3102120"/>
            <a:ext cx="17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media Traffic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62040" y="2035080"/>
            <a:ext cx="914400" cy="507960"/>
            <a:chOff x="2462040" y="2035080"/>
            <a:chExt cx="914400" cy="507960"/>
          </a:xfrm>
        </p:grpSpPr>
        <p:sp>
          <p:nvSpPr>
            <p:cNvPr id="124" name=""/>
            <p:cNvSpPr/>
            <p:nvPr/>
          </p:nvSpPr>
          <p:spPr>
            <a:xfrm>
              <a:off x="2602440" y="225288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62040" y="203508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62040" y="2914560"/>
            <a:ext cx="914400" cy="507960"/>
            <a:chOff x="2462040" y="2914560"/>
            <a:chExt cx="914400" cy="507960"/>
          </a:xfrm>
        </p:grpSpPr>
        <p:sp>
          <p:nvSpPr>
            <p:cNvPr id="127" name=""/>
            <p:cNvSpPr/>
            <p:nvPr/>
          </p:nvSpPr>
          <p:spPr>
            <a:xfrm>
              <a:off x="2602440" y="313236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040" y="291456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462040" y="3962520"/>
            <a:ext cx="914400" cy="507960"/>
            <a:chOff x="2462040" y="3962520"/>
            <a:chExt cx="914400" cy="507960"/>
          </a:xfrm>
        </p:grpSpPr>
        <p:sp>
          <p:nvSpPr>
            <p:cNvPr id="130" name=""/>
            <p:cNvSpPr/>
            <p:nvPr/>
          </p:nvSpPr>
          <p:spPr>
            <a:xfrm>
              <a:off x="2602440" y="418032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62040" y="396252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462040" y="4854600"/>
            <a:ext cx="914400" cy="507960"/>
            <a:chOff x="2462040" y="4854600"/>
            <a:chExt cx="914400" cy="507960"/>
          </a:xfrm>
        </p:grpSpPr>
        <p:sp>
          <p:nvSpPr>
            <p:cNvPr id="133" name=""/>
            <p:cNvSpPr/>
            <p:nvPr/>
          </p:nvSpPr>
          <p:spPr>
            <a:xfrm>
              <a:off x="2602440" y="507240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62040" y="485460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38760" y="2057400"/>
            <a:ext cx="20412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2045"/>
                </a:solidFill>
                <a:latin typeface="Arial"/>
              </a:rPr>
              <a:t>Drop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82960" y="54864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vice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905120"/>
            <a:ext cx="185256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9810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&amp; Networkt Mg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CEB-A9FB-4D96-994C-518836D329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3040" y="1523880"/>
            <a:ext cx="8199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 are e.g.: A, B, C, D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size for Class A = 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rate = proportional, default distance is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A will get 2 times as much service as B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access delay = x then increase class distance to 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access delay = y than increase class distance to 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Q is full then drop 2 random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rop rate is &gt; m packets/sec then refuse new interactive and stream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778-A999-4FA1-92A9-5E3340034F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ing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3040" y="1600200"/>
            <a:ext cx="81234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medium load, all classes get “full”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oad increases, bias shift towards highe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rvation of low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elay increases beyond medium capacity, applications see packet drop and adjust flow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rop rate reverses, applications increas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560-7431-4949-BB16-F92E8E0AE3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s to any siz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s capacity evenly over multiple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cell overlap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implemented at an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requires packet stream separation - e.g. by labels or priority levels; this is needed any way for In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sed admission control and/or service rate control can be 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riven by S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8DA-B468-45F4-978A-44F86094A0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pecify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MAC SAPs or extend current SAP definitions with additional primitives per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Service Class operations and parameters as part of 802.11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llow for remote control of policy and clas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PI for Service Access and drop rat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532-4CFB-4306-9366-1A35797BF7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works with proven 802.11 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is robust and self-adjusts to mediu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is simple, effective and open-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s with the Internet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different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easy to implement - avoids the complexities of centralised scheduling and cell overlap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0B0-9567-4967-88E1-DB7A78E9F9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eeded for the feedback channels (what information needs to be passed up/down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 if only lower classes are used, how to use the transmit opportun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 with backoff and possible re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with neighbor cell is still resolved by retransmissions, etc. but what are the effects for QoS (delay, jitter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EC6-DFF0-4C85-869A-0291DA2A8E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400" y="1676520"/>
            <a:ext cx="7670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started out as wireless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before talk is essential for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concern for QoS at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QoS with active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not a burning issue at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ignaling was not tr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 when wireless ATM was riding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lot of telecom drive behi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paradigm is IP and the Intern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9EE-A50E-4A0C-8558-93F27BF1AC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ment and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decision to ad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work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nto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this, besides PCF, to 802.11TGe and the Joint 802.11-HIPERLAN/2 group as basis of a QoS MAC specif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6F9-D52A-49A1-94AA-DE7A4A490B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definition of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s spaces: home, busin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s, change wit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quantitative yardstick to judg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on the Internet evo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requencie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erformance of wirele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an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easy / auto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2F6-CE4D-41BA-949C-B8A77FFC32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Requirements Analy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1523880"/>
            <a:ext cx="81234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interactiv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videoconferencing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delay and jitter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stream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olumes, video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tes delay an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and any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ikes a short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or SPs define QoS Policy, not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8ED-3AC8-4E8B-AD7A-2871F05D19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QoS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priorities of traffic types or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starvation (allowed or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to downgrading services when the medium capacity de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medium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term, due to changing propag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, due to changes in the population of users and subnets (shared med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066-3780-4339-80BB-4A100C1BBD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3400" y="1599840"/>
            <a:ext cx="7971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ring QoS under control requ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icy for, e.g. admission control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admission control is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demand/assignment is unfea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erminals; changing instantaneous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propagation and interference conditions cause rate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pproximate QoS optimization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flow control is not “RF robust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t 5 GHz not enough RF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CAC-4F67-450B-B508-0E8B7483B5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3080" y="1665000"/>
            <a:ext cx="7670520" cy="40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is the dominant network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on the link to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(IETF) has a variety of QoS mechanisms at TCP and IP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 at TC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and Differentiate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wireless MAC solution has to tie in with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research is being done on Network QoS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 be lever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C4C-C1C8-4D3A-8602-76DD73722F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827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e robustness of 802.11 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suffers from hidden nodes and communication’s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intain efficient medium use (DCF is pretty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 and in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ward compatible” with current 802.11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A3F-7AC5-46B6-92E5-00E30D2E3F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ness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Be liberal in what you accept, and conservative in what you send*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 Jon Post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) RFC-1122, Requirements for Internet Hosts - Communication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632-C09C-4414-ABB7-A7830F39B5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6:36:16Z</dcterms:created>
  <dc:creator>Jan Kruys, Harold Teunissen</dc:creator>
  <dc:description>September 2000</dc:description>
  <dc:language>en-US</dc:language>
  <cp:lastModifiedBy>Harold Teunissen</cp:lastModifiedBy>
  <cp:lastPrinted>1997-07-21T17:22:44Z</cp:lastPrinted>
  <dcterms:modified xsi:type="dcterms:W3CDTF">2000-09-19T03:45:39Z</dcterms:modified>
  <cp:revision>38</cp:revision>
  <dc:subject>Meeting Proposal</dc:subject>
  <dc:title>00267-Distributed QoS model for IEEE 802.11</dc:title>
</cp:coreProperties>
</file>