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9D1-833A-446B-B617-4A7C73DD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D9B-81CC-4A14-962E-274100A1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09D-E330-4BA2-9CCF-0A12D50E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366-ED94-42C8-B98F-24EC4B32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A23-A41C-43D3-9186-C2D94A2A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958-D28A-44F2-8612-992D42E0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72D-FF2A-4665-9417-A47EEE61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7A0-5DC8-4248-9D91-2B38825D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DEC-3243-4189-BFC9-4BAFEC6C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AAF-D38E-4F40-84FB-3E0B14C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0F9-3F79-44F3-9322-7227EDB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7A3-AB3A-4962-8FCA-8569C33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092536-96B1-45F4-A16B-1F4284B9F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erformance of Smart Antennas and PCF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 Alastalo, Steven Gray and Venkatesh Va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kia Research C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15A-799E-4951-9F54-B9F59EBA95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85800" y="685800"/>
            <a:ext cx="438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raffic Mod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ffic measured in data-units/slot-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data-unit takes 1 slot-time fo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traffic in network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and video traffic originates from “calls” made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are Poisson distributed; once placed, each call generates periodic packe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inter-call-arrival-time controls load on the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416-AC70-45B2-B5FE-E9D6B960168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685800"/>
            <a:ext cx="691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raffic Model (cont.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85800" y="1701720"/>
            <a:ext cx="8028000" cy="5006880"/>
            <a:chOff x="685800" y="1701720"/>
            <a:chExt cx="8028000" cy="5006880"/>
          </a:xfrm>
        </p:grpSpPr>
        <p:sp>
          <p:nvSpPr>
            <p:cNvPr id="401" name=""/>
            <p:cNvSpPr/>
            <p:nvPr/>
          </p:nvSpPr>
          <p:spPr>
            <a:xfrm>
              <a:off x="685800" y="170172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l-time traffic load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1015920" y="2665440"/>
                  <a:ext cx="7394760" cy="19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al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urn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t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all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rvl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ime</m:t>
                                          </m:r>
                                        </m:sub>
                                      </m:sSub>
                                    </m:sub>
                                  </m:sSub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pk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z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t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pkt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arvl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time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sub>
                                  </m:sSub>
                                </m:den>
                              </m:f>
                              <m:r>
                                <m:t xml:space="preserve">x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alls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alls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calls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vpk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z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t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vpkt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arvl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time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sub>
                                  </m:sSub>
                                </m:den>
                              </m:f>
                              <m:r>
                                <m:t xml:space="preserve">x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calls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alls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calls</m:t>
                                  </m:r>
                                </m:den>
                              </m:f>
                            </m:e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"/>
            <p:cNvSpPr/>
            <p:nvPr/>
          </p:nvSpPr>
          <p:spPr>
            <a:xfrm>
              <a:off x="820800" y="4842000"/>
              <a:ext cx="789300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pkt_s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udio packet siz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pkt_s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video packet siz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t_call_arvl_ti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mean intercall arrival time (8:1 ratio between audio and video calls)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t_apkt_arvl_time, int_vpkt_arvl_ti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rrival time between audio packets and video packets respectiv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calls, vcalls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number of audio anc video calls respectivel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3DF-024B-4C3E-A5E2-752482D044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Audi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440" y="2023920"/>
            <a:ext cx="9149040" cy="3623040"/>
            <a:chOff x="1440" y="2023920"/>
            <a:chExt cx="9149040" cy="3623040"/>
          </a:xfrm>
        </p:grpSpPr>
        <p:sp>
          <p:nvSpPr>
            <p:cNvPr id="406" name=""/>
            <p:cNvSpPr/>
            <p:nvPr/>
          </p:nvSpPr>
          <p:spPr>
            <a:xfrm>
              <a:off x="177768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84960" y="53197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40611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-69336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554040" y="2023920"/>
              <a:ext cx="3971880" cy="3235320"/>
              <a:chOff x="554040" y="2023920"/>
              <a:chExt cx="3971880" cy="3235320"/>
            </a:xfrm>
          </p:grpSpPr>
          <p:sp>
            <p:nvSpPr>
              <p:cNvPr id="411" name=""/>
              <p:cNvSpPr/>
              <p:nvPr/>
            </p:nvSpPr>
            <p:spPr>
              <a:xfrm>
                <a:off x="554040" y="2023920"/>
                <a:ext cx="3971880" cy="323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73160" y="2263680"/>
                <a:ext cx="3060720" cy="262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73160" y="2263680"/>
                <a:ext cx="3060720" cy="26290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7316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6068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4964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3860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2756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14720" y="2263680"/>
                <a:ext cx="180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73160" y="48927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73160" y="401940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73160" y="313848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73160" y="226368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073160" y="2263680"/>
                <a:ext cx="306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73160" y="4892760"/>
                <a:ext cx="306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413388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107316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73160" y="4892760"/>
                <a:ext cx="306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107316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107316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316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72440" y="491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166068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6068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14600" y="4919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224964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4964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48560" y="491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283860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3860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91080" y="4919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342756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2756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26480" y="491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014720" y="486540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14720" y="22636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969000" y="4919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21480" y="510696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105440" y="505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73160" y="48927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4119480" y="4892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73160" y="48927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73160" y="4892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4106520" y="4892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8400" y="48322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85320" y="47862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73160" y="462600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4119480" y="46260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73160" y="462600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160" y="447192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119480" y="44719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3160" y="447192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73160" y="43657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119480" y="43657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073160" y="436572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73160" y="42782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4119480" y="42782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73160" y="427824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073160" y="4211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4119480" y="4211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073160" y="42116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073160" y="4152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4119480" y="4152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073160" y="41529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073160" y="4098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119480" y="4098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73160" y="40989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73160" y="40593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4119480" y="40593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73160" y="40593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73160" y="401940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119480" y="40194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73160" y="401940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073160" y="40194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106520" y="40194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78400" y="39592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85320" y="391176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73160" y="375120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4119480" y="37512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073160" y="375120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073160" y="35989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4119480" y="35989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073160" y="359892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73160" y="34923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4119480" y="34923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073160" y="349236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73160" y="34052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19480" y="3405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073160" y="34052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73160" y="33321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4119480" y="33321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073160" y="33321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73160" y="32781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4119480" y="32781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073160" y="32781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73160" y="32241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119480" y="32241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73160" y="322416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73160" y="31780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119480" y="31780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73160" y="317808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73160" y="313848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4119480" y="31384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73160" y="313848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073160" y="31384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106520" y="31384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8400" y="3078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85320" y="30322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73160" y="287820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4119480" y="28782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73160" y="287820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73160" y="27241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4119480" y="27241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073160" y="272412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73160" y="26114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4119480" y="26114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73160" y="26114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073160" y="25304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4119480" y="2530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73160" y="253044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73160" y="24573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4119480" y="24573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3160" y="245736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73160" y="23972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4119480" y="2397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073160" y="23972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073160" y="23511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4119480" y="23511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073160" y="23511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73160" y="230508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4119480" y="23050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73160" y="230508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73160" y="22636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4119480" y="22636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73160" y="226368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73160" y="22636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4106520" y="22636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78400" y="22035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85320" y="21574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073160" y="2263680"/>
                <a:ext cx="306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073160" y="4892760"/>
                <a:ext cx="306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413388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107316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170000" y="3672000"/>
                <a:ext cx="882720" cy="533160"/>
              </a:xfrm>
              <a:custGeom>
                <a:avLst/>
                <a:gdLst/>
                <a:ahLst/>
                <a:rect l="l" t="t" r="r" b="b"/>
                <a:pathLst>
                  <a:path w="556" h="336">
                    <a:moveTo>
                      <a:pt x="0" y="336"/>
                    </a:moveTo>
                    <a:lnTo>
                      <a:pt x="62" y="244"/>
                    </a:lnTo>
                    <a:lnTo>
                      <a:pt x="124" y="134"/>
                    </a:lnTo>
                    <a:lnTo>
                      <a:pt x="186" y="88"/>
                    </a:lnTo>
                    <a:lnTo>
                      <a:pt x="248" y="59"/>
                    </a:lnTo>
                    <a:lnTo>
                      <a:pt x="309" y="38"/>
                    </a:lnTo>
                    <a:lnTo>
                      <a:pt x="371" y="25"/>
                    </a:lnTo>
                    <a:lnTo>
                      <a:pt x="433" y="4"/>
                    </a:lnTo>
                    <a:lnTo>
                      <a:pt x="495" y="0"/>
                    </a:lnTo>
                    <a:lnTo>
                      <a:pt x="556" y="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157400" y="41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1157040" y="41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254240" y="4044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253880" y="4044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52520" y="38718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1352160" y="38718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50800" y="379872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1450800" y="379872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49440" y="3751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1549080" y="3751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46280" y="371808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645920" y="371808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744560" y="369900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744560" y="369900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43200" y="36655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842840" y="36655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41480" y="3659040"/>
                <a:ext cx="2844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941120" y="3659040"/>
                <a:ext cx="2844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039760" y="3665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039400" y="3665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6920" y="3632040"/>
                <a:ext cx="2647800" cy="466920"/>
              </a:xfrm>
              <a:custGeom>
                <a:avLst/>
                <a:gdLst/>
                <a:ahLst/>
                <a:rect l="l" t="t" r="r" b="b"/>
                <a:pathLst>
                  <a:path w="1668" h="294">
                    <a:moveTo>
                      <a:pt x="0" y="294"/>
                    </a:moveTo>
                    <a:lnTo>
                      <a:pt x="185" y="214"/>
                    </a:lnTo>
                    <a:lnTo>
                      <a:pt x="371" y="134"/>
                    </a:lnTo>
                    <a:lnTo>
                      <a:pt x="556" y="105"/>
                    </a:lnTo>
                    <a:lnTo>
                      <a:pt x="741" y="59"/>
                    </a:lnTo>
                    <a:lnTo>
                      <a:pt x="927" y="33"/>
                    </a:lnTo>
                    <a:lnTo>
                      <a:pt x="1112" y="12"/>
                    </a:lnTo>
                    <a:lnTo>
                      <a:pt x="1298" y="4"/>
                    </a:lnTo>
                    <a:lnTo>
                      <a:pt x="1483" y="4"/>
                    </a:lnTo>
                    <a:lnTo>
                      <a:pt x="1668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38120" y="406548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633680" y="393876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7" y="42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927080" y="381168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20840" y="37656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516040" y="369252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7" y="42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09800" y="365112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03560" y="36180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98760" y="360504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92520" y="360504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87720" y="359892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7" y="42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52640" y="2311560"/>
                <a:ext cx="1239840" cy="26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52640" y="2311560"/>
                <a:ext cx="1239840" cy="2664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52640" y="2311560"/>
                <a:ext cx="1239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52640" y="2577960"/>
                <a:ext cx="123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409248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5264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52640" y="2577960"/>
                <a:ext cx="123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285264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52640" y="2311560"/>
                <a:ext cx="1239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52640" y="2577960"/>
                <a:ext cx="123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09248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85264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43600" y="232416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50080" y="244476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22480" y="2384280"/>
                <a:ext cx="1954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06720" y="237168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006360" y="237168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22480" y="2511360"/>
                <a:ext cx="1954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992320" y="247824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46720" y="4513320"/>
                <a:ext cx="654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69760" y="465948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ud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938840" y="2023920"/>
              <a:ext cx="4211640" cy="3184560"/>
              <a:chOff x="4938840" y="2023920"/>
              <a:chExt cx="4211640" cy="3184560"/>
            </a:xfrm>
          </p:grpSpPr>
          <p:sp>
            <p:nvSpPr>
              <p:cNvPr id="608" name=""/>
              <p:cNvSpPr/>
              <p:nvPr/>
            </p:nvSpPr>
            <p:spPr>
              <a:xfrm>
                <a:off x="4938840" y="2023920"/>
                <a:ext cx="4211640" cy="318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86400" y="2263680"/>
                <a:ext cx="3251160" cy="258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86400" y="2263680"/>
                <a:ext cx="3251160" cy="2584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8640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1352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73416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6128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989840" y="2263680"/>
                <a:ext cx="180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610480" y="2263680"/>
                <a:ext cx="180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86400" y="484812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86400" y="458784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86400" y="4334040"/>
                <a:ext cx="3251160" cy="144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86400" y="407340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86400" y="381312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86400" y="3559320"/>
                <a:ext cx="3251160" cy="144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86400" y="329868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86400" y="303840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86400" y="2778120"/>
                <a:ext cx="3251160" cy="144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6400" y="252396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86400" y="226368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86400" y="226368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86400" y="484812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8737560" y="2263320"/>
                <a:ext cx="180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486400" y="2263320"/>
                <a:ext cx="144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486400" y="484812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486400" y="2263320"/>
                <a:ext cx="144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548640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48640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483880" y="48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1352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1352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69240" y="4875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673416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73416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731640" y="48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36128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6128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317000" y="4875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7989840" y="481500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989840" y="226368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987320" y="48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8610480" y="481500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610480" y="226368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64760" y="4875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532360" y="506268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710920" y="501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86400" y="48481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8702280" y="484812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23400" y="478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86400" y="45878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8702280" y="458784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40600" y="45277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86400" y="43340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8702280" y="4334040"/>
                <a:ext cx="34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40600" y="42735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486400" y="40734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8702280" y="407340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40600" y="4013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86400" y="38131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8702280" y="381312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340600" y="37530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86400" y="35593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8702280" y="3559320"/>
                <a:ext cx="34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40600" y="3500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6400" y="32986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8702280" y="329868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340600" y="32385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86400" y="30384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8702280" y="303840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40600" y="2978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86400" y="27781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8702280" y="2778120"/>
                <a:ext cx="34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40600" y="27176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86400" y="25239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8702280" y="252396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40600" y="2465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86400" y="22636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8702280" y="226368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23400" y="220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486400" y="226368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86400" y="484812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8737560" y="2263320"/>
                <a:ext cx="180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5486400" y="2263320"/>
                <a:ext cx="144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92600" y="2565360"/>
                <a:ext cx="935280" cy="1608120"/>
              </a:xfrm>
              <a:custGeom>
                <a:avLst/>
                <a:gdLst/>
                <a:ahLst/>
                <a:rect l="l" t="t" r="r" b="b"/>
                <a:pathLst>
                  <a:path w="589" h="1013">
                    <a:moveTo>
                      <a:pt x="0" y="0"/>
                    </a:moveTo>
                    <a:lnTo>
                      <a:pt x="63" y="96"/>
                    </a:lnTo>
                    <a:lnTo>
                      <a:pt x="130" y="357"/>
                    </a:lnTo>
                    <a:lnTo>
                      <a:pt x="193" y="467"/>
                    </a:lnTo>
                    <a:lnTo>
                      <a:pt x="261" y="584"/>
                    </a:lnTo>
                    <a:lnTo>
                      <a:pt x="328" y="639"/>
                    </a:lnTo>
                    <a:lnTo>
                      <a:pt x="391" y="828"/>
                    </a:lnTo>
                    <a:lnTo>
                      <a:pt x="458" y="870"/>
                    </a:lnTo>
                    <a:lnTo>
                      <a:pt x="521" y="946"/>
                    </a:lnTo>
                    <a:lnTo>
                      <a:pt x="589" y="101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80000" y="255096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579640" y="255096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80080" y="2705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679720" y="2705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86280" y="3119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785920" y="3119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86360" y="32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5886000" y="32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992920" y="347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5992560" y="347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100920" y="3567240"/>
                <a:ext cx="252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100920" y="3567240"/>
                <a:ext cx="252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00640" y="3867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6200280" y="3867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7200" y="39337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306840" y="39337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407280" y="405432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406920" y="405432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3480" y="4160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513120" y="4160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99240" y="2263680"/>
                <a:ext cx="2811240" cy="922320"/>
              </a:xfrm>
              <a:custGeom>
                <a:avLst/>
                <a:gdLst/>
                <a:ahLst/>
                <a:rect l="l" t="t" r="r" b="b"/>
                <a:pathLst>
                  <a:path w="1771" h="581">
                    <a:moveTo>
                      <a:pt x="0" y="0"/>
                    </a:moveTo>
                    <a:lnTo>
                      <a:pt x="198" y="0"/>
                    </a:lnTo>
                    <a:lnTo>
                      <a:pt x="391" y="21"/>
                    </a:lnTo>
                    <a:lnTo>
                      <a:pt x="589" y="42"/>
                    </a:lnTo>
                    <a:lnTo>
                      <a:pt x="787" y="97"/>
                    </a:lnTo>
                    <a:lnTo>
                      <a:pt x="984" y="236"/>
                    </a:lnTo>
                    <a:lnTo>
                      <a:pt x="1182" y="286"/>
                    </a:lnTo>
                    <a:lnTo>
                      <a:pt x="1380" y="581"/>
                    </a:lnTo>
                    <a:lnTo>
                      <a:pt x="1573" y="358"/>
                    </a:lnTo>
                    <a:lnTo>
                      <a:pt x="1771" y="526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73680" y="223056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086520" y="223056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394320" y="226368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07160" y="229716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21440" y="238428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35720" y="2604960"/>
                <a:ext cx="52560" cy="669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48560" y="268452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962840" y="315288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69200" y="279864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583480" y="30654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15200" y="4433760"/>
                <a:ext cx="1181160" cy="26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15200" y="4433760"/>
                <a:ext cx="1181160" cy="2606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315200" y="4433760"/>
                <a:ext cx="118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315200" y="4694400"/>
                <a:ext cx="118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849636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31520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315200" y="4694400"/>
                <a:ext cx="118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31520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15200" y="4433760"/>
                <a:ext cx="118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15200" y="4694400"/>
                <a:ext cx="118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849636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31520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91040" y="444816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96800" y="456732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81800" y="4500720"/>
                <a:ext cx="1875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461360" y="4487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461000" y="4487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81800" y="4627440"/>
                <a:ext cx="18756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48400" y="459432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71480" y="445464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78680" y="46353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ud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3E6-5A80-45A3-AEB2-52ED855788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Audi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0" y="1865160"/>
            <a:ext cx="8948880" cy="3781800"/>
            <a:chOff x="0" y="1865160"/>
            <a:chExt cx="8948880" cy="3781800"/>
          </a:xfrm>
        </p:grpSpPr>
        <p:sp>
          <p:nvSpPr>
            <p:cNvPr id="746" name=""/>
            <p:cNvSpPr/>
            <p:nvPr/>
          </p:nvSpPr>
          <p:spPr>
            <a:xfrm>
              <a:off x="177624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83160" y="5319720"/>
              <a:ext cx="166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40593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h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00000">
              <a:off x="-69480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571680" y="1865160"/>
              <a:ext cx="3800160" cy="3284640"/>
              <a:chOff x="571680" y="1865160"/>
              <a:chExt cx="3800160" cy="3284640"/>
            </a:xfrm>
          </p:grpSpPr>
          <p:sp>
            <p:nvSpPr>
              <p:cNvPr id="751" name=""/>
              <p:cNvSpPr/>
              <p:nvPr/>
            </p:nvSpPr>
            <p:spPr>
              <a:xfrm>
                <a:off x="571680" y="1865160"/>
                <a:ext cx="3800160" cy="328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62000" y="2109960"/>
                <a:ext cx="2933640" cy="267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062000" y="2109960"/>
                <a:ext cx="2933640" cy="26701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062000" y="2109960"/>
                <a:ext cx="180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800360" y="2109960"/>
                <a:ext cx="144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529000" y="2109960"/>
                <a:ext cx="144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5560" y="2109960"/>
                <a:ext cx="144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95640" y="2109960"/>
                <a:ext cx="180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062000" y="4780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062000" y="38894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062000" y="300024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062000" y="21099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062000" y="210996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062000" y="478008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399564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106200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062000" y="478008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06200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1062000" y="475128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062000" y="210996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05912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1800360" y="475128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00360" y="210996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9568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2529000" y="475128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529000" y="210996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52576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3265560" y="475128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265560" y="210996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26232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995640" y="475128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995640" y="210996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99276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64160" y="5003640"/>
                <a:ext cx="218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974760" y="495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062000" y="47800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3981240" y="47800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62000" y="4780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062000" y="47800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966840" y="478008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53920" y="471636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84960" y="46674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062000" y="4513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3981240" y="45133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062000" y="45133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062000" y="4351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3981240" y="43513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062000" y="43513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62000" y="42465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981240" y="42465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062000" y="42465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062000" y="41562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981240" y="415620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62000" y="415620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62000" y="40863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981240" y="40863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62000" y="40863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62000" y="40291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3981240" y="4029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062000" y="40291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062000" y="39736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3981240" y="39736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62000" y="39736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062000" y="39322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981240" y="39322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062000" y="39322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062000" y="38894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981240" y="38894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2000" y="38894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062000" y="38894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966840" y="388944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3920" y="382572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984960" y="37782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2000" y="36241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981240" y="36241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062000" y="362412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62000" y="34624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981240" y="34624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062000" y="34624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062000" y="33577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981240" y="33577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62000" y="33577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062000" y="32655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981240" y="32655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062000" y="32655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062000" y="31957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981240" y="31957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062000" y="31957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62000" y="31399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981240" y="31399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62000" y="313992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62000" y="308448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981240" y="30844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62000" y="308448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2000" y="30416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981240" y="30416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62000" y="30416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62000" y="30002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981240" y="30002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62000" y="300024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2000" y="300024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3966840" y="3000240"/>
                <a:ext cx="28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53920" y="293688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984960" y="288756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62000" y="27338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3981240" y="2733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062000" y="27338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062000" y="257328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981240" y="25732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062000" y="257328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62000" y="24670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3981240" y="24670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62000" y="2467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2000" y="237636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981240" y="23763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062000" y="237636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62000" y="23065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3981240" y="23065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62000" y="230652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62000" y="22510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3981240" y="22510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062000" y="2251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062000" y="21938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981240" y="2193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62000" y="219384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062000" y="21528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981240" y="215280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062000" y="215280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62000" y="21099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981240" y="21099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062000" y="21099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062000" y="210996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966840" y="210996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53920" y="204804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984960" y="199872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062000" y="210996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062000" y="478008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399564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106200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157400" y="3630600"/>
                <a:ext cx="822240" cy="574560"/>
              </a:xfrm>
              <a:custGeom>
                <a:avLst/>
                <a:gdLst/>
                <a:ahLst/>
                <a:rect l="l" t="t" r="r" b="b"/>
                <a:pathLst>
                  <a:path w="518" h="362">
                    <a:moveTo>
                      <a:pt x="0" y="362"/>
                    </a:moveTo>
                    <a:lnTo>
                      <a:pt x="54" y="150"/>
                    </a:lnTo>
                    <a:lnTo>
                      <a:pt x="113" y="97"/>
                    </a:lnTo>
                    <a:lnTo>
                      <a:pt x="173" y="110"/>
                    </a:lnTo>
                    <a:lnTo>
                      <a:pt x="227" y="106"/>
                    </a:lnTo>
                    <a:lnTo>
                      <a:pt x="286" y="106"/>
                    </a:lnTo>
                    <a:lnTo>
                      <a:pt x="345" y="101"/>
                    </a:lnTo>
                    <a:lnTo>
                      <a:pt x="405" y="62"/>
                    </a:lnTo>
                    <a:lnTo>
                      <a:pt x="459" y="31"/>
                    </a:lnTo>
                    <a:lnTo>
                      <a:pt x="518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141560" y="419112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1141200" y="419112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28680" y="385452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1228680" y="385452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322280" y="37702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1322280" y="37702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415880" y="3790800"/>
                <a:ext cx="302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1415880" y="3790800"/>
                <a:ext cx="302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503360" y="378468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1503000" y="378468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596960" y="37846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1596960" y="37846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690560" y="3778200"/>
                <a:ext cx="302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1690560" y="3778200"/>
                <a:ext cx="302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784520" y="371484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1784160" y="371484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1640" y="36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1871280" y="36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65240" y="3616200"/>
                <a:ext cx="288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965240" y="3616200"/>
                <a:ext cx="288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36680" y="3575160"/>
                <a:ext cx="2478240" cy="706320"/>
              </a:xfrm>
              <a:custGeom>
                <a:avLst/>
                <a:gdLst/>
                <a:ahLst/>
                <a:rect l="l" t="t" r="r" b="b"/>
                <a:pathLst>
                  <a:path w="1561" h="445">
                    <a:moveTo>
                      <a:pt x="0" y="445"/>
                    </a:moveTo>
                    <a:lnTo>
                      <a:pt x="173" y="423"/>
                    </a:lnTo>
                    <a:lnTo>
                      <a:pt x="346" y="260"/>
                    </a:lnTo>
                    <a:lnTo>
                      <a:pt x="519" y="185"/>
                    </a:lnTo>
                    <a:lnTo>
                      <a:pt x="692" y="128"/>
                    </a:lnTo>
                    <a:lnTo>
                      <a:pt x="865" y="101"/>
                    </a:lnTo>
                    <a:lnTo>
                      <a:pt x="1038" y="75"/>
                    </a:lnTo>
                    <a:lnTo>
                      <a:pt x="1211" y="53"/>
                    </a:lnTo>
                    <a:lnTo>
                      <a:pt x="1388" y="26"/>
                    </a:lnTo>
                    <a:lnTo>
                      <a:pt x="156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308240" y="4246560"/>
                <a:ext cx="58680" cy="698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18" y="44"/>
                    </a:moveTo>
                    <a:lnTo>
                      <a:pt x="37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582560" y="42116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857240" y="395280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31920" y="3833640"/>
                <a:ext cx="57240" cy="7020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406600" y="37432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681280" y="37004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955960" y="36590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230640" y="362412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511440" y="35812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86120" y="35402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732040" y="2222640"/>
                <a:ext cx="1278000" cy="28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732040" y="2222640"/>
                <a:ext cx="1278000" cy="280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732040" y="2222640"/>
                <a:ext cx="12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732040" y="2503440"/>
                <a:ext cx="12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4010040" y="2222640"/>
                <a:ext cx="144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732040" y="2222640"/>
                <a:ext cx="180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732040" y="2503440"/>
                <a:ext cx="12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2732040" y="2222640"/>
                <a:ext cx="180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732040" y="2222640"/>
                <a:ext cx="12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732040" y="2503440"/>
                <a:ext cx="12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4010040" y="2222640"/>
                <a:ext cx="144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2732040" y="2222640"/>
                <a:ext cx="180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98520" y="223668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091680" y="236232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803680" y="2300400"/>
                <a:ext cx="2030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890800" y="2286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2890440" y="2286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803680" y="2432160"/>
                <a:ext cx="2030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76400" y="23972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940040" y="438624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942920" y="456264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ud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5057640" y="1905120"/>
              <a:ext cx="3891240" cy="3238560"/>
              <a:chOff x="5057640" y="1905120"/>
              <a:chExt cx="3891240" cy="3238560"/>
            </a:xfrm>
          </p:grpSpPr>
          <p:sp>
            <p:nvSpPr>
              <p:cNvPr id="944" name=""/>
              <p:cNvSpPr/>
              <p:nvPr/>
            </p:nvSpPr>
            <p:spPr>
              <a:xfrm>
                <a:off x="5057640" y="1905120"/>
                <a:ext cx="3891240" cy="323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564160" y="2144880"/>
                <a:ext cx="3005280" cy="263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564160" y="2144880"/>
                <a:ext cx="3005280" cy="26319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56416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3712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31656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68988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7076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4372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81668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19612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56944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564160" y="477684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64160" y="451800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564160" y="425124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564160" y="399096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564160" y="372420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64160" y="346392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564160" y="319716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564160" y="293832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564160" y="267192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64160" y="241128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564160" y="214488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64160" y="214488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64160" y="477684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856944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556416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4160" y="477684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556416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556416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56416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56164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593712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3712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89284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31656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31656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31404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668988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8988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4524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07076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7076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06824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744372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44372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39800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781668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81668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81452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9612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9612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5184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56944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56944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56692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364960" y="499104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544240" y="4943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564160" y="47768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8535600" y="47768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501520" y="471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564160" y="45180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8535600" y="45180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19800" y="44578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64160" y="42512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8535600" y="42512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19800" y="4191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64160" y="399096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8535600" y="399096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419800" y="39304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564160" y="37242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8535600" y="37242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419800" y="3664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564160" y="3463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8535600" y="3463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19800" y="34052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564160" y="31971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8535600" y="31971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19800" y="31384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64160" y="29383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8535600" y="29383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419800" y="28782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564160" y="2671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8535600" y="2671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419800" y="2611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564160" y="24112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535600" y="24112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419800" y="23511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564160" y="214488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8535600" y="214488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01520" y="208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64160" y="214488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64160" y="477684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856944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56416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657760" y="2265480"/>
                <a:ext cx="846360" cy="1139760"/>
              </a:xfrm>
              <a:custGeom>
                <a:avLst/>
                <a:gdLst/>
                <a:ahLst/>
                <a:rect l="l" t="t" r="r" b="b"/>
                <a:pathLst>
                  <a:path w="533" h="718">
                    <a:moveTo>
                      <a:pt x="0" y="0"/>
                    </a:moveTo>
                    <a:lnTo>
                      <a:pt x="59" y="84"/>
                    </a:lnTo>
                    <a:lnTo>
                      <a:pt x="117" y="298"/>
                    </a:lnTo>
                    <a:lnTo>
                      <a:pt x="176" y="357"/>
                    </a:lnTo>
                    <a:lnTo>
                      <a:pt x="235" y="386"/>
                    </a:lnTo>
                    <a:lnTo>
                      <a:pt x="298" y="453"/>
                    </a:lnTo>
                    <a:lnTo>
                      <a:pt x="357" y="382"/>
                    </a:lnTo>
                    <a:lnTo>
                      <a:pt x="415" y="478"/>
                    </a:lnTo>
                    <a:lnTo>
                      <a:pt x="474" y="558"/>
                    </a:lnTo>
                    <a:lnTo>
                      <a:pt x="533" y="7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43720" y="2251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5643360" y="2251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37320" y="2384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5736960" y="2384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30920" y="2724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5830560" y="2724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924520" y="28177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5924160" y="28177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016680" y="2865600"/>
                <a:ext cx="270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016320" y="2865600"/>
                <a:ext cx="270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16760" y="29718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116400" y="29718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10360" y="2857680"/>
                <a:ext cx="27000" cy="26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210000" y="2857680"/>
                <a:ext cx="27000" cy="26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303960" y="3011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6303600" y="3011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397560" y="3138480"/>
                <a:ext cx="2556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6397200" y="3138480"/>
                <a:ext cx="2556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89720" y="3390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489360" y="3390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843520" y="2144880"/>
                <a:ext cx="2538360" cy="172800"/>
              </a:xfrm>
              <a:custGeom>
                <a:avLst/>
                <a:gdLst/>
                <a:ahLst/>
                <a:rect l="l" t="t" r="r" b="b"/>
                <a:pathLst>
                  <a:path w="1599" h="109">
                    <a:moveTo>
                      <a:pt x="0" y="0"/>
                    </a:moveTo>
                    <a:lnTo>
                      <a:pt x="181" y="0"/>
                    </a:lnTo>
                    <a:lnTo>
                      <a:pt x="357" y="0"/>
                    </a:lnTo>
                    <a:lnTo>
                      <a:pt x="533" y="0"/>
                    </a:lnTo>
                    <a:lnTo>
                      <a:pt x="710" y="9"/>
                    </a:lnTo>
                    <a:lnTo>
                      <a:pt x="890" y="13"/>
                    </a:lnTo>
                    <a:lnTo>
                      <a:pt x="1066" y="17"/>
                    </a:lnTo>
                    <a:lnTo>
                      <a:pt x="1243" y="34"/>
                    </a:lnTo>
                    <a:lnTo>
                      <a:pt x="1423" y="63"/>
                    </a:lnTo>
                    <a:lnTo>
                      <a:pt x="1599" y="10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816520" y="2111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103800" y="2111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383160" y="2111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664320" y="21114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943680" y="21258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229520" y="213192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510320" y="21384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90040" y="2165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075520" y="22114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56680" y="228456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216920" y="4343400"/>
                <a:ext cx="117936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16920" y="4343400"/>
                <a:ext cx="1179360" cy="2667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216920" y="434340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216920" y="461016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39628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721692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216920" y="461016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721692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216920" y="434340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16920" y="461016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839628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721692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90240" y="435780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96000" y="447660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283520" y="4417920"/>
                <a:ext cx="185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362720" y="4403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7362360" y="4403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283520" y="4543560"/>
                <a:ext cx="1857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350120" y="451008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382800" y="436392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84600" y="456408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du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FFD-9E58-4C18-B54B-82960B35EB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Vide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0" y="1839960"/>
            <a:ext cx="9150480" cy="3807000"/>
            <a:chOff x="0" y="1839960"/>
            <a:chExt cx="9150480" cy="3807000"/>
          </a:xfrm>
        </p:grpSpPr>
        <p:sp>
          <p:nvSpPr>
            <p:cNvPr id="1094" name=""/>
            <p:cNvSpPr/>
            <p:nvPr/>
          </p:nvSpPr>
          <p:spPr>
            <a:xfrm>
              <a:off x="177624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83160" y="5319720"/>
              <a:ext cx="166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6200000">
              <a:off x="40593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h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6200000">
              <a:off x="-69480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71680" y="1839960"/>
              <a:ext cx="3727440" cy="3321000"/>
              <a:chOff x="571680" y="1839960"/>
              <a:chExt cx="3727440" cy="3321000"/>
            </a:xfrm>
          </p:grpSpPr>
          <p:sp>
            <p:nvSpPr>
              <p:cNvPr id="1099" name=""/>
              <p:cNvSpPr/>
              <p:nvPr/>
            </p:nvSpPr>
            <p:spPr>
              <a:xfrm>
                <a:off x="571680" y="1839960"/>
                <a:ext cx="3727440" cy="332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052640" y="2087640"/>
                <a:ext cx="2879640" cy="269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052640" y="2087640"/>
                <a:ext cx="2879640" cy="2692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05264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320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101680" y="2087640"/>
                <a:ext cx="180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260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143160" y="2087640"/>
                <a:ext cx="180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67200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052640" y="478008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052640" y="38847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052640" y="2982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052640" y="2087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052640" y="208764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052640" y="478008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393228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105264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052640" y="478008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105264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105264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05264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057320" y="4807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157320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57320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52640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2101680" y="47527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101680" y="208764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5344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262260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62260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57400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3143160" y="47527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143160" y="208764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09492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367200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67200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62340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052640" y="478008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3917880" y="47800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052640" y="478008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052640" y="47800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3904920" y="47800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71920" y="4719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973800" y="467352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052640" y="4513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3917880" y="4513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052640" y="4513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052640" y="43527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3917880" y="43527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052640" y="435276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052640" y="4238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3917880" y="4238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052640" y="4238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052640" y="4152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917880" y="4152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052640" y="4152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052640" y="40784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3917880" y="40784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052640" y="40784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052640" y="4017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3917880" y="4017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052640" y="4017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052640" y="39718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3917880" y="39718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052640" y="397188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052640" y="39243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3917880" y="39243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052640" y="39243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52640" y="38847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3917880" y="3884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052640" y="38847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052640" y="3884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3904920" y="3884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71920" y="38242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973800" y="37782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052640" y="361152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3917880" y="36115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052640" y="361152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052640" y="34574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3917880" y="3457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052640" y="345744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52640" y="3343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3917880" y="3343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052640" y="3343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052640" y="32558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3917880" y="32558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052640" y="325584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052640" y="31827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917880" y="31827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52640" y="318276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52640" y="3122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3917880" y="3122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052640" y="3122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52640" y="30700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3917880" y="30700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52640" y="307008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52640" y="30225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917880" y="30225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052640" y="302256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52640" y="2982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3917880" y="2982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052640" y="2982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52640" y="29829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3904920" y="29829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71920" y="2922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73800" y="28764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052640" y="27147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3917880" y="2714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052640" y="27147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052640" y="255420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3917880" y="25542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052640" y="255420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52640" y="244152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917880" y="24415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52640" y="244152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52640" y="235440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3917880" y="23544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052640" y="235440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052640" y="22874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3917880" y="2287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052640" y="228744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052640" y="2227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3917880" y="2227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052640" y="2227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052640" y="2173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3917880" y="2173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052640" y="2173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052640" y="21272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3917880" y="2127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052640" y="21272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052640" y="2087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3917880" y="2087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052640" y="2087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52640" y="20876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3904920" y="20876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1920" y="202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973800" y="197964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052640" y="208764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052640" y="478008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393228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105264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46240" y="2622600"/>
                <a:ext cx="822240" cy="600120"/>
              </a:xfrm>
              <a:custGeom>
                <a:avLst/>
                <a:gdLst/>
                <a:ahLst/>
                <a:rect l="l" t="t" r="r" b="b"/>
                <a:pathLst>
                  <a:path w="518" h="378">
                    <a:moveTo>
                      <a:pt x="0" y="378"/>
                    </a:moveTo>
                    <a:lnTo>
                      <a:pt x="55" y="256"/>
                    </a:lnTo>
                    <a:lnTo>
                      <a:pt x="114" y="311"/>
                    </a:lnTo>
                    <a:lnTo>
                      <a:pt x="172" y="168"/>
                    </a:lnTo>
                    <a:lnTo>
                      <a:pt x="231" y="160"/>
                    </a:lnTo>
                    <a:lnTo>
                      <a:pt x="286" y="147"/>
                    </a:lnTo>
                    <a:lnTo>
                      <a:pt x="345" y="33"/>
                    </a:lnTo>
                    <a:lnTo>
                      <a:pt x="404" y="63"/>
                    </a:lnTo>
                    <a:lnTo>
                      <a:pt x="463" y="42"/>
                    </a:lnTo>
                    <a:lnTo>
                      <a:pt x="518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131840" y="320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1131480" y="320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19320" y="3016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1218960" y="3016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312920" y="310356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312560" y="310356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406520" y="28764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1406160" y="28764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500120" y="28623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1499760" y="28623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587600" y="284148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1587600" y="284148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681200" y="266220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1681200" y="266220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773360" y="2708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1773000" y="2708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866960" y="26748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1866600" y="26748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954080" y="2608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1953720" y="2608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327320" y="2782800"/>
                <a:ext cx="2477880" cy="273240"/>
              </a:xfrm>
              <a:custGeom>
                <a:avLst/>
                <a:gdLst/>
                <a:ahLst/>
                <a:rect l="l" t="t" r="r" b="b"/>
                <a:pathLst>
                  <a:path w="1561" h="172">
                    <a:moveTo>
                      <a:pt x="0" y="172"/>
                    </a:moveTo>
                    <a:lnTo>
                      <a:pt x="172" y="160"/>
                    </a:lnTo>
                    <a:lnTo>
                      <a:pt x="349" y="105"/>
                    </a:lnTo>
                    <a:lnTo>
                      <a:pt x="521" y="109"/>
                    </a:lnTo>
                    <a:lnTo>
                      <a:pt x="694" y="101"/>
                    </a:lnTo>
                    <a:lnTo>
                      <a:pt x="866" y="54"/>
                    </a:lnTo>
                    <a:lnTo>
                      <a:pt x="1043" y="25"/>
                    </a:lnTo>
                    <a:lnTo>
                      <a:pt x="1216" y="21"/>
                    </a:lnTo>
                    <a:lnTo>
                      <a:pt x="1388" y="0"/>
                    </a:lnTo>
                    <a:lnTo>
                      <a:pt x="1561" y="2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300320" y="302256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573200" y="300204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54360" y="2916360"/>
                <a:ext cx="5364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128680" y="2922480"/>
                <a:ext cx="52560" cy="669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01920" y="29098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76600" y="283536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955960" y="27892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30640" y="27828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503520" y="27496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778200" y="279576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695680" y="2187720"/>
                <a:ext cx="1182600" cy="26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695680" y="2187720"/>
                <a:ext cx="1182600" cy="2664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695680" y="2187720"/>
                <a:ext cx="118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695680" y="2454120"/>
                <a:ext cx="118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38782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26956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695680" y="2454120"/>
                <a:ext cx="118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26956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695680" y="2187720"/>
                <a:ext cx="118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695680" y="2454120"/>
                <a:ext cx="118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38782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26956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77640" y="220032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8080" y="232092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762280" y="2260440"/>
                <a:ext cx="18720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843280" y="2247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2842920" y="2247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762280" y="2387520"/>
                <a:ext cx="1872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828880" y="2354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658880" y="439884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667520" y="457344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5157720" y="1860480"/>
              <a:ext cx="3992760" cy="3289320"/>
              <a:chOff x="5157720" y="1860480"/>
              <a:chExt cx="3992760" cy="3289320"/>
            </a:xfrm>
          </p:grpSpPr>
          <p:sp>
            <p:nvSpPr>
              <p:cNvPr id="1294" name=""/>
              <p:cNvSpPr/>
              <p:nvPr/>
            </p:nvSpPr>
            <p:spPr>
              <a:xfrm>
                <a:off x="5157720" y="1860480"/>
                <a:ext cx="3992760" cy="328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678640" y="2106720"/>
                <a:ext cx="3078000" cy="266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678640" y="2106720"/>
                <a:ext cx="3078000" cy="26683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67864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23736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797520" y="2106720"/>
                <a:ext cx="180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35804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916760" y="2106720"/>
                <a:ext cx="180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47728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678640" y="477504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678640" y="450864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678640" y="424188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678640" y="397656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678640" y="371016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678640" y="344340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678640" y="317016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678640" y="290520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678640" y="263844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678640" y="237168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678640" y="210672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678640" y="2106720"/>
                <a:ext cx="30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678640" y="4775040"/>
                <a:ext cx="30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8756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678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678640" y="4775040"/>
                <a:ext cx="30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678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67864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67864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679360" y="4802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623736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23736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17832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6797520" y="47397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797520" y="210672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3704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735804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35804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29756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916760" y="47397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916760" y="210672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85772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847728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847728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41824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78640" y="477504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22800" y="47750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18880" y="4713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78640" y="45086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8722800" y="45086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529600" y="4446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678640" y="424188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8722800" y="424188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529600" y="41814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678640" y="397656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8722800" y="39765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529600" y="39146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678640" y="371016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8722800" y="371016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529600" y="36482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78640" y="344340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8722800" y="34434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529600" y="33829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678640" y="317016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8722800" y="31701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529600" y="31100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678640" y="290520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8722800" y="29052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529600" y="284328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678640" y="26384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8722800" y="26384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529600" y="25765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678640" y="237168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8722800" y="23716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529600" y="231156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678640" y="210672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8722800" y="21067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618880" y="2044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678640" y="2106720"/>
                <a:ext cx="30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678640" y="4775040"/>
                <a:ext cx="30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8756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5678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778360" y="2106720"/>
                <a:ext cx="879480" cy="498240"/>
              </a:xfrm>
              <a:custGeom>
                <a:avLst/>
                <a:gdLst/>
                <a:ahLst/>
                <a:rect l="l" t="t" r="r" b="b"/>
                <a:pathLst>
                  <a:path w="554" h="314">
                    <a:moveTo>
                      <a:pt x="0" y="0"/>
                    </a:moveTo>
                    <a:lnTo>
                      <a:pt x="58" y="176"/>
                    </a:lnTo>
                    <a:lnTo>
                      <a:pt x="121" y="0"/>
                    </a:lnTo>
                    <a:lnTo>
                      <a:pt x="184" y="47"/>
                    </a:lnTo>
                    <a:lnTo>
                      <a:pt x="247" y="249"/>
                    </a:lnTo>
                    <a:lnTo>
                      <a:pt x="306" y="81"/>
                    </a:lnTo>
                    <a:lnTo>
                      <a:pt x="369" y="314"/>
                    </a:lnTo>
                    <a:lnTo>
                      <a:pt x="432" y="275"/>
                    </a:lnTo>
                    <a:lnTo>
                      <a:pt x="495" y="228"/>
                    </a:lnTo>
                    <a:lnTo>
                      <a:pt x="554" y="28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76432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576396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57920" y="237168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5857560" y="237168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5800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595764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058080" y="2166840"/>
                <a:ext cx="266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6058080" y="2166840"/>
                <a:ext cx="266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157800" y="2489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>
                <a:off x="6157440" y="2489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251400" y="222264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>
                <a:off x="6251040" y="222264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51480" y="25909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351120" y="25909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451560" y="2529000"/>
                <a:ext cx="2556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451200" y="2529000"/>
                <a:ext cx="2556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551640" y="245412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551640" y="245412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643800" y="2549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6643440" y="2549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70600" y="2106720"/>
                <a:ext cx="2652840" cy="1454040"/>
              </a:xfrm>
              <a:custGeom>
                <a:avLst/>
                <a:gdLst/>
                <a:ahLst/>
                <a:rect l="l" t="t" r="r" b="b"/>
                <a:pathLst>
                  <a:path w="1671" h="916">
                    <a:moveTo>
                      <a:pt x="0" y="0"/>
                    </a:moveTo>
                    <a:lnTo>
                      <a:pt x="185" y="0"/>
                    </a:lnTo>
                    <a:lnTo>
                      <a:pt x="374" y="176"/>
                    </a:lnTo>
                    <a:lnTo>
                      <a:pt x="559" y="529"/>
                    </a:lnTo>
                    <a:lnTo>
                      <a:pt x="744" y="180"/>
                    </a:lnTo>
                    <a:lnTo>
                      <a:pt x="928" y="339"/>
                    </a:lnTo>
                    <a:lnTo>
                      <a:pt x="1113" y="627"/>
                    </a:lnTo>
                    <a:lnTo>
                      <a:pt x="1302" y="916"/>
                    </a:lnTo>
                    <a:lnTo>
                      <a:pt x="1487" y="782"/>
                    </a:lnTo>
                    <a:lnTo>
                      <a:pt x="1671" y="79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943600" y="207180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37360" y="207180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537240" y="235260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831000" y="291132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4760" y="2359080"/>
                <a:ext cx="52200" cy="680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7" y="43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416720" y="261144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10480" y="306864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010360" y="352584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304120" y="331488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597880" y="3335400"/>
                <a:ext cx="52560" cy="680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43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424640" y="2195640"/>
                <a:ext cx="117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24640" y="2195640"/>
                <a:ext cx="1179720" cy="2728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424640" y="2195640"/>
                <a:ext cx="117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424640" y="2468520"/>
                <a:ext cx="117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604360" y="2195640"/>
                <a:ext cx="144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7424640" y="2195640"/>
                <a:ext cx="180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424640" y="2468520"/>
                <a:ext cx="117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7424640" y="2195640"/>
                <a:ext cx="180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424640" y="2195640"/>
                <a:ext cx="117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424640" y="2468520"/>
                <a:ext cx="117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8604360" y="2195640"/>
                <a:ext cx="144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7424640" y="2195640"/>
                <a:ext cx="180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774560" y="220824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6720" y="233208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491240" y="2270160"/>
                <a:ext cx="185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570800" y="2255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7570440" y="2255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491240" y="2400480"/>
                <a:ext cx="1857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558200" y="2365200"/>
                <a:ext cx="52200" cy="684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43"/>
                    </a:moveTo>
                    <a:lnTo>
                      <a:pt x="33" y="22"/>
                    </a:lnTo>
                    <a:lnTo>
                      <a:pt x="16" y="0"/>
                    </a:lnTo>
                    <a:lnTo>
                      <a:pt x="0" y="22"/>
                    </a:lnTo>
                    <a:lnTo>
                      <a:pt x="16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46080" y="437832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9400" y="45705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97F-70E8-4BA5-B61A-ECA16A8CB6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Vide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0" y="1811160"/>
            <a:ext cx="9150480" cy="3835800"/>
            <a:chOff x="0" y="1811160"/>
            <a:chExt cx="9150480" cy="3835800"/>
          </a:xfrm>
        </p:grpSpPr>
        <p:sp>
          <p:nvSpPr>
            <p:cNvPr id="1430" name=""/>
            <p:cNvSpPr/>
            <p:nvPr/>
          </p:nvSpPr>
          <p:spPr>
            <a:xfrm>
              <a:off x="177624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83160" y="5319720"/>
              <a:ext cx="166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16200000">
              <a:off x="40593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h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16200000">
              <a:off x="-69480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4" name=""/>
            <p:cNvGrpSpPr/>
            <p:nvPr/>
          </p:nvGrpSpPr>
          <p:grpSpPr>
            <a:xfrm>
              <a:off x="480960" y="1838160"/>
              <a:ext cx="3848040" cy="3435480"/>
              <a:chOff x="480960" y="1838160"/>
              <a:chExt cx="3848040" cy="3435480"/>
            </a:xfrm>
          </p:grpSpPr>
          <p:sp>
            <p:nvSpPr>
              <p:cNvPr id="1435" name=""/>
              <p:cNvSpPr/>
              <p:nvPr/>
            </p:nvSpPr>
            <p:spPr>
              <a:xfrm>
                <a:off x="480960" y="1838160"/>
                <a:ext cx="3848040" cy="343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982800" y="2092320"/>
                <a:ext cx="2965320" cy="27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82800" y="2092320"/>
                <a:ext cx="2965320" cy="27907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82800" y="2092320"/>
                <a:ext cx="144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706400" y="2092320"/>
                <a:ext cx="180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430360" y="2092320"/>
                <a:ext cx="180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152880" y="2092320"/>
                <a:ext cx="144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76840" y="2092320"/>
                <a:ext cx="144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82800" y="48830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982800" y="395460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982800" y="30211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982800" y="20923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982800" y="2092320"/>
                <a:ext cx="2965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982800" y="4883040"/>
                <a:ext cx="2965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V="1">
                <a:off x="394812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98280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982800" y="4883040"/>
                <a:ext cx="2965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98280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982800" y="485424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982800" y="20923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78840" y="4910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1706400" y="485424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706400" y="20923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63800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30360" y="485424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430360" y="20923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6196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3152880" y="485424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52880" y="20923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08592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3876840" y="485424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76840" y="20923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80952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982800" y="48830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3933720" y="48830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982800" y="48830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982800" y="4883040"/>
                <a:ext cx="28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3919320" y="4883040"/>
                <a:ext cx="28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77600" y="482112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901800" y="477216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982800" y="46004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3933720" y="4600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982800" y="46004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982800" y="44355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933720" y="44355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82800" y="44355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82800" y="43257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3933720" y="43257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82800" y="432576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982800" y="42292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3933720" y="42292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982800" y="422928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982800" y="41608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3933720" y="41608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982800" y="416088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982800" y="40989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3933720" y="4098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982800" y="40989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982800" y="40435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3933720" y="40435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982800" y="40435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982800" y="3995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3933720" y="39956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982800" y="39956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982800" y="395460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3933720" y="39546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82800" y="395460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82800" y="395460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3919320" y="395460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77600" y="389268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01800" y="38448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982800" y="36734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3933720" y="3673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982800" y="36734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982800" y="35082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3933720" y="35082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82800" y="350820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82800" y="3390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3933720" y="33908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982800" y="33908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82800" y="33019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3933720" y="33019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82800" y="330192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82800" y="32259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3933720" y="3225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82800" y="32259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82800" y="31640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3933720" y="31640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82800" y="31640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82800" y="31100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3933720" y="31100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982800" y="31100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982800" y="30686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3933720" y="3068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82800" y="30686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982800" y="3021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3933720" y="30211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982800" y="30211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982800" y="30211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3919320" y="30211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77600" y="295920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901800" y="29098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82800" y="2744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>
                <a:off x="3933720" y="27446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982800" y="27446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982800" y="25797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3933720" y="2579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982800" y="25797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982800" y="2463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3933720" y="24638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982800" y="24638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982800" y="23749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3933720" y="23749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982800" y="23749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982800" y="22986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3933720" y="22986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982800" y="229860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982800" y="22366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3933720" y="22366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982800" y="223668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982800" y="21812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933720" y="2181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82800" y="21812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982800" y="21337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3933720" y="21337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982800" y="21337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982800" y="20923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3933720" y="2092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982800" y="20923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982800" y="20923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3919320" y="20923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77600" y="203040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901800" y="19828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982800" y="2092320"/>
                <a:ext cx="2965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982800" y="4883040"/>
                <a:ext cx="2965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394812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98280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076400" y="2779560"/>
                <a:ext cx="858600" cy="687600"/>
              </a:xfrm>
              <a:custGeom>
                <a:avLst/>
                <a:gdLst/>
                <a:ahLst/>
                <a:rect l="l" t="t" r="r" b="b"/>
                <a:pathLst>
                  <a:path w="541" h="433">
                    <a:moveTo>
                      <a:pt x="0" y="433"/>
                    </a:moveTo>
                    <a:lnTo>
                      <a:pt x="63" y="325"/>
                    </a:lnTo>
                    <a:lnTo>
                      <a:pt x="121" y="108"/>
                    </a:lnTo>
                    <a:lnTo>
                      <a:pt x="180" y="251"/>
                    </a:lnTo>
                    <a:lnTo>
                      <a:pt x="239" y="273"/>
                    </a:lnTo>
                    <a:lnTo>
                      <a:pt x="302" y="238"/>
                    </a:lnTo>
                    <a:lnTo>
                      <a:pt x="361" y="281"/>
                    </a:lnTo>
                    <a:lnTo>
                      <a:pt x="419" y="238"/>
                    </a:lnTo>
                    <a:lnTo>
                      <a:pt x="482" y="126"/>
                    </a:lnTo>
                    <a:lnTo>
                      <a:pt x="54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062000" y="34527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1061640" y="34527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162080" y="32814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1161720" y="32814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54240" y="29383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1253880" y="29383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347840" y="316404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347480" y="316404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41440" y="3198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441080" y="3198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54152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154116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635120" y="3213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1634760" y="3213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72728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172692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27360" y="2965320"/>
                <a:ext cx="2988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1827000" y="2965320"/>
                <a:ext cx="2988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920960" y="27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1920600" y="27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268280" y="2897280"/>
                <a:ext cx="2573640" cy="239760"/>
              </a:xfrm>
              <a:custGeom>
                <a:avLst/>
                <a:gdLst/>
                <a:ahLst/>
                <a:rect l="l" t="t" r="r" b="b"/>
                <a:pathLst>
                  <a:path w="1621" h="151">
                    <a:moveTo>
                      <a:pt x="0" y="151"/>
                    </a:moveTo>
                    <a:lnTo>
                      <a:pt x="181" y="142"/>
                    </a:lnTo>
                    <a:lnTo>
                      <a:pt x="361" y="116"/>
                    </a:lnTo>
                    <a:lnTo>
                      <a:pt x="537" y="116"/>
                    </a:lnTo>
                    <a:lnTo>
                      <a:pt x="718" y="60"/>
                    </a:lnTo>
                    <a:lnTo>
                      <a:pt x="899" y="73"/>
                    </a:lnTo>
                    <a:lnTo>
                      <a:pt x="1079" y="43"/>
                    </a:lnTo>
                    <a:lnTo>
                      <a:pt x="1260" y="43"/>
                    </a:lnTo>
                    <a:lnTo>
                      <a:pt x="1440" y="39"/>
                    </a:lnTo>
                    <a:lnTo>
                      <a:pt x="162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239840" y="310212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527120" y="3089160"/>
                <a:ext cx="57240" cy="684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812960" y="3048120"/>
                <a:ext cx="58680" cy="680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8" y="43"/>
                    </a:moveTo>
                    <a:lnTo>
                      <a:pt x="37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092320" y="3048120"/>
                <a:ext cx="58680" cy="680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8" y="43"/>
                    </a:moveTo>
                    <a:lnTo>
                      <a:pt x="37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379600" y="295920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665440" y="297972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9" y="43"/>
                    </a:moveTo>
                    <a:lnTo>
                      <a:pt x="37" y="21"/>
                    </a:lnTo>
                    <a:lnTo>
                      <a:pt x="19" y="0"/>
                    </a:lnTo>
                    <a:lnTo>
                      <a:pt x="0" y="21"/>
                    </a:lnTo>
                    <a:lnTo>
                      <a:pt x="19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952720" y="293040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240000" y="293040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525840" y="292428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13120" y="286236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651040" y="2222640"/>
                <a:ext cx="126864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651040" y="2222640"/>
                <a:ext cx="1268640" cy="2761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651040" y="222264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651040" y="249876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3919680" y="2222280"/>
                <a:ext cx="14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2651040" y="2222280"/>
                <a:ext cx="180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651040" y="249876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2651040" y="2222280"/>
                <a:ext cx="180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651040" y="222264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51040" y="249876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3919680" y="2222280"/>
                <a:ext cx="14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2651040" y="2222280"/>
                <a:ext cx="180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030120" y="223668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027600" y="236052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724120" y="2298600"/>
                <a:ext cx="2001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809800" y="228456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2809800" y="228456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724120" y="2428920"/>
                <a:ext cx="2001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795760" y="2395440"/>
                <a:ext cx="56880" cy="684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777320" y="447048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776240" y="46353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5241960" y="1811160"/>
              <a:ext cx="3908520" cy="3357720"/>
              <a:chOff x="5241960" y="1811160"/>
              <a:chExt cx="3908520" cy="3357720"/>
            </a:xfrm>
          </p:grpSpPr>
          <p:sp>
            <p:nvSpPr>
              <p:cNvPr id="1626" name=""/>
              <p:cNvSpPr/>
              <p:nvPr/>
            </p:nvSpPr>
            <p:spPr>
              <a:xfrm>
                <a:off x="5241960" y="1811160"/>
                <a:ext cx="3908520" cy="335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751360" y="2058840"/>
                <a:ext cx="3013200" cy="273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751360" y="2058840"/>
                <a:ext cx="3013200" cy="27306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75136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1820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48972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85476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21980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58664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5816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32320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68824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751360" y="478944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751360" y="451476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751360" y="424512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751360" y="397044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751360" y="370044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751360" y="342432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751360" y="314964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751360" y="287964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751360" y="260496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751360" y="233532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751360" y="205884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751360" y="20588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751360" y="47894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8764560" y="2058480"/>
                <a:ext cx="144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751360" y="2058480"/>
                <a:ext cx="180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751360" y="47894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751360" y="2058480"/>
                <a:ext cx="180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75136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75136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746680" y="48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611820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11820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0519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648972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48972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42492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85476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85476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79032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721980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21980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1553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758664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58664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52040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795816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5816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8933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832320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32320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2587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868824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68824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62380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751360" y="478944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8737200" y="478944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684760" y="4727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751360" y="451476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8737200" y="451476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98720" y="4452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751360" y="42451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8737200" y="42451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98720" y="41832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1360" y="39704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8737200" y="39704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98720" y="3906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751360" y="37004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8737200" y="37004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598720" y="36385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751360" y="34243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8737200" y="34243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598720" y="33624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751360" y="31496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8737200" y="31496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598720" y="3087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751360" y="287964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8737200" y="287964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598720" y="2817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51360" y="260496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8737200" y="260496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98720" y="25416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1360" y="23353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8737200" y="23353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598720" y="22734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51360" y="205884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8737200" y="205884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684760" y="1996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751360" y="20588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751360" y="47894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8764560" y="2058480"/>
                <a:ext cx="144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5751360" y="2058480"/>
                <a:ext cx="180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848200" y="2058840"/>
                <a:ext cx="868680" cy="235080"/>
              </a:xfrm>
              <a:custGeom>
                <a:avLst/>
                <a:gdLst/>
                <a:ahLst/>
                <a:rect l="l" t="t" r="r" b="b"/>
                <a:pathLst>
                  <a:path w="547" h="148">
                    <a:moveTo>
                      <a:pt x="0" y="0"/>
                    </a:moveTo>
                    <a:lnTo>
                      <a:pt x="61" y="0"/>
                    </a:lnTo>
                    <a:lnTo>
                      <a:pt x="122" y="48"/>
                    </a:lnTo>
                    <a:lnTo>
                      <a:pt x="183" y="0"/>
                    </a:lnTo>
                    <a:lnTo>
                      <a:pt x="243" y="0"/>
                    </a:lnTo>
                    <a:lnTo>
                      <a:pt x="304" y="0"/>
                    </a:lnTo>
                    <a:lnTo>
                      <a:pt x="365" y="0"/>
                    </a:lnTo>
                    <a:lnTo>
                      <a:pt x="426" y="26"/>
                    </a:lnTo>
                    <a:lnTo>
                      <a:pt x="487" y="87"/>
                    </a:lnTo>
                    <a:lnTo>
                      <a:pt x="547" y="14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83416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583380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93100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593064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027840" y="2120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027480" y="2120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2468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12432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22152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622116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31656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631656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41340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641340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510240" y="20876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6509880" y="20876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07080" y="21844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606720" y="21844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03920" y="227952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6703560" y="227952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41880" y="2058840"/>
                <a:ext cx="2613240" cy="662040"/>
              </a:xfrm>
              <a:custGeom>
                <a:avLst/>
                <a:gdLst/>
                <a:ahLst/>
                <a:rect l="l" t="t" r="r" b="b"/>
                <a:pathLst>
                  <a:path w="1646" h="417">
                    <a:moveTo>
                      <a:pt x="0" y="0"/>
                    </a:moveTo>
                    <a:lnTo>
                      <a:pt x="182" y="74"/>
                    </a:lnTo>
                    <a:lnTo>
                      <a:pt x="365" y="48"/>
                    </a:lnTo>
                    <a:lnTo>
                      <a:pt x="547" y="0"/>
                    </a:lnTo>
                    <a:lnTo>
                      <a:pt x="729" y="170"/>
                    </a:lnTo>
                    <a:lnTo>
                      <a:pt x="912" y="44"/>
                    </a:lnTo>
                    <a:lnTo>
                      <a:pt x="1098" y="231"/>
                    </a:lnTo>
                    <a:lnTo>
                      <a:pt x="1281" y="196"/>
                    </a:lnTo>
                    <a:lnTo>
                      <a:pt x="1463" y="391"/>
                    </a:lnTo>
                    <a:lnTo>
                      <a:pt x="1646" y="417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013440" y="2025720"/>
                <a:ext cx="55440" cy="6804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8" y="43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303960" y="2141640"/>
                <a:ext cx="5544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7" y="44"/>
                    </a:moveTo>
                    <a:lnTo>
                      <a:pt x="35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593040" y="2100240"/>
                <a:ext cx="5544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8" y="44"/>
                    </a:moveTo>
                    <a:lnTo>
                      <a:pt x="35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883560" y="2025720"/>
                <a:ext cx="5364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172280" y="2293920"/>
                <a:ext cx="5544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7" y="43"/>
                    </a:moveTo>
                    <a:lnTo>
                      <a:pt x="35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461360" y="2093760"/>
                <a:ext cx="5544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8" y="44"/>
                    </a:moveTo>
                    <a:lnTo>
                      <a:pt x="35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758000" y="2390760"/>
                <a:ext cx="5580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7" y="43"/>
                    </a:moveTo>
                    <a:lnTo>
                      <a:pt x="35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048520" y="233532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7" y="44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337600" y="2646360"/>
                <a:ext cx="5544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7" y="43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626320" y="2687760"/>
                <a:ext cx="55800" cy="6804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8" y="43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65960" y="4314960"/>
                <a:ext cx="121932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365960" y="4314960"/>
                <a:ext cx="1219320" cy="2746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365960" y="431496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365960" y="458964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8585280" y="4314600"/>
                <a:ext cx="144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7365960" y="431460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365960" y="458964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7365960" y="431460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365960" y="431496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365960" y="458964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585280" y="4314600"/>
                <a:ext cx="144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7365960" y="431460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729920" y="432756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727040" y="445284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434360" y="4390920"/>
                <a:ext cx="1936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516800" y="4376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7516440" y="4376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434360" y="4521240"/>
                <a:ext cx="19368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502400" y="448632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8" y="44"/>
                    </a:moveTo>
                    <a:lnTo>
                      <a:pt x="35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556320" y="437688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570720" y="45561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0E0-646A-4EF2-8839-0C1600B11C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Control Frame Subtypes for Smart Antenna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60240" y="181620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to 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requesting the STA to transmit a preamble (null frame) for channel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d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 to 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ponse to the above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343440" y="5207040"/>
            <a:ext cx="7263720" cy="774720"/>
            <a:chOff x="343440" y="5207040"/>
            <a:chExt cx="7263720" cy="774720"/>
          </a:xfrm>
        </p:grpSpPr>
        <p:sp>
          <p:nvSpPr>
            <p:cNvPr id="1775" name=""/>
            <p:cNvSpPr/>
            <p:nvPr/>
          </p:nvSpPr>
          <p:spPr>
            <a:xfrm>
              <a:off x="2552760" y="5207040"/>
              <a:ext cx="505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505320" y="520704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483080" y="520704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86400" y="521964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53080" y="520704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579840" y="54212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81880" y="5396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796000" y="5408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824880" y="5408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3440" y="525456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Fiel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51040" y="5307120"/>
              <a:ext cx="75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490-94CF-4967-84E3-405A89AF4E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move Polling Dependenc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standards re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"During each CFP, the PC shall issue polls to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bset of the STAs on the polling list in order by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cending AID value"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14E-E528-4760-B4BE-621395B358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71136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ly in a large enterprise environment, smart antennas can help boast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office replacement for "wired" Eth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ervice networks such as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the existing MAC are minor to enable antenna technologies in IEEE802.11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A is not for all W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ntennas cost additional money for the AP that may not be required in homes and small business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BD7-40F1-49BB-821D-FC67A94FF6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1 will be an important method for providing high rate low mobility 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existing capacity may seem high, particularly for IEEE802.11a, the enterprise environment may experience capacity lim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nna technologies offer a means to boast IEEE802.11 capacity without changing the existing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866-257A-4943-B627-3FB8B11C9A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at is a SMART Antenna?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24160" y="2311560"/>
            <a:ext cx="1559160" cy="2571840"/>
            <a:chOff x="2324160" y="2311560"/>
            <a:chExt cx="1559160" cy="2571840"/>
          </a:xfrm>
        </p:grpSpPr>
        <p:grpSp>
          <p:nvGrpSpPr>
            <p:cNvPr id="51" name=""/>
            <p:cNvGrpSpPr/>
            <p:nvPr/>
          </p:nvGrpSpPr>
          <p:grpSpPr>
            <a:xfrm>
              <a:off x="2324160" y="2854440"/>
              <a:ext cx="583920" cy="1259640"/>
              <a:chOff x="2324160" y="2854440"/>
              <a:chExt cx="583920" cy="1259640"/>
            </a:xfrm>
          </p:grpSpPr>
          <p:sp>
            <p:nvSpPr>
              <p:cNvPr id="52" name=""/>
              <p:cNvSpPr/>
              <p:nvPr/>
            </p:nvSpPr>
            <p:spPr>
              <a:xfrm>
                <a:off x="2324160" y="3321000"/>
                <a:ext cx="533160" cy="3812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2666880" y="2854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24040" y="294336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24040" y="300996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624040" y="288612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68160" y="3776760"/>
                <a:ext cx="43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486160" y="2311560"/>
              <a:ext cx="875880" cy="913680"/>
              <a:chOff x="2486160" y="2311560"/>
              <a:chExt cx="875880" cy="913680"/>
            </a:xfrm>
          </p:grpSpPr>
          <p:sp>
            <p:nvSpPr>
              <p:cNvPr id="59" name=""/>
              <p:cNvSpPr/>
              <p:nvPr/>
            </p:nvSpPr>
            <p:spPr>
              <a:xfrm>
                <a:off x="2486160" y="248328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01000" y="239724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14760" y="231156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354040" y="3918240"/>
              <a:ext cx="1058760" cy="965160"/>
              <a:chOff x="2354040" y="3918240"/>
              <a:chExt cx="1058760" cy="965160"/>
            </a:xfrm>
          </p:grpSpPr>
          <p:sp>
            <p:nvSpPr>
              <p:cNvPr id="63" name=""/>
              <p:cNvSpPr/>
              <p:nvPr/>
            </p:nvSpPr>
            <p:spPr>
              <a:xfrm rot="4764000">
                <a:off x="2454840" y="3933000"/>
                <a:ext cx="64656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4764000">
                <a:off x="2560320" y="4029120"/>
                <a:ext cx="64584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4764000">
                <a:off x="2665080" y="412560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639880" y="3225600"/>
              <a:ext cx="1243440" cy="1045440"/>
              <a:chOff x="2639880" y="3225600"/>
              <a:chExt cx="1243440" cy="1045440"/>
            </a:xfrm>
          </p:grpSpPr>
          <p:sp>
            <p:nvSpPr>
              <p:cNvPr id="67" name=""/>
              <p:cNvSpPr/>
              <p:nvPr/>
            </p:nvSpPr>
            <p:spPr>
              <a:xfrm rot="3420600">
                <a:off x="2803680" y="332784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3420600">
                <a:off x="2937960" y="337680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3420600">
                <a:off x="3071880" y="342612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898800" y="1719720"/>
            <a:ext cx="2092320" cy="4142520"/>
            <a:chOff x="3898800" y="1719720"/>
            <a:chExt cx="2092320" cy="41425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 flipH="1">
              <a:off x="4103280" y="2254320"/>
              <a:ext cx="6922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3898800" y="4313160"/>
              <a:ext cx="557280" cy="82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4795920" y="1719720"/>
              <a:ext cx="1195200" cy="1033920"/>
              <a:chOff x="4795920" y="1719720"/>
              <a:chExt cx="1195200" cy="1033920"/>
            </a:xfrm>
          </p:grpSpPr>
          <p:sp>
            <p:nvSpPr>
              <p:cNvPr id="74" name=""/>
              <p:cNvSpPr/>
              <p:nvPr/>
            </p:nvSpPr>
            <p:spPr>
              <a:xfrm rot="3925200">
                <a:off x="4943880" y="179712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3925200">
                <a:off x="5069880" y="186516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925200">
                <a:off x="5194800" y="193356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420800" y="3806640"/>
              <a:ext cx="1243440" cy="1045440"/>
              <a:chOff x="4420800" y="3806640"/>
              <a:chExt cx="1243440" cy="1045440"/>
            </a:xfrm>
          </p:grpSpPr>
          <p:sp>
            <p:nvSpPr>
              <p:cNvPr id="78" name=""/>
              <p:cNvSpPr/>
              <p:nvPr/>
            </p:nvSpPr>
            <p:spPr>
              <a:xfrm rot="3420600">
                <a:off x="4584600" y="390888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420600">
                <a:off x="4718880" y="395784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3420600">
                <a:off x="4852800" y="400716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955680" y="4858560"/>
              <a:ext cx="1194480" cy="1003680"/>
              <a:chOff x="3955680" y="4858560"/>
              <a:chExt cx="1194480" cy="1003680"/>
            </a:xfrm>
          </p:grpSpPr>
          <p:sp>
            <p:nvSpPr>
              <p:cNvPr id="82" name=""/>
              <p:cNvSpPr/>
              <p:nvPr/>
            </p:nvSpPr>
            <p:spPr>
              <a:xfrm rot="1622400">
                <a:off x="4088880" y="5013720"/>
                <a:ext cx="64656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2400">
                <a:off x="4230000" y="4989240"/>
                <a:ext cx="64584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2400">
                <a:off x="4369680" y="496476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176880" y="2317680"/>
            <a:ext cx="782640" cy="2974320"/>
            <a:chOff x="6176880" y="2317680"/>
            <a:chExt cx="782640" cy="297432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6351480" y="2317680"/>
              <a:ext cx="59400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6207120" y="4591080"/>
              <a:ext cx="5396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76880" y="49546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96120" y="28306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92280" y="5607000"/>
            <a:ext cx="80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otis Sans Serif for Nokia"/>
              </a:rPr>
              <a:t>Antenna that adjusts its beam pattern based upo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otis Sans Serif for Nokia"/>
              </a:rPr>
              <a:t>channel and interference between AP and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D60-94EF-4BF5-AA5C-F8A60DB8C9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0240" y="393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pproach to Model Performance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4280" y="138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channel using a channel sounder to 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power profile as a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-to-interference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PHY to obtain PER information as a function of channel measurements and the number of packets delivered as a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ER, number of packets delivered by the PHY as a function of time and models of real-time traffic to examine delay and throughput using a PHY with and without smart 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 is used for delivery of audio and video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EF6-746B-4D92-BFC4-6A17B9A5B0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HY Simulation Parameter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11280" y="1803240"/>
          <a:ext cx="650232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803240"/>
                    <a:ext cx="650232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D2C-A387-4249-A5ED-51A6312916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HY Channel Sounder Approach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5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7 chip pn sequence is transmitted at 5.3 GHz with a bandpass bandwidth of 30 MH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2 element array with 0.5 wavelength space is used to downconvert the transmitted pn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 shots of the delay spread are written to memory and stored on a 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880" y="4761000"/>
            <a:ext cx="624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For further information se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Jarmo Kivinen, Timo O. Korhonen, Pauli Aikio, Ralf Grub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Pertti Vainikainen, and Sven-Gustav Häggm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IEEE Transactions on Instrumentation and Measure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vol. 48, no. 1, pp. 39-44,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DC6-B034-42EB-9097-F1302D801A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mart Antenna Operation (5GHz)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9240" y="1447920"/>
            <a:ext cx="7842960" cy="3052800"/>
            <a:chOff x="309240" y="1447920"/>
            <a:chExt cx="7842960" cy="3052800"/>
          </a:xfrm>
        </p:grpSpPr>
        <p:sp>
          <p:nvSpPr>
            <p:cNvPr id="101" name=""/>
            <p:cNvSpPr/>
            <p:nvPr/>
          </p:nvSpPr>
          <p:spPr>
            <a:xfrm>
              <a:off x="2114640" y="181296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197080" y="181260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7080" y="18892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0600" y="2016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19200" y="189540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16320" y="1881360"/>
              <a:ext cx="36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27400" y="188280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68560" y="1881360"/>
              <a:ext cx="4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74880" y="2009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65640" y="20034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7360" y="189540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7760" y="20034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5280" y="2003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74120" y="18558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06720" y="2263680"/>
              <a:ext cx="82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189160" y="2263680"/>
              <a:ext cx="82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89160" y="23400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82680" y="2467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1280" y="234648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8400" y="2332080"/>
              <a:ext cx="36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9480" y="233352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60640" y="2332080"/>
              <a:ext cx="4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6960" y="24606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7720" y="245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9440" y="2346480"/>
              <a:ext cx="36180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9840" y="2454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7360" y="2454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6200" y="230652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176560" y="2738520"/>
              <a:ext cx="27000" cy="255600"/>
              <a:chOff x="2176560" y="2738520"/>
              <a:chExt cx="27000" cy="255600"/>
            </a:xfrm>
          </p:grpSpPr>
          <p:sp>
            <p:nvSpPr>
              <p:cNvPr id="130" name=""/>
              <p:cNvSpPr/>
              <p:nvPr/>
            </p:nvSpPr>
            <p:spPr>
              <a:xfrm>
                <a:off x="2176560" y="2738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76560" y="2853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76560" y="2967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576520" y="2747880"/>
              <a:ext cx="27000" cy="255600"/>
              <a:chOff x="2576520" y="2747880"/>
              <a:chExt cx="27000" cy="25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6520" y="2747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76520" y="2862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76520" y="2976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101680" y="3201840"/>
              <a:ext cx="828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184480" y="3201840"/>
              <a:ext cx="82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84480" y="32781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340524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06600" y="328464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03360" y="3270240"/>
              <a:ext cx="3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327168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5960" y="327024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62280" y="33987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339264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4400" y="328464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160" y="3392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2680" y="33926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1520" y="324468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1890720"/>
              <a:ext cx="423720" cy="161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4955400" y="2535840"/>
              <a:ext cx="145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tenna Combi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29080" y="3700440"/>
              <a:ext cx="781200" cy="44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83720" y="3699000"/>
              <a:ext cx="88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lc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719680" y="350496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1995480"/>
              <a:ext cx="98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6320" y="2443320"/>
              <a:ext cx="985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81640" y="33814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95760" y="1990800"/>
              <a:ext cx="0" cy="21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00440" y="410040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7520" y="2454120"/>
              <a:ext cx="6480" cy="15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9320" y="4000680"/>
              <a:ext cx="59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57720" y="3381480"/>
              <a:ext cx="0" cy="3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57720" y="3772080"/>
              <a:ext cx="176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824000" y="3654720"/>
              <a:ext cx="255960" cy="32400"/>
              <a:chOff x="4824000" y="3654720"/>
              <a:chExt cx="255960" cy="32400"/>
            </a:xfrm>
          </p:grpSpPr>
          <p:sp>
            <p:nvSpPr>
              <p:cNvPr id="166" name=""/>
              <p:cNvSpPr/>
              <p:nvPr/>
            </p:nvSpPr>
            <p:spPr>
              <a:xfrm rot="16269000">
                <a:off x="4824000" y="3654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69000">
                <a:off x="4938480" y="3656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69000">
                <a:off x="5052600" y="3659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137280" y="1978200"/>
                  <a:ext cx="15746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sub>
                            <m:sup/>
                          </m:sSub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6459480" y="2430360"/>
              <a:ext cx="781200" cy="44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65600" y="2505240"/>
              <a:ext cx="77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743360" y="1724040"/>
                  <a:ext cx="4809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4743360" y="2187720"/>
                  <a:ext cx="4939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62440" y="309564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5931000" y="345132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76" name=""/>
            <p:cNvGrpSpPr/>
            <p:nvPr/>
          </p:nvGrpSpPr>
          <p:grpSpPr>
            <a:xfrm>
              <a:off x="794880" y="1447920"/>
              <a:ext cx="1143360" cy="1619280"/>
              <a:chOff x="794880" y="1447920"/>
              <a:chExt cx="1143360" cy="1619280"/>
            </a:xfrm>
          </p:grpSpPr>
          <p:sp>
            <p:nvSpPr>
              <p:cNvPr id="177" name=""/>
              <p:cNvSpPr/>
              <p:nvPr/>
            </p:nvSpPr>
            <p:spPr>
              <a:xfrm>
                <a:off x="860400" y="1968480"/>
                <a:ext cx="330120" cy="432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076400" y="179028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4880" y="2049480"/>
                <a:ext cx="46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260360" y="1777680"/>
                <a:ext cx="61596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72960" y="1886040"/>
                <a:ext cx="58428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98520" y="2019240"/>
                <a:ext cx="501840" cy="84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1557360" y="1447920"/>
                    <a:ext cx="3808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514520" y="2171880"/>
                    <a:ext cx="39204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"/>
                  <p:cNvSpPr txBox="1"/>
                  <p:nvPr/>
                </p:nvSpPr>
                <p:spPr>
                  <a:xfrm>
                    <a:off x="1305000" y="2838600"/>
                    <a:ext cx="4190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781360" y="4286160"/>
                  <a:ext cx="26496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5905440" y="2657520"/>
              <a:ext cx="55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4760" y="3768840"/>
              <a:ext cx="330120" cy="431640"/>
            </a:xfrm>
            <a:prstGeom prst="ellipse">
              <a:avLst/>
            </a:prstGeom>
            <a:noFill/>
            <a:ln cap="rnd" w="1260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90400" y="3591000"/>
              <a:ext cx="0" cy="20304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9240" y="384984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66840" y="3095640"/>
                  <a:ext cx="3808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095480" y="3324240"/>
                  <a:ext cx="3920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942840" y="376236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 flipV="1">
              <a:off x="619200" y="3057480"/>
              <a:ext cx="380880" cy="44784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66720" y="3429000"/>
              <a:ext cx="362160" cy="20016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57360" y="3628800"/>
              <a:ext cx="399960" cy="10476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314760" y="1838160"/>
              <a:ext cx="666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476760" y="1800360"/>
              <a:ext cx="1616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33360" y="1636560"/>
              <a:ext cx="151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FDM Symbol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07520" y="1598760"/>
              <a:ext cx="81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carr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275480" y="4076280"/>
            <a:ext cx="5913000" cy="2220120"/>
            <a:chOff x="1275480" y="4076280"/>
            <a:chExt cx="5913000" cy="2220120"/>
          </a:xfrm>
        </p:grpSpPr>
        <p:sp>
          <p:nvSpPr>
            <p:cNvPr id="202" name=""/>
            <p:cNvSpPr/>
            <p:nvPr/>
          </p:nvSpPr>
          <p:spPr>
            <a:xfrm>
              <a:off x="4645080" y="4645080"/>
              <a:ext cx="36180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44960" y="463068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1280" y="4772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41680" y="4765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3400" y="464508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3480" y="46180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37160" y="509580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37040" y="508176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43360" y="5222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33760" y="5216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5480" y="509580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09080" y="50688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643200" y="5567400"/>
              <a:ext cx="27000" cy="255600"/>
              <a:chOff x="3643200" y="5567400"/>
              <a:chExt cx="27000" cy="255600"/>
            </a:xfrm>
          </p:grpSpPr>
          <p:sp>
            <p:nvSpPr>
              <p:cNvPr id="215" name=""/>
              <p:cNvSpPr/>
              <p:nvPr/>
            </p:nvSpPr>
            <p:spPr>
              <a:xfrm>
                <a:off x="3643200" y="5567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43200" y="5681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3200" y="5796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799160" y="5538960"/>
              <a:ext cx="27000" cy="254880"/>
              <a:chOff x="4799160" y="5538960"/>
              <a:chExt cx="27000" cy="254880"/>
            </a:xfrm>
          </p:grpSpPr>
          <p:sp>
            <p:nvSpPr>
              <p:cNvPr id="219" name=""/>
              <p:cNvSpPr/>
              <p:nvPr/>
            </p:nvSpPr>
            <p:spPr>
              <a:xfrm>
                <a:off x="4799160" y="5538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9160" y="5652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99160" y="5767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4632480" y="603396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2360" y="601992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38680" y="61610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29080" y="61545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60800" y="603396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7000" y="60069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05240" y="4638600"/>
              <a:ext cx="4446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76440" y="461160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05240" y="6029280"/>
              <a:ext cx="4446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76440" y="600228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98760" y="5095800"/>
              <a:ext cx="4446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70320" y="5068800"/>
              <a:ext cx="5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307120" y="5535720"/>
              <a:ext cx="27000" cy="255600"/>
              <a:chOff x="5307120" y="5535720"/>
              <a:chExt cx="27000" cy="255600"/>
            </a:xfrm>
          </p:grpSpPr>
          <p:sp>
            <p:nvSpPr>
              <p:cNvPr id="235" name=""/>
              <p:cNvSpPr/>
              <p:nvPr/>
            </p:nvSpPr>
            <p:spPr>
              <a:xfrm>
                <a:off x="5307120" y="5535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07120" y="5650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07120" y="5764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124600" y="596124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207040" y="596088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07040" y="60372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97520" y="61578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24600" y="502128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207040" y="502092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07040" y="509760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97520" y="52182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4564080"/>
              <a:ext cx="82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213520" y="456372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13520" y="464040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97520" y="4761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06840" y="4656240"/>
              <a:ext cx="423720" cy="161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207160" y="5320440"/>
              <a:ext cx="141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tenna Weight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27320" y="5272200"/>
              <a:ext cx="780840" cy="44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75480" y="5270400"/>
              <a:ext cx="89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ding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37040" y="475920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10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30560" y="6137280"/>
              <a:ext cx="27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1680" y="5495760"/>
              <a:ext cx="6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373800" y="5041800"/>
                  <a:ext cx="3808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6292800" y="5356080"/>
                  <a:ext cx="3920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6448320" y="568656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2921040" y="4498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65800" y="4632480"/>
              <a:ext cx="67932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53200" y="5048280"/>
              <a:ext cx="6667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72280" y="5724000"/>
              <a:ext cx="6951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719760" y="5038560"/>
              <a:ext cx="468720" cy="609480"/>
              <a:chOff x="6719760" y="5038560"/>
              <a:chExt cx="468720" cy="609480"/>
            </a:xfrm>
          </p:grpSpPr>
          <p:sp>
            <p:nvSpPr>
              <p:cNvPr id="266" name=""/>
              <p:cNvSpPr/>
              <p:nvPr/>
            </p:nvSpPr>
            <p:spPr>
              <a:xfrm>
                <a:off x="6784920" y="5216400"/>
                <a:ext cx="330480" cy="431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000920" y="503856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19760" y="5297040"/>
                <a:ext cx="46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576840" y="4076280"/>
              <a:ext cx="468720" cy="609840"/>
              <a:chOff x="6576840" y="4076280"/>
              <a:chExt cx="468720" cy="6098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42000" y="4254480"/>
                <a:ext cx="330120" cy="431640"/>
              </a:xfrm>
              <a:prstGeom prst="ellipse">
                <a:avLst/>
              </a:prstGeom>
              <a:noFill/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858000" y="4076280"/>
                <a:ext cx="0" cy="203400"/>
              </a:xfrm>
              <a:prstGeom prst="line">
                <a:avLst/>
              </a:prstGeom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76840" y="4335480"/>
                <a:ext cx="46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V="1">
              <a:off x="5429160" y="4495680"/>
              <a:ext cx="762120" cy="11448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410080" y="4943160"/>
              <a:ext cx="657360" cy="104760"/>
            </a:xfrm>
            <a:prstGeom prst="line">
              <a:avLst/>
            </a:prstGeom>
            <a:ln w="12600">
              <a:solidFill>
                <a:srgbClr val="3333cc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00720" y="5400720"/>
              <a:ext cx="714240" cy="590400"/>
            </a:xfrm>
            <a:prstGeom prst="line">
              <a:avLst/>
            </a:prstGeom>
            <a:ln w="12600">
              <a:solidFill>
                <a:srgbClr val="3333cc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665400" y="316224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link Op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2840" y="59562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wnlink Op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408-6859-4822-BF77-9E86652F41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Correlation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96848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to the right shows the correlation coefficient for different measurem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rt antenna operation, the AP needs the ability to probe the channel between any STA and 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76720" y="1668600"/>
            <a:ext cx="4807080" cy="3606840"/>
            <a:chOff x="4176720" y="1668600"/>
            <a:chExt cx="4807080" cy="3606840"/>
          </a:xfrm>
        </p:grpSpPr>
        <p:sp>
          <p:nvSpPr>
            <p:cNvPr id="281" name=""/>
            <p:cNvSpPr/>
            <p:nvPr/>
          </p:nvSpPr>
          <p:spPr>
            <a:xfrm>
              <a:off x="4176720" y="1668600"/>
              <a:ext cx="4807080" cy="360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02040" y="1943280"/>
              <a:ext cx="3710160" cy="29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02040" y="1943280"/>
              <a:ext cx="3710160" cy="292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02040" y="1943280"/>
              <a:ext cx="180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352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464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3576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48320" y="1943280"/>
              <a:ext cx="180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7360" y="1943280"/>
              <a:ext cx="180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7884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8996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0108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1220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2040" y="486396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2040" y="444492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02040" y="403380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02040" y="361332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02040" y="319392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2040" y="277344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2040" y="236232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2040" y="194328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2040" y="1943280"/>
              <a:ext cx="371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2040" y="4863960"/>
              <a:ext cx="371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512200" y="1942920"/>
              <a:ext cx="144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802040" y="1942920"/>
              <a:ext cx="180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2040" y="4863960"/>
              <a:ext cx="371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802040" y="1942920"/>
              <a:ext cx="180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802040" y="483084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2040" y="194328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95920" y="489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21352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1352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0320" y="4898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2464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2464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5840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3576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3576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52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448320" y="483084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48320" y="194328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8208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67360" y="483084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67360" y="194328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0112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27884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7884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1224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68996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8996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372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10108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0108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3484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1220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1220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4740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02040" y="48639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478360" y="48639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70560" y="47959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02040" y="44449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478360" y="44449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0560" y="43768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2040" y="40338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478360" y="403380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0560" y="39654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2040" y="36133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478360" y="36133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0560" y="35449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1939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478360" y="31939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0560" y="31258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02040" y="27734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478360" y="277344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0560" y="27050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2040" y="23623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8478360" y="23623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0560" y="22939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02040" y="19432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478360" y="194328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7520" y="1874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02040" y="1943280"/>
              <a:ext cx="371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02040" y="4863960"/>
              <a:ext cx="371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512200" y="1942920"/>
              <a:ext cx="144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802040" y="1942920"/>
              <a:ext cx="180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2040" y="1943280"/>
              <a:ext cx="1414440" cy="496800"/>
            </a:xfrm>
            <a:custGeom>
              <a:avLst/>
              <a:gdLst/>
              <a:ahLst/>
              <a:rect l="l" t="t" r="r" b="b"/>
              <a:pathLst>
                <a:path w="891" h="313">
                  <a:moveTo>
                    <a:pt x="0" y="0"/>
                  </a:moveTo>
                  <a:lnTo>
                    <a:pt x="5" y="86"/>
                  </a:lnTo>
                  <a:lnTo>
                    <a:pt x="11" y="86"/>
                  </a:lnTo>
                  <a:lnTo>
                    <a:pt x="16" y="86"/>
                  </a:lnTo>
                  <a:lnTo>
                    <a:pt x="22" y="91"/>
                  </a:lnTo>
                  <a:lnTo>
                    <a:pt x="27" y="97"/>
                  </a:lnTo>
                  <a:lnTo>
                    <a:pt x="32" y="97"/>
                  </a:lnTo>
                  <a:lnTo>
                    <a:pt x="38" y="102"/>
                  </a:lnTo>
                  <a:lnTo>
                    <a:pt x="43" y="108"/>
                  </a:lnTo>
                  <a:lnTo>
                    <a:pt x="49" y="113"/>
                  </a:lnTo>
                  <a:lnTo>
                    <a:pt x="54" y="113"/>
                  </a:lnTo>
                  <a:lnTo>
                    <a:pt x="59" y="118"/>
                  </a:lnTo>
                  <a:lnTo>
                    <a:pt x="65" y="124"/>
                  </a:lnTo>
                  <a:lnTo>
                    <a:pt x="70" y="129"/>
                  </a:lnTo>
                  <a:lnTo>
                    <a:pt x="70" y="135"/>
                  </a:lnTo>
                  <a:lnTo>
                    <a:pt x="76" y="140"/>
                  </a:lnTo>
                  <a:lnTo>
                    <a:pt x="81" y="145"/>
                  </a:lnTo>
                  <a:lnTo>
                    <a:pt x="86" y="145"/>
                  </a:lnTo>
                  <a:lnTo>
                    <a:pt x="92" y="151"/>
                  </a:lnTo>
                  <a:lnTo>
                    <a:pt x="97" y="156"/>
                  </a:lnTo>
                  <a:lnTo>
                    <a:pt x="103" y="156"/>
                  </a:lnTo>
                  <a:lnTo>
                    <a:pt x="108" y="162"/>
                  </a:lnTo>
                  <a:lnTo>
                    <a:pt x="113" y="167"/>
                  </a:lnTo>
                  <a:lnTo>
                    <a:pt x="119" y="167"/>
                  </a:lnTo>
                  <a:lnTo>
                    <a:pt x="124" y="172"/>
                  </a:lnTo>
                  <a:lnTo>
                    <a:pt x="130" y="178"/>
                  </a:lnTo>
                  <a:lnTo>
                    <a:pt x="135" y="178"/>
                  </a:lnTo>
                  <a:lnTo>
                    <a:pt x="140" y="183"/>
                  </a:lnTo>
                  <a:lnTo>
                    <a:pt x="146" y="183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94"/>
                  </a:lnTo>
                  <a:lnTo>
                    <a:pt x="167" y="194"/>
                  </a:lnTo>
                  <a:lnTo>
                    <a:pt x="173" y="199"/>
                  </a:lnTo>
                  <a:lnTo>
                    <a:pt x="178" y="199"/>
                  </a:lnTo>
                  <a:lnTo>
                    <a:pt x="184" y="205"/>
                  </a:lnTo>
                  <a:lnTo>
                    <a:pt x="189" y="205"/>
                  </a:lnTo>
                  <a:lnTo>
                    <a:pt x="194" y="205"/>
                  </a:lnTo>
                  <a:lnTo>
                    <a:pt x="200" y="205"/>
                  </a:lnTo>
                  <a:lnTo>
                    <a:pt x="205" y="210"/>
                  </a:lnTo>
                  <a:lnTo>
                    <a:pt x="211" y="210"/>
                  </a:lnTo>
                  <a:lnTo>
                    <a:pt x="216" y="210"/>
                  </a:lnTo>
                  <a:lnTo>
                    <a:pt x="221" y="216"/>
                  </a:lnTo>
                  <a:lnTo>
                    <a:pt x="227" y="216"/>
                  </a:lnTo>
                  <a:lnTo>
                    <a:pt x="232" y="216"/>
                  </a:lnTo>
                  <a:lnTo>
                    <a:pt x="238" y="216"/>
                  </a:lnTo>
                  <a:lnTo>
                    <a:pt x="243" y="216"/>
                  </a:lnTo>
                  <a:lnTo>
                    <a:pt x="248" y="221"/>
                  </a:lnTo>
                  <a:lnTo>
                    <a:pt x="254" y="221"/>
                  </a:lnTo>
                  <a:lnTo>
                    <a:pt x="259" y="221"/>
                  </a:lnTo>
                  <a:lnTo>
                    <a:pt x="265" y="221"/>
                  </a:lnTo>
                  <a:lnTo>
                    <a:pt x="270" y="221"/>
                  </a:lnTo>
                  <a:lnTo>
                    <a:pt x="275" y="221"/>
                  </a:lnTo>
                  <a:lnTo>
                    <a:pt x="281" y="221"/>
                  </a:lnTo>
                  <a:lnTo>
                    <a:pt x="286" y="226"/>
                  </a:lnTo>
                  <a:lnTo>
                    <a:pt x="292" y="226"/>
                  </a:lnTo>
                  <a:lnTo>
                    <a:pt x="297" y="226"/>
                  </a:lnTo>
                  <a:lnTo>
                    <a:pt x="302" y="226"/>
                  </a:lnTo>
                  <a:lnTo>
                    <a:pt x="308" y="226"/>
                  </a:lnTo>
                  <a:lnTo>
                    <a:pt x="313" y="226"/>
                  </a:lnTo>
                  <a:lnTo>
                    <a:pt x="319" y="226"/>
                  </a:lnTo>
                  <a:lnTo>
                    <a:pt x="324" y="226"/>
                  </a:lnTo>
                  <a:lnTo>
                    <a:pt x="329" y="232"/>
                  </a:lnTo>
                  <a:lnTo>
                    <a:pt x="335" y="232"/>
                  </a:lnTo>
                  <a:lnTo>
                    <a:pt x="340" y="232"/>
                  </a:lnTo>
                  <a:lnTo>
                    <a:pt x="346" y="232"/>
                  </a:lnTo>
                  <a:lnTo>
                    <a:pt x="351" y="232"/>
                  </a:lnTo>
                  <a:lnTo>
                    <a:pt x="356" y="237"/>
                  </a:lnTo>
                  <a:lnTo>
                    <a:pt x="362" y="237"/>
                  </a:lnTo>
                  <a:lnTo>
                    <a:pt x="367" y="237"/>
                  </a:lnTo>
                  <a:lnTo>
                    <a:pt x="373" y="237"/>
                  </a:lnTo>
                  <a:lnTo>
                    <a:pt x="378" y="237"/>
                  </a:lnTo>
                  <a:lnTo>
                    <a:pt x="383" y="237"/>
                  </a:lnTo>
                  <a:lnTo>
                    <a:pt x="389" y="243"/>
                  </a:lnTo>
                  <a:lnTo>
                    <a:pt x="394" y="243"/>
                  </a:lnTo>
                  <a:lnTo>
                    <a:pt x="400" y="243"/>
                  </a:lnTo>
                  <a:lnTo>
                    <a:pt x="405" y="243"/>
                  </a:lnTo>
                  <a:lnTo>
                    <a:pt x="410" y="243"/>
                  </a:lnTo>
                  <a:lnTo>
                    <a:pt x="416" y="243"/>
                  </a:lnTo>
                  <a:lnTo>
                    <a:pt x="421" y="248"/>
                  </a:lnTo>
                  <a:lnTo>
                    <a:pt x="427" y="248"/>
                  </a:lnTo>
                  <a:lnTo>
                    <a:pt x="432" y="248"/>
                  </a:lnTo>
                  <a:lnTo>
                    <a:pt x="437" y="248"/>
                  </a:lnTo>
                  <a:lnTo>
                    <a:pt x="443" y="248"/>
                  </a:lnTo>
                  <a:lnTo>
                    <a:pt x="448" y="248"/>
                  </a:lnTo>
                  <a:lnTo>
                    <a:pt x="454" y="253"/>
                  </a:lnTo>
                  <a:lnTo>
                    <a:pt x="459" y="253"/>
                  </a:lnTo>
                  <a:lnTo>
                    <a:pt x="464" y="253"/>
                  </a:lnTo>
                  <a:lnTo>
                    <a:pt x="470" y="253"/>
                  </a:lnTo>
                  <a:lnTo>
                    <a:pt x="475" y="253"/>
                  </a:lnTo>
                  <a:lnTo>
                    <a:pt x="481" y="259"/>
                  </a:lnTo>
                  <a:lnTo>
                    <a:pt x="486" y="259"/>
                  </a:lnTo>
                  <a:lnTo>
                    <a:pt x="491" y="259"/>
                  </a:lnTo>
                  <a:lnTo>
                    <a:pt x="497" y="259"/>
                  </a:lnTo>
                  <a:lnTo>
                    <a:pt x="502" y="259"/>
                  </a:lnTo>
                  <a:lnTo>
                    <a:pt x="508" y="264"/>
                  </a:lnTo>
                  <a:lnTo>
                    <a:pt x="513" y="264"/>
                  </a:lnTo>
                  <a:lnTo>
                    <a:pt x="518" y="264"/>
                  </a:lnTo>
                  <a:lnTo>
                    <a:pt x="524" y="264"/>
                  </a:lnTo>
                  <a:lnTo>
                    <a:pt x="529" y="270"/>
                  </a:lnTo>
                  <a:lnTo>
                    <a:pt x="534" y="270"/>
                  </a:lnTo>
                  <a:lnTo>
                    <a:pt x="540" y="270"/>
                  </a:lnTo>
                  <a:lnTo>
                    <a:pt x="545" y="270"/>
                  </a:lnTo>
                  <a:lnTo>
                    <a:pt x="551" y="270"/>
                  </a:lnTo>
                  <a:lnTo>
                    <a:pt x="556" y="275"/>
                  </a:lnTo>
                  <a:lnTo>
                    <a:pt x="561" y="275"/>
                  </a:lnTo>
                  <a:lnTo>
                    <a:pt x="567" y="275"/>
                  </a:lnTo>
                  <a:lnTo>
                    <a:pt x="572" y="275"/>
                  </a:lnTo>
                  <a:lnTo>
                    <a:pt x="578" y="280"/>
                  </a:lnTo>
                  <a:lnTo>
                    <a:pt x="583" y="280"/>
                  </a:lnTo>
                  <a:lnTo>
                    <a:pt x="588" y="280"/>
                  </a:lnTo>
                  <a:lnTo>
                    <a:pt x="594" y="280"/>
                  </a:lnTo>
                  <a:lnTo>
                    <a:pt x="599" y="286"/>
                  </a:lnTo>
                  <a:lnTo>
                    <a:pt x="605" y="286"/>
                  </a:lnTo>
                  <a:lnTo>
                    <a:pt x="610" y="291"/>
                  </a:lnTo>
                  <a:lnTo>
                    <a:pt x="615" y="291"/>
                  </a:lnTo>
                  <a:lnTo>
                    <a:pt x="621" y="291"/>
                  </a:lnTo>
                  <a:lnTo>
                    <a:pt x="626" y="291"/>
                  </a:lnTo>
                  <a:lnTo>
                    <a:pt x="632" y="297"/>
                  </a:lnTo>
                  <a:lnTo>
                    <a:pt x="637" y="297"/>
                  </a:lnTo>
                  <a:lnTo>
                    <a:pt x="642" y="297"/>
                  </a:lnTo>
                  <a:lnTo>
                    <a:pt x="648" y="297"/>
                  </a:lnTo>
                  <a:lnTo>
                    <a:pt x="653" y="297"/>
                  </a:lnTo>
                  <a:lnTo>
                    <a:pt x="659" y="302"/>
                  </a:lnTo>
                  <a:lnTo>
                    <a:pt x="664" y="302"/>
                  </a:lnTo>
                  <a:lnTo>
                    <a:pt x="669" y="302"/>
                  </a:lnTo>
                  <a:lnTo>
                    <a:pt x="675" y="302"/>
                  </a:lnTo>
                  <a:lnTo>
                    <a:pt x="680" y="302"/>
                  </a:lnTo>
                  <a:lnTo>
                    <a:pt x="686" y="302"/>
                  </a:lnTo>
                  <a:lnTo>
                    <a:pt x="691" y="302"/>
                  </a:lnTo>
                  <a:lnTo>
                    <a:pt x="696" y="302"/>
                  </a:lnTo>
                  <a:lnTo>
                    <a:pt x="702" y="302"/>
                  </a:lnTo>
                  <a:lnTo>
                    <a:pt x="707" y="302"/>
                  </a:lnTo>
                  <a:lnTo>
                    <a:pt x="713" y="307"/>
                  </a:lnTo>
                  <a:lnTo>
                    <a:pt x="718" y="307"/>
                  </a:lnTo>
                  <a:lnTo>
                    <a:pt x="723" y="307"/>
                  </a:lnTo>
                  <a:lnTo>
                    <a:pt x="729" y="307"/>
                  </a:lnTo>
                  <a:lnTo>
                    <a:pt x="734" y="307"/>
                  </a:lnTo>
                  <a:lnTo>
                    <a:pt x="740" y="307"/>
                  </a:lnTo>
                  <a:lnTo>
                    <a:pt x="745" y="307"/>
                  </a:lnTo>
                  <a:lnTo>
                    <a:pt x="750" y="307"/>
                  </a:lnTo>
                  <a:lnTo>
                    <a:pt x="756" y="307"/>
                  </a:lnTo>
                  <a:lnTo>
                    <a:pt x="761" y="307"/>
                  </a:lnTo>
                  <a:lnTo>
                    <a:pt x="767" y="307"/>
                  </a:lnTo>
                  <a:lnTo>
                    <a:pt x="772" y="307"/>
                  </a:lnTo>
                  <a:lnTo>
                    <a:pt x="777" y="307"/>
                  </a:lnTo>
                  <a:lnTo>
                    <a:pt x="783" y="307"/>
                  </a:lnTo>
                  <a:lnTo>
                    <a:pt x="788" y="307"/>
                  </a:lnTo>
                  <a:lnTo>
                    <a:pt x="794" y="307"/>
                  </a:lnTo>
                  <a:lnTo>
                    <a:pt x="799" y="307"/>
                  </a:lnTo>
                  <a:lnTo>
                    <a:pt x="804" y="307"/>
                  </a:lnTo>
                  <a:lnTo>
                    <a:pt x="810" y="307"/>
                  </a:lnTo>
                  <a:lnTo>
                    <a:pt x="815" y="307"/>
                  </a:lnTo>
                  <a:lnTo>
                    <a:pt x="821" y="307"/>
                  </a:lnTo>
                  <a:lnTo>
                    <a:pt x="826" y="307"/>
                  </a:lnTo>
                  <a:lnTo>
                    <a:pt x="831" y="307"/>
                  </a:lnTo>
                  <a:lnTo>
                    <a:pt x="837" y="307"/>
                  </a:lnTo>
                  <a:lnTo>
                    <a:pt x="842" y="307"/>
                  </a:lnTo>
                  <a:lnTo>
                    <a:pt x="848" y="307"/>
                  </a:lnTo>
                  <a:lnTo>
                    <a:pt x="853" y="307"/>
                  </a:lnTo>
                  <a:lnTo>
                    <a:pt x="858" y="307"/>
                  </a:lnTo>
                  <a:lnTo>
                    <a:pt x="864" y="307"/>
                  </a:lnTo>
                  <a:lnTo>
                    <a:pt x="869" y="307"/>
                  </a:lnTo>
                  <a:lnTo>
                    <a:pt x="875" y="307"/>
                  </a:lnTo>
                  <a:lnTo>
                    <a:pt x="880" y="307"/>
                  </a:lnTo>
                  <a:lnTo>
                    <a:pt x="885" y="307"/>
                  </a:lnTo>
                  <a:lnTo>
                    <a:pt x="891" y="3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02040" y="1943280"/>
              <a:ext cx="3419640" cy="804600"/>
            </a:xfrm>
            <a:custGeom>
              <a:avLst/>
              <a:gdLst/>
              <a:ahLst/>
              <a:rect l="l" t="t" r="r" b="b"/>
              <a:pathLst>
                <a:path w="2154" h="507">
                  <a:moveTo>
                    <a:pt x="0" y="0"/>
                  </a:moveTo>
                  <a:lnTo>
                    <a:pt x="27" y="38"/>
                  </a:lnTo>
                  <a:lnTo>
                    <a:pt x="54" y="48"/>
                  </a:lnTo>
                  <a:lnTo>
                    <a:pt x="76" y="91"/>
                  </a:lnTo>
                  <a:lnTo>
                    <a:pt x="103" y="113"/>
                  </a:lnTo>
                  <a:lnTo>
                    <a:pt x="130" y="145"/>
                  </a:lnTo>
                  <a:lnTo>
                    <a:pt x="157" y="172"/>
                  </a:lnTo>
                  <a:lnTo>
                    <a:pt x="184" y="205"/>
                  </a:lnTo>
                  <a:lnTo>
                    <a:pt x="205" y="226"/>
                  </a:lnTo>
                  <a:lnTo>
                    <a:pt x="232" y="253"/>
                  </a:lnTo>
                  <a:lnTo>
                    <a:pt x="259" y="270"/>
                  </a:lnTo>
                  <a:lnTo>
                    <a:pt x="286" y="302"/>
                  </a:lnTo>
                  <a:lnTo>
                    <a:pt x="313" y="302"/>
                  </a:lnTo>
                  <a:lnTo>
                    <a:pt x="340" y="340"/>
                  </a:lnTo>
                  <a:lnTo>
                    <a:pt x="362" y="345"/>
                  </a:lnTo>
                  <a:lnTo>
                    <a:pt x="389" y="367"/>
                  </a:lnTo>
                  <a:lnTo>
                    <a:pt x="416" y="372"/>
                  </a:lnTo>
                  <a:lnTo>
                    <a:pt x="443" y="388"/>
                  </a:lnTo>
                  <a:lnTo>
                    <a:pt x="470" y="399"/>
                  </a:lnTo>
                  <a:lnTo>
                    <a:pt x="491" y="415"/>
                  </a:lnTo>
                  <a:lnTo>
                    <a:pt x="518" y="426"/>
                  </a:lnTo>
                  <a:lnTo>
                    <a:pt x="545" y="442"/>
                  </a:lnTo>
                  <a:lnTo>
                    <a:pt x="572" y="442"/>
                  </a:lnTo>
                  <a:lnTo>
                    <a:pt x="599" y="464"/>
                  </a:lnTo>
                  <a:lnTo>
                    <a:pt x="621" y="464"/>
                  </a:lnTo>
                  <a:lnTo>
                    <a:pt x="648" y="491"/>
                  </a:lnTo>
                  <a:lnTo>
                    <a:pt x="675" y="491"/>
                  </a:lnTo>
                  <a:lnTo>
                    <a:pt x="702" y="502"/>
                  </a:lnTo>
                  <a:lnTo>
                    <a:pt x="729" y="502"/>
                  </a:lnTo>
                  <a:lnTo>
                    <a:pt x="756" y="507"/>
                  </a:lnTo>
                  <a:lnTo>
                    <a:pt x="777" y="507"/>
                  </a:lnTo>
                  <a:lnTo>
                    <a:pt x="804" y="507"/>
                  </a:lnTo>
                  <a:lnTo>
                    <a:pt x="831" y="507"/>
                  </a:lnTo>
                  <a:lnTo>
                    <a:pt x="858" y="507"/>
                  </a:lnTo>
                  <a:lnTo>
                    <a:pt x="885" y="502"/>
                  </a:lnTo>
                  <a:lnTo>
                    <a:pt x="907" y="507"/>
                  </a:lnTo>
                  <a:lnTo>
                    <a:pt x="934" y="496"/>
                  </a:lnTo>
                  <a:lnTo>
                    <a:pt x="961" y="507"/>
                  </a:lnTo>
                  <a:lnTo>
                    <a:pt x="988" y="496"/>
                  </a:lnTo>
                  <a:lnTo>
                    <a:pt x="1015" y="496"/>
                  </a:lnTo>
                  <a:lnTo>
                    <a:pt x="1037" y="486"/>
                  </a:lnTo>
                  <a:lnTo>
                    <a:pt x="1064" y="486"/>
                  </a:lnTo>
                  <a:lnTo>
                    <a:pt x="1091" y="480"/>
                  </a:lnTo>
                  <a:lnTo>
                    <a:pt x="1118" y="475"/>
                  </a:lnTo>
                  <a:lnTo>
                    <a:pt x="1144" y="469"/>
                  </a:lnTo>
                  <a:lnTo>
                    <a:pt x="1171" y="469"/>
                  </a:lnTo>
                  <a:lnTo>
                    <a:pt x="1193" y="453"/>
                  </a:lnTo>
                  <a:lnTo>
                    <a:pt x="1220" y="464"/>
                  </a:lnTo>
                  <a:lnTo>
                    <a:pt x="1247" y="448"/>
                  </a:lnTo>
                  <a:lnTo>
                    <a:pt x="1274" y="459"/>
                  </a:lnTo>
                  <a:lnTo>
                    <a:pt x="1301" y="448"/>
                  </a:lnTo>
                  <a:lnTo>
                    <a:pt x="1323" y="448"/>
                  </a:lnTo>
                  <a:lnTo>
                    <a:pt x="1350" y="442"/>
                  </a:lnTo>
                  <a:lnTo>
                    <a:pt x="1377" y="437"/>
                  </a:lnTo>
                  <a:lnTo>
                    <a:pt x="1404" y="432"/>
                  </a:lnTo>
                  <a:lnTo>
                    <a:pt x="1431" y="426"/>
                  </a:lnTo>
                  <a:lnTo>
                    <a:pt x="1452" y="421"/>
                  </a:lnTo>
                  <a:lnTo>
                    <a:pt x="1479" y="415"/>
                  </a:lnTo>
                  <a:lnTo>
                    <a:pt x="1506" y="405"/>
                  </a:lnTo>
                  <a:lnTo>
                    <a:pt x="1533" y="410"/>
                  </a:lnTo>
                  <a:lnTo>
                    <a:pt x="1560" y="388"/>
                  </a:lnTo>
                  <a:lnTo>
                    <a:pt x="1582" y="394"/>
                  </a:lnTo>
                  <a:lnTo>
                    <a:pt x="1609" y="378"/>
                  </a:lnTo>
                  <a:lnTo>
                    <a:pt x="1636" y="378"/>
                  </a:lnTo>
                  <a:lnTo>
                    <a:pt x="1663" y="361"/>
                  </a:lnTo>
                  <a:lnTo>
                    <a:pt x="1690" y="367"/>
                  </a:lnTo>
                  <a:lnTo>
                    <a:pt x="1717" y="367"/>
                  </a:lnTo>
                  <a:lnTo>
                    <a:pt x="1738" y="372"/>
                  </a:lnTo>
                  <a:lnTo>
                    <a:pt x="1765" y="367"/>
                  </a:lnTo>
                  <a:lnTo>
                    <a:pt x="1792" y="372"/>
                  </a:lnTo>
                  <a:lnTo>
                    <a:pt x="1819" y="367"/>
                  </a:lnTo>
                  <a:lnTo>
                    <a:pt x="1846" y="383"/>
                  </a:lnTo>
                  <a:lnTo>
                    <a:pt x="1868" y="372"/>
                  </a:lnTo>
                  <a:lnTo>
                    <a:pt x="1895" y="383"/>
                  </a:lnTo>
                  <a:lnTo>
                    <a:pt x="1922" y="378"/>
                  </a:lnTo>
                  <a:lnTo>
                    <a:pt x="1949" y="388"/>
                  </a:lnTo>
                  <a:lnTo>
                    <a:pt x="1976" y="388"/>
                  </a:lnTo>
                  <a:lnTo>
                    <a:pt x="1997" y="394"/>
                  </a:lnTo>
                  <a:lnTo>
                    <a:pt x="2024" y="394"/>
                  </a:lnTo>
                  <a:lnTo>
                    <a:pt x="2051" y="399"/>
                  </a:lnTo>
                  <a:lnTo>
                    <a:pt x="2078" y="399"/>
                  </a:lnTo>
                  <a:lnTo>
                    <a:pt x="2105" y="415"/>
                  </a:lnTo>
                  <a:lnTo>
                    <a:pt x="2132" y="405"/>
                  </a:lnTo>
                  <a:lnTo>
                    <a:pt x="2154" y="4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2040" y="1943280"/>
              <a:ext cx="3419640" cy="1858680"/>
            </a:xfrm>
            <a:custGeom>
              <a:avLst/>
              <a:gdLst/>
              <a:ahLst/>
              <a:rect l="l" t="t" r="r" b="b"/>
              <a:pathLst>
                <a:path w="2154" h="1171">
                  <a:moveTo>
                    <a:pt x="0" y="0"/>
                  </a:moveTo>
                  <a:lnTo>
                    <a:pt x="27" y="183"/>
                  </a:lnTo>
                  <a:lnTo>
                    <a:pt x="54" y="216"/>
                  </a:lnTo>
                  <a:lnTo>
                    <a:pt x="76" y="394"/>
                  </a:lnTo>
                  <a:lnTo>
                    <a:pt x="103" y="383"/>
                  </a:lnTo>
                  <a:lnTo>
                    <a:pt x="130" y="496"/>
                  </a:lnTo>
                  <a:lnTo>
                    <a:pt x="157" y="437"/>
                  </a:lnTo>
                  <a:lnTo>
                    <a:pt x="184" y="539"/>
                  </a:lnTo>
                  <a:lnTo>
                    <a:pt x="205" y="491"/>
                  </a:lnTo>
                  <a:lnTo>
                    <a:pt x="232" y="583"/>
                  </a:lnTo>
                  <a:lnTo>
                    <a:pt x="259" y="534"/>
                  </a:lnTo>
                  <a:lnTo>
                    <a:pt x="286" y="631"/>
                  </a:lnTo>
                  <a:lnTo>
                    <a:pt x="313" y="561"/>
                  </a:lnTo>
                  <a:lnTo>
                    <a:pt x="340" y="658"/>
                  </a:lnTo>
                  <a:lnTo>
                    <a:pt x="362" y="599"/>
                  </a:lnTo>
                  <a:lnTo>
                    <a:pt x="389" y="674"/>
                  </a:lnTo>
                  <a:lnTo>
                    <a:pt x="416" y="631"/>
                  </a:lnTo>
                  <a:lnTo>
                    <a:pt x="443" y="718"/>
                  </a:lnTo>
                  <a:lnTo>
                    <a:pt x="470" y="664"/>
                  </a:lnTo>
                  <a:lnTo>
                    <a:pt x="491" y="755"/>
                  </a:lnTo>
                  <a:lnTo>
                    <a:pt x="518" y="707"/>
                  </a:lnTo>
                  <a:lnTo>
                    <a:pt x="545" y="782"/>
                  </a:lnTo>
                  <a:lnTo>
                    <a:pt x="572" y="734"/>
                  </a:lnTo>
                  <a:lnTo>
                    <a:pt x="599" y="815"/>
                  </a:lnTo>
                  <a:lnTo>
                    <a:pt x="621" y="755"/>
                  </a:lnTo>
                  <a:lnTo>
                    <a:pt x="648" y="842"/>
                  </a:lnTo>
                  <a:lnTo>
                    <a:pt x="675" y="788"/>
                  </a:lnTo>
                  <a:lnTo>
                    <a:pt x="702" y="858"/>
                  </a:lnTo>
                  <a:lnTo>
                    <a:pt x="729" y="809"/>
                  </a:lnTo>
                  <a:lnTo>
                    <a:pt x="756" y="885"/>
                  </a:lnTo>
                  <a:lnTo>
                    <a:pt x="777" y="826"/>
                  </a:lnTo>
                  <a:lnTo>
                    <a:pt x="804" y="901"/>
                  </a:lnTo>
                  <a:lnTo>
                    <a:pt x="831" y="847"/>
                  </a:lnTo>
                  <a:lnTo>
                    <a:pt x="858" y="917"/>
                  </a:lnTo>
                  <a:lnTo>
                    <a:pt x="885" y="869"/>
                  </a:lnTo>
                  <a:lnTo>
                    <a:pt x="907" y="939"/>
                  </a:lnTo>
                  <a:lnTo>
                    <a:pt x="934" y="880"/>
                  </a:lnTo>
                  <a:lnTo>
                    <a:pt x="961" y="955"/>
                  </a:lnTo>
                  <a:lnTo>
                    <a:pt x="988" y="907"/>
                  </a:lnTo>
                  <a:lnTo>
                    <a:pt x="1015" y="966"/>
                  </a:lnTo>
                  <a:lnTo>
                    <a:pt x="1037" y="917"/>
                  </a:lnTo>
                  <a:lnTo>
                    <a:pt x="1064" y="982"/>
                  </a:lnTo>
                  <a:lnTo>
                    <a:pt x="1091" y="928"/>
                  </a:lnTo>
                  <a:lnTo>
                    <a:pt x="1118" y="998"/>
                  </a:lnTo>
                  <a:lnTo>
                    <a:pt x="1144" y="944"/>
                  </a:lnTo>
                  <a:lnTo>
                    <a:pt x="1171" y="1009"/>
                  </a:lnTo>
                  <a:lnTo>
                    <a:pt x="1193" y="961"/>
                  </a:lnTo>
                  <a:lnTo>
                    <a:pt x="1220" y="1031"/>
                  </a:lnTo>
                  <a:lnTo>
                    <a:pt x="1247" y="971"/>
                  </a:lnTo>
                  <a:lnTo>
                    <a:pt x="1274" y="1041"/>
                  </a:lnTo>
                  <a:lnTo>
                    <a:pt x="1301" y="993"/>
                  </a:lnTo>
                  <a:lnTo>
                    <a:pt x="1323" y="1052"/>
                  </a:lnTo>
                  <a:lnTo>
                    <a:pt x="1350" y="1009"/>
                  </a:lnTo>
                  <a:lnTo>
                    <a:pt x="1377" y="1068"/>
                  </a:lnTo>
                  <a:lnTo>
                    <a:pt x="1404" y="1014"/>
                  </a:lnTo>
                  <a:lnTo>
                    <a:pt x="1431" y="1079"/>
                  </a:lnTo>
                  <a:lnTo>
                    <a:pt x="1452" y="1025"/>
                  </a:lnTo>
                  <a:lnTo>
                    <a:pt x="1479" y="1085"/>
                  </a:lnTo>
                  <a:lnTo>
                    <a:pt x="1506" y="1036"/>
                  </a:lnTo>
                  <a:lnTo>
                    <a:pt x="1533" y="1106"/>
                  </a:lnTo>
                  <a:lnTo>
                    <a:pt x="1560" y="1047"/>
                  </a:lnTo>
                  <a:lnTo>
                    <a:pt x="1582" y="1122"/>
                  </a:lnTo>
                  <a:lnTo>
                    <a:pt x="1609" y="1074"/>
                  </a:lnTo>
                  <a:lnTo>
                    <a:pt x="1636" y="1128"/>
                  </a:lnTo>
                  <a:lnTo>
                    <a:pt x="1663" y="1085"/>
                  </a:lnTo>
                  <a:lnTo>
                    <a:pt x="1690" y="1144"/>
                  </a:lnTo>
                  <a:lnTo>
                    <a:pt x="1717" y="1085"/>
                  </a:lnTo>
                  <a:lnTo>
                    <a:pt x="1738" y="1139"/>
                  </a:lnTo>
                  <a:lnTo>
                    <a:pt x="1765" y="1085"/>
                  </a:lnTo>
                  <a:lnTo>
                    <a:pt x="1792" y="1128"/>
                  </a:lnTo>
                  <a:lnTo>
                    <a:pt x="1819" y="1074"/>
                  </a:lnTo>
                  <a:lnTo>
                    <a:pt x="1846" y="1133"/>
                  </a:lnTo>
                  <a:lnTo>
                    <a:pt x="1868" y="1074"/>
                  </a:lnTo>
                  <a:lnTo>
                    <a:pt x="1895" y="1144"/>
                  </a:lnTo>
                  <a:lnTo>
                    <a:pt x="1922" y="1101"/>
                  </a:lnTo>
                  <a:lnTo>
                    <a:pt x="1949" y="1149"/>
                  </a:lnTo>
                  <a:lnTo>
                    <a:pt x="1976" y="1106"/>
                  </a:lnTo>
                  <a:lnTo>
                    <a:pt x="1997" y="1166"/>
                  </a:lnTo>
                  <a:lnTo>
                    <a:pt x="2024" y="1112"/>
                  </a:lnTo>
                  <a:lnTo>
                    <a:pt x="2051" y="1166"/>
                  </a:lnTo>
                  <a:lnTo>
                    <a:pt x="2078" y="1117"/>
                  </a:lnTo>
                  <a:lnTo>
                    <a:pt x="2105" y="1160"/>
                  </a:lnTo>
                  <a:lnTo>
                    <a:pt x="2132" y="1117"/>
                  </a:lnTo>
                  <a:lnTo>
                    <a:pt x="2154" y="1171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2040" y="1943280"/>
              <a:ext cx="3419640" cy="2766960"/>
            </a:xfrm>
            <a:custGeom>
              <a:avLst/>
              <a:gdLst/>
              <a:ahLst/>
              <a:rect l="l" t="t" r="r" b="b"/>
              <a:pathLst>
                <a:path w="2154" h="1743">
                  <a:moveTo>
                    <a:pt x="0" y="0"/>
                  </a:moveTo>
                  <a:lnTo>
                    <a:pt x="27" y="226"/>
                  </a:lnTo>
                  <a:lnTo>
                    <a:pt x="54" y="518"/>
                  </a:lnTo>
                  <a:lnTo>
                    <a:pt x="76" y="734"/>
                  </a:lnTo>
                  <a:lnTo>
                    <a:pt x="103" y="831"/>
                  </a:lnTo>
                  <a:lnTo>
                    <a:pt x="130" y="885"/>
                  </a:lnTo>
                  <a:lnTo>
                    <a:pt x="157" y="890"/>
                  </a:lnTo>
                  <a:lnTo>
                    <a:pt x="184" y="939"/>
                  </a:lnTo>
                  <a:lnTo>
                    <a:pt x="205" y="934"/>
                  </a:lnTo>
                  <a:lnTo>
                    <a:pt x="232" y="939"/>
                  </a:lnTo>
                  <a:lnTo>
                    <a:pt x="259" y="950"/>
                  </a:lnTo>
                  <a:lnTo>
                    <a:pt x="286" y="982"/>
                  </a:lnTo>
                  <a:lnTo>
                    <a:pt x="313" y="977"/>
                  </a:lnTo>
                  <a:lnTo>
                    <a:pt x="340" y="1031"/>
                  </a:lnTo>
                  <a:lnTo>
                    <a:pt x="362" y="1041"/>
                  </a:lnTo>
                  <a:lnTo>
                    <a:pt x="389" y="1063"/>
                  </a:lnTo>
                  <a:lnTo>
                    <a:pt x="416" y="1074"/>
                  </a:lnTo>
                  <a:lnTo>
                    <a:pt x="443" y="1095"/>
                  </a:lnTo>
                  <a:lnTo>
                    <a:pt x="470" y="1095"/>
                  </a:lnTo>
                  <a:lnTo>
                    <a:pt x="491" y="1149"/>
                  </a:lnTo>
                  <a:lnTo>
                    <a:pt x="518" y="1166"/>
                  </a:lnTo>
                  <a:lnTo>
                    <a:pt x="545" y="1193"/>
                  </a:lnTo>
                  <a:lnTo>
                    <a:pt x="572" y="1209"/>
                  </a:lnTo>
                  <a:lnTo>
                    <a:pt x="599" y="1230"/>
                  </a:lnTo>
                  <a:lnTo>
                    <a:pt x="621" y="1214"/>
                  </a:lnTo>
                  <a:lnTo>
                    <a:pt x="648" y="1236"/>
                  </a:lnTo>
                  <a:lnTo>
                    <a:pt x="675" y="1225"/>
                  </a:lnTo>
                  <a:lnTo>
                    <a:pt x="702" y="1230"/>
                  </a:lnTo>
                  <a:lnTo>
                    <a:pt x="729" y="1241"/>
                  </a:lnTo>
                  <a:lnTo>
                    <a:pt x="756" y="1268"/>
                  </a:lnTo>
                  <a:lnTo>
                    <a:pt x="777" y="1274"/>
                  </a:lnTo>
                  <a:lnTo>
                    <a:pt x="804" y="1317"/>
                  </a:lnTo>
                  <a:lnTo>
                    <a:pt x="831" y="1322"/>
                  </a:lnTo>
                  <a:lnTo>
                    <a:pt x="858" y="1333"/>
                  </a:lnTo>
                  <a:lnTo>
                    <a:pt x="885" y="1338"/>
                  </a:lnTo>
                  <a:lnTo>
                    <a:pt x="907" y="1355"/>
                  </a:lnTo>
                  <a:lnTo>
                    <a:pt x="934" y="1338"/>
                  </a:lnTo>
                  <a:lnTo>
                    <a:pt x="961" y="1376"/>
                  </a:lnTo>
                  <a:lnTo>
                    <a:pt x="988" y="1382"/>
                  </a:lnTo>
                  <a:lnTo>
                    <a:pt x="1015" y="1403"/>
                  </a:lnTo>
                  <a:lnTo>
                    <a:pt x="1037" y="1409"/>
                  </a:lnTo>
                  <a:lnTo>
                    <a:pt x="1064" y="1425"/>
                  </a:lnTo>
                  <a:lnTo>
                    <a:pt x="1091" y="1409"/>
                  </a:lnTo>
                  <a:lnTo>
                    <a:pt x="1118" y="1425"/>
                  </a:lnTo>
                  <a:lnTo>
                    <a:pt x="1144" y="1409"/>
                  </a:lnTo>
                  <a:lnTo>
                    <a:pt x="1171" y="1409"/>
                  </a:lnTo>
                  <a:lnTo>
                    <a:pt x="1193" y="1414"/>
                  </a:lnTo>
                  <a:lnTo>
                    <a:pt x="1220" y="1441"/>
                  </a:lnTo>
                  <a:lnTo>
                    <a:pt x="1247" y="1441"/>
                  </a:lnTo>
                  <a:lnTo>
                    <a:pt x="1274" y="1479"/>
                  </a:lnTo>
                  <a:lnTo>
                    <a:pt x="1301" y="1484"/>
                  </a:lnTo>
                  <a:lnTo>
                    <a:pt x="1323" y="1500"/>
                  </a:lnTo>
                  <a:lnTo>
                    <a:pt x="1350" y="1506"/>
                  </a:lnTo>
                  <a:lnTo>
                    <a:pt x="1377" y="1506"/>
                  </a:lnTo>
                  <a:lnTo>
                    <a:pt x="1404" y="1479"/>
                  </a:lnTo>
                  <a:lnTo>
                    <a:pt x="1431" y="1500"/>
                  </a:lnTo>
                  <a:lnTo>
                    <a:pt x="1452" y="1506"/>
                  </a:lnTo>
                  <a:lnTo>
                    <a:pt x="1479" y="1533"/>
                  </a:lnTo>
                  <a:lnTo>
                    <a:pt x="1506" y="1549"/>
                  </a:lnTo>
                  <a:lnTo>
                    <a:pt x="1533" y="1570"/>
                  </a:lnTo>
                  <a:lnTo>
                    <a:pt x="1560" y="1560"/>
                  </a:lnTo>
                  <a:lnTo>
                    <a:pt x="1582" y="1581"/>
                  </a:lnTo>
                  <a:lnTo>
                    <a:pt x="1609" y="1565"/>
                  </a:lnTo>
                  <a:lnTo>
                    <a:pt x="1636" y="1565"/>
                  </a:lnTo>
                  <a:lnTo>
                    <a:pt x="1663" y="1576"/>
                  </a:lnTo>
                  <a:lnTo>
                    <a:pt x="1690" y="1603"/>
                  </a:lnTo>
                  <a:lnTo>
                    <a:pt x="1717" y="1608"/>
                  </a:lnTo>
                  <a:lnTo>
                    <a:pt x="1738" y="1635"/>
                  </a:lnTo>
                  <a:lnTo>
                    <a:pt x="1765" y="1635"/>
                  </a:lnTo>
                  <a:lnTo>
                    <a:pt x="1792" y="1641"/>
                  </a:lnTo>
                  <a:lnTo>
                    <a:pt x="1819" y="1651"/>
                  </a:lnTo>
                  <a:lnTo>
                    <a:pt x="1846" y="1662"/>
                  </a:lnTo>
                  <a:lnTo>
                    <a:pt x="1868" y="1646"/>
                  </a:lnTo>
                  <a:lnTo>
                    <a:pt x="1895" y="1684"/>
                  </a:lnTo>
                  <a:lnTo>
                    <a:pt x="1922" y="1695"/>
                  </a:lnTo>
                  <a:lnTo>
                    <a:pt x="1949" y="1695"/>
                  </a:lnTo>
                  <a:lnTo>
                    <a:pt x="1976" y="1684"/>
                  </a:lnTo>
                  <a:lnTo>
                    <a:pt x="1997" y="1689"/>
                  </a:lnTo>
                  <a:lnTo>
                    <a:pt x="2024" y="1684"/>
                  </a:lnTo>
                  <a:lnTo>
                    <a:pt x="2051" y="1695"/>
                  </a:lnTo>
                  <a:lnTo>
                    <a:pt x="2078" y="1673"/>
                  </a:lnTo>
                  <a:lnTo>
                    <a:pt x="2105" y="1673"/>
                  </a:lnTo>
                  <a:lnTo>
                    <a:pt x="2132" y="1705"/>
                  </a:lnTo>
                  <a:lnTo>
                    <a:pt x="2154" y="1743"/>
                  </a:lnTo>
                </a:path>
              </a:pathLst>
            </a:custGeom>
            <a:noFill/>
            <a:ln w="42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29240" y="504504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 [ms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3639960" y="3318120"/>
              <a:ext cx="162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mplitude correlation coeffic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2800" y="1746360"/>
              <a:ext cx="133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verage over TX posi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75400" y="1994040"/>
              <a:ext cx="978120" cy="58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75400" y="1994040"/>
              <a:ext cx="978120" cy="582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75400" y="199404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5400" y="257652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453520" y="1994040"/>
              <a:ext cx="144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475400" y="1994040"/>
              <a:ext cx="180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75400" y="257652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475400" y="1994040"/>
              <a:ext cx="180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5400" y="199404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75400" y="257652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453520" y="1994040"/>
              <a:ext cx="144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475400" y="1994040"/>
              <a:ext cx="180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8320" y="2011320"/>
              <a:ext cx="61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uoholahti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97960" y="214776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ikkilänti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12360" y="228600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irport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09120" y="2422440"/>
              <a:ext cx="5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irport 2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43800" y="2079720"/>
              <a:ext cx="1890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3800" y="2216160"/>
              <a:ext cx="1890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43800" y="2354400"/>
              <a:ext cx="189000" cy="14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43800" y="2500200"/>
              <a:ext cx="189000" cy="1800"/>
            </a:xfrm>
            <a:prstGeom prst="line">
              <a:avLst/>
            </a:prstGeom>
            <a:ln w="42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980160" y="565308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Note: Ruholahti and Heikkiläntie are Nokia office build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8FB-CE25-43B4-8D52-6506E5277D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AC Simulation Parameter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511280" y="1803240"/>
          <a:ext cx="650232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803240"/>
                    <a:ext cx="650232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E22-D71D-453A-A7A8-3C10BF6AA1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Nokia</cp:lastModifiedBy>
  <cp:lastPrinted>2000-09-14T22:18:45Z</cp:lastPrinted>
  <dcterms:modified xsi:type="dcterms:W3CDTF">2000-09-18T15:55:06Z</dcterms:modified>
  <cp:revision>126</cp:revision>
  <dc:subject>Submissions</dc:subject>
  <dc:title>Dynamic Channel Selection (DCS) Scheme for 802.11</dc:title>
</cp:coreProperties>
</file>