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7BA8-5090-4CC3-8219-89F49E356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9A2E-68A7-46BA-BCCD-74CF8493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C3D9-48E9-423D-9430-527AE0C1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54E9-5217-4CF4-86FC-1188573E5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1F3E-AEC8-427E-85A2-1681EE6D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47BF-37DA-4697-A098-D7FB0272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37C7-C6B3-409A-A473-D8A611C2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8A91-4052-4063-942E-ECB65692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5190-2113-4928-A223-A673B504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3FB1-695B-4BC7-9195-95D3DC53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5321-0B0C-4C60-89F1-3BC8E847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3320-2C76-4C40-9A06-9C241D05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182520"/>
            <a:ext cx="12193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cFarland, Chesson, Atheros Commun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6B1425E-84D8-4316-9086-B6F585B61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24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FS/TPC Propos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9528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g Chesson, greg@athero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McFarland, billm@athero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big_logo" descr=""/>
          <p:cNvPicPr/>
          <p:nvPr/>
        </p:nvPicPr>
        <p:blipFill>
          <a:blip r:embed="rId1"/>
          <a:stretch/>
        </p:blipFill>
        <p:spPr>
          <a:xfrm>
            <a:off x="2819520" y="914400"/>
            <a:ext cx="3352680" cy="303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D0B6-CA54-4555-B409-24A3269F56A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Method for TPC 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tatic T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mit power, to be consistent with ERC regulations, would be limited to 60.6 mW EI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hieve 3dB reduction from 200mW by always transmitting at lower po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mW (ERC limit) * 0.5 (for -3dB TPC) * 200/330 (BW req) = 60.6mW EI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FCC-style 50 mW transmitter with a 6dB gain cap is consistent with ERC reg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a 50mW mobile unit, .83 dB antenna gain results in 60.6mW EIRP (in the direction of antenna g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ypical mobile units have ~1.5dB antenna gain (70.6 EIR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50m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dB gain should be allowed, given that useful antennas would concentrate horizontal energy and reduce vertical radiation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E0A6-E42D-46A9-9197-A6BF511C767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the TPC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s reasonable performance in both central-control and distributed-control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, rather than dyna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TPC (DTPC) does not help inter-BSS interference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TPC not helpful for DC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TPC benefits for PCF are questionable since PCF relies on DC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PC applies to PCF uplink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s cost/complexity, limited bene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ificant IP issues to av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r to i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TPC more stable than DT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 suited to ad hoc or direct STA-STA trans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7D08-210E-4B08-BA49-207BCE4D4C7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F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-centric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channel power/bandwidth trading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TPC with antenna gain c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29DD-4408-4936-B66E-2FA30CE6B8C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RC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9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perlan 2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pos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FEB1-14E0-49A2-8582-855C9F25147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hieve ERC certification for 802.11a in European mar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fy and select technic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PHY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bby as a group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ropean regulatory bodies (CEPT, UK-R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.11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DBC3-5923-4CAB-A01E-1A1A7E2CC0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C DFS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evenly distribute spectrum use to reduce average transmitted power “seen” by satell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ary goal: avoid BSS inter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channels for interference with AP sensing and remote station sensing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vacant channel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BSS and stations to alternate channels when channel is degra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read 200mW EIRP/STA over 330 Mhz (14 channe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7ED7-CB8D-4626-A6C2-6985AEA3B0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FS Methods in the Hiperlan2 Spec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iled remote RSSI sen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modes of sensing/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procedure for channel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dor 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 for dynamic channel m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y (safe) notifica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ed by cut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d over 14 channels (330 Mhz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788D-BC0C-4C0F-BE65-F3DD704277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Approach  DFS/DCS -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 Channel Sen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 listens at start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s channel with least interference,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s randomly from vacant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hange needed in 802.11 MAC/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 moves all stations if channel degrad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opt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uld require new MGMT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relevant for BSS 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174B-3BA8-47C7-AE27-52D1D6E1AB7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Approach  DFS -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/Bandwidth Tr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1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de a regulatory option for FCC-style (200 MHz, 50mW/20MHz with antenna gain cap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e equal spreading across 330 MHz and 200 mW transmit power for equal spreading across 200 MHz and 50 mW transmit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stification for the power/bandwidth t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ing power spectral density is eve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o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the 200 MHz option.  (330MHz/200MHz)*(50mW/200mW) = 0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errestrial systems, adding antenna gain will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cre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ertically-transmitted power that might interfere with satellite syst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CC regulations were approved in U.S. to meet same satellite goa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8718-AAAA-49B8-A5F6-1382E40030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the Proposed DFS/DCS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 channel sensing and random channel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sing prevents buildup of energy in any one 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channel selection assures uniform channel occup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for vendor differentiation (e.g. methods to prevent inter-cell interfere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nefits of power/bandwidth tr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s the market need for lower-cost, lower-power devices that aren’t forced to operate over very wide frequency range and in the upper 1W b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s the market need for devices that can operate global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95A7-8F14-408E-8B0B-138B026EBDF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C TPC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: reduce total transmit power in primary service satellite footprint by 3dB (relative to 200 mW maximum transmit pow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low power when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maximum power only when necess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856F-2957-4285-9736-12B4D3C2FC4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Harry Worstell</cp:lastModifiedBy>
  <cp:lastPrinted>1998-02-10T13:28:06Z</cp:lastPrinted>
  <dcterms:modified xsi:type="dcterms:W3CDTF">2000-09-20T05:00:03Z</dcterms:modified>
  <cp:revision>39</cp:revision>
  <dc:subject/>
  <dc:title>No Slide Title</dc:title>
</cp:coreProperties>
</file>