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F16-E880-4C3A-813F-2D3457B1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42B-878C-4A24-AE46-81E49A40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2AC-0D2C-4815-8BCF-F03654A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6EA-7834-4595-B62A-268639F1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B0F-E698-46F0-AE2F-F391613E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7A8-BFB8-45A6-87C2-2E5015BA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E59-5AA1-4105-A87D-4846B11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31B-4EE1-48D0-8E38-DD7B563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7A2-EE5D-43CC-970F-AEF50E3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7CD-5CAD-4992-9954-EC411D3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045-AD19-46F7-9BFB-B0D2D33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A45-32A3-4D31-9894-3B626A9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04920" y="6095880"/>
          <a:ext cx="131112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31112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2636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451280" y="6474960"/>
            <a:ext cx="115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M. Kowalsk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2AA02E-C929-45F0-9453-DDE0CCE7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2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-2 High Rate Video over 13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Implications for 802.11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 Kowals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p Corpo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A2F-FB75-4A67-AE18-94226FBE7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MPEG2-TS Transfer 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MPEG2-TS data transfer defined in IEC61883 is shown be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362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100320"/>
            <a:ext cx="12189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00544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624560"/>
            <a:ext cx="609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10032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624560"/>
            <a:ext cx="6098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2456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624560"/>
            <a:ext cx="609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62456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4624560"/>
            <a:ext cx="6098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234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440" y="52722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5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9920" y="27338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96600" y="3002040"/>
            <a:ext cx="2556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48156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4840" y="4191120"/>
            <a:ext cx="198360" cy="40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22840" y="4191120"/>
            <a:ext cx="15264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1320" y="4191120"/>
            <a:ext cx="30312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603920" y="4191120"/>
            <a:ext cx="918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84600" y="4191120"/>
            <a:ext cx="25884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97120" y="4191120"/>
            <a:ext cx="3654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191120"/>
            <a:ext cx="609840" cy="40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5480" y="2362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46280" y="3809880"/>
            <a:ext cx="12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176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6760" y="3809880"/>
            <a:ext cx="230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32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236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6848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796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552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809880"/>
            <a:ext cx="1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481560"/>
            <a:ext cx="70164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4191120"/>
            <a:ext cx="7380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5480" y="3100320"/>
            <a:ext cx="12189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2840" y="310032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2840" y="348156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5240" y="3809880"/>
            <a:ext cx="12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660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65720" y="3809880"/>
            <a:ext cx="230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220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9132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674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1692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448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2840" y="3809880"/>
            <a:ext cx="1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4440" y="3481560"/>
            <a:ext cx="70164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2800" y="4440240"/>
            <a:ext cx="84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96960" y="4624560"/>
            <a:ext cx="469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8840" y="2163600"/>
            <a:ext cx="13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68480" y="2361960"/>
            <a:ext cx="9003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8720" y="2378160"/>
            <a:ext cx="90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1520" y="4898880"/>
            <a:ext cx="6048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1560" y="5272200"/>
            <a:ext cx="146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57A-FB03-4962-BCDB-DD5F9B055D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 Packet Transmission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jitter is assumed to be about 311 ms on transmit, and 50ms from real time interface, from IEC 61883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657520"/>
          <a:ext cx="6096240" cy="3286080"/>
        </p:xfrm>
        <a:graphic>
          <a:graphicData uri="http://schemas.openxmlformats.org/drawingml/2006/table">
            <a:tbl>
              <a:tblPr/>
              <a:tblGrid>
                <a:gridCol w="2975040"/>
                <a:gridCol w="312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S Packet /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mission rate (Mb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,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80F-696F-4908-8F79-D7665FC75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3200" y="4419720"/>
            <a:ext cx="597060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 header and 1394 header is applied to each isochronous pa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P header is defined in IEC61883 standard, 1394 header is defined in IEEE1394 stand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ource packet header is applied to each TS pa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0" y="335268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EE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388620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73200" y="4419720"/>
            <a:ext cx="5970600" cy="53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acket header (shown in each TS pack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73200" y="571500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88A-CF42-4BC0-AC41-EAADA925F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523880" y="1981080"/>
            <a:ext cx="6096240" cy="2617920"/>
            <a:chOff x="1523880" y="1981080"/>
            <a:chExt cx="6096240" cy="2617920"/>
          </a:xfrm>
        </p:grpSpPr>
        <p:sp>
          <p:nvSpPr>
            <p:cNvPr id="176" name=""/>
            <p:cNvSpPr/>
            <p:nvPr/>
          </p:nvSpPr>
          <p:spPr>
            <a:xfrm>
              <a:off x="1523880" y="1981080"/>
              <a:ext cx="60962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4141800"/>
              <a:ext cx="60962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3352680"/>
            <a:ext cx="6096240" cy="78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4382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eader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4707000"/>
            <a:ext cx="74379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length: data block payload length 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ag: high level label for format of data. 01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is defined as CIP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hannel: isochronous channel 6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code: transaction code. Ah is defined as isochronous data b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y: Application-specific control field. (4 bits synch. c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81080"/>
            <a:ext cx="304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98108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98108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81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1981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414180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aded field is defined by IEEE1394 (4 bytes/lin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8954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AFE-0C42-48EC-B55A-22DC7E5F29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3880" y="2362320"/>
            <a:ext cx="6096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59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3623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23623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3623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3623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362320"/>
            <a:ext cx="571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24560" y="23623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3623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8195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8195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2819520"/>
            <a:ext cx="4572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8160"/>
            <a:ext cx="7772400" cy="15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aded field is defined by IEC61883. (4 bytes/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243080" y="4508640"/>
            <a:ext cx="334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: Sender nod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: Data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: Fraction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: Quadlet padding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(s): Source Pack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5320" y="4508640"/>
            <a:ext cx="33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: Data Block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: Forma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DF: Format Dependen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: 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276720"/>
            <a:ext cx="609624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190512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0384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3623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B46-D7A5-4F10-98A8-8CDE4C6FBC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MPEG2-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field is defined as the followings for MEPG2-TS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D: depends on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S: 0000011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6quadlets = 24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: 11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8 data blocks in one source pack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PC: 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 pad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: 1 when source packet header is pres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C: 0 … 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T: 100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Format type of MPEG2-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F: For MPEG2-TS transfer, most significant bit is defined as TSF, others are reserved. TSF indicates a time shifted data stream (1: the stream is time shifted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2A9-A107-416C-ADAD-29CF1FC8E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Packet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124080"/>
            <a:ext cx="133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15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4bytes Source Packet Header i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e time stamp in the source packet header is used by isochronous data receivers for reconstructing a correct timing of the TSPs at their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124080"/>
            <a:ext cx="2286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ycle_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57680" y="3124080"/>
            <a:ext cx="2476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cle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365760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7680" y="365760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3657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657600"/>
            <a:ext cx="13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57680" y="3657600"/>
            <a:ext cx="24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682-1A75-482F-9B1C-277DDE27C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06344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V video, audio data consists of 80 bytes (Digital Interface) DIF blo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DIF sequence consists of 150 DIF bloc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video frame consists of 10 DIF sequences (in case of NTSC) See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humpchange.com/parkplace/Video/DVPapers/dv_formt.htm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.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438280" y="3718080"/>
          <a:ext cx="4114800" cy="730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438280" y="4708440"/>
          <a:ext cx="4114800" cy="730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278240" y="425124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524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730840"/>
          <a:ext cx="41148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877800" y="41893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 Sequen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3718080"/>
            <a:ext cx="247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3870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29400" y="4937040"/>
            <a:ext cx="247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77800" y="5713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 Sequenc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573084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629400" y="5927400"/>
            <a:ext cx="247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54880" y="4509000"/>
            <a:ext cx="54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9000" y="371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2520" y="41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12680" y="5729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68480" y="4509000"/>
            <a:ext cx="54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4640" y="321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124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45000" y="31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D2A-B584-4050-BDF2-49AB1765B8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DV Transf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 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18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DV Data transfer defined in IEC61883 is shown be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4719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409104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409104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09104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104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09104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409104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4700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440" y="47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5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405240"/>
            <a:ext cx="60984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38148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340524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4052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619760" y="340524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00440" y="340524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62520" y="340524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43200" y="34052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3024360"/>
            <a:ext cx="1676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9000" y="3935520"/>
            <a:ext cx="84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132440"/>
            <a:ext cx="38088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024360"/>
            <a:ext cx="1676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02436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019320"/>
            <a:ext cx="1676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1520" y="4343400"/>
            <a:ext cx="6048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4716360"/>
            <a:ext cx="146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386-8161-4CB3-AA97-8A7FD7DC86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Rate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V video rate is calculated by the follow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data size of one video fr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 (byte/DIF block) * 150 (DIF block/DIF sequence) * 10 (DIF sequence/video frame) = 120,000 by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0,000 (bytes/video frame) * 29.97 (frame/s;NTS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3.43 (MB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= 27.44 (M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M = 1024*10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EDB-22AD-48D6-B9F8-92476C0C87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EG-2 High Rate Video and Transport Stream Description (1394/ IEC 61883-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, Jitter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for 1394 AV over 802.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: Formats for 1394/IEC61883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0EC-BA3F-44F2-8089-367EA4684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3962520"/>
            <a:ext cx="6096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39625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39625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39625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3962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962520"/>
            <a:ext cx="571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24560" y="39625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9625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44197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44197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44197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4419720"/>
            <a:ext cx="304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T(Timestamp for DV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31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1394 isochronous header of DV transfer is the same as the one of MPEG2-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CIP header of DV transfer, the SYT field is defined. Other fields are the same as MPEG2-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packet is not used since time stamp is applied as SY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350532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56386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9625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44197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38560" y="4419720"/>
            <a:ext cx="952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4952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9800" y="491508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DF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038-D7BA-4762-88B3-794E163AC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field is defined as the followings for SD-DVCR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D: depends on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S: 01111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20quadlets = 480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: 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 divi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PC: 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 pad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: 0 (no source packet is u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C: 0 … 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T: 000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Format type of SD-DVC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/60: Field system (0: 60 field, 1: 50 fiel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PE: Signal type of video sig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T: Time stamp of the video frame synchron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1A2-08AF-45E3-B57F-DB37229EBA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Rate of 1394 trans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9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V data is transferred in every 125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ferred DV data consists of 1394 header (12 bytes), CIP header (8 bytes) and DV data (480 byt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data packet size = 12+8+480 = 500 (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bytes) / 125 (us) = 4(MB/s)</a:t>
            </a:r>
            <a:br>
              <a:rPr sz="2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= 32 (M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M = 1024*10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465-7CF1-42CF-95D0-0DF5144C4E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Criteria Group identified high rate MPEG as a data stream type for use in 802.11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ate MPEG is closely tied to 1394, and IEC 61883-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94, although not strictly part of requirements, is  “nice to have” capability for 11e propos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 this summary of high rate MPEG via 1394/IEC 61883-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AB2-3375-4EB1-993C-EEB6425FAE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2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EG2 ensures the data rate of 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S, the actual data rate of one transponder is, for HDTV-like video 29.2Mb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BS Digital, the actual data rate of one transponder is 26.085Mb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reams are included in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Mbps – 6 Mbps is used for bit rate of one chann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DTV, one channel uses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2Mbps is required as the data r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24Mbps is upper limit because of their overh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 requirement: 1394/IEC61883-4 use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sochronous, fixed length packet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08E-6AC1-42B4-A871-9D9D645F2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 Packet Transmission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374840"/>
            <a:ext cx="77724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jitter is assumed to be about 3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on transmit, and 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from real time interface, from IEC 61883-4. Latency arbitrated in 13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5280" y="2657520"/>
            <a:ext cx="6096240" cy="3286080"/>
            <a:chOff x="1295280" y="2657520"/>
            <a:chExt cx="6096240" cy="3286080"/>
          </a:xfrm>
        </p:grpSpPr>
        <p:sp>
          <p:nvSpPr>
            <p:cNvPr id="58" name=""/>
            <p:cNvSpPr/>
            <p:nvPr/>
          </p:nvSpPr>
          <p:spPr>
            <a:xfrm>
              <a:off x="4270320" y="557856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,1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557856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70320" y="521352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8,1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5280" y="521352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0320" y="484848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6,0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484848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70320" y="4483080"/>
              <a:ext cx="312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4,0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95280" y="4483080"/>
              <a:ext cx="297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0320" y="411804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,0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5280" y="411804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70320" y="375300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,0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5280" y="375300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70320" y="338796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,0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338796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70320" y="3022560"/>
              <a:ext cx="312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,5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3022560"/>
              <a:ext cx="297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70320" y="265752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ransmission rate (Mb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265752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S Packet /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95280" y="2657520"/>
              <a:ext cx="609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95280" y="5943600"/>
              <a:ext cx="609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95280" y="2657520"/>
              <a:ext cx="0" cy="3286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2657520"/>
              <a:ext cx="0" cy="3286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70320" y="2657520"/>
              <a:ext cx="0" cy="32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30225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280" y="3387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375300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95280" y="41180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44830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95280" y="48484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1352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55785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ECC-3338-4872-B036-5985402E4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 for 1394 AV over 802.11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94/6883-4 wants to see isochronous streams. So a lean  (low overhead, not complex) PCF is a mu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packet sizes of constant length (480 bytes +24 bytes O/H).  With Breezecom’s (nonoptimized?) estimates for efficien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ocument 99-256) an efficiency of at best 47% can be expected in the PCF, for 400 by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ing must be applied to compensate for 802.11 behavior which breaks the standard (as a recommended practic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6A6-B7F8-48F8-9222-D573B9266B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 for 1394 AV over 802.11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7724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ow to transfer the QoS information? Must map 1394 information into 802.1p/q priority t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ow to allocate the bandwidth, ji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fficiency- how best to format over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 save requirements for portable AV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When does the equipment transfer the st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ow to poll the equipments that is sleep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30C-8290-4538-B533-536C2DD92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: Formats for 1394/IEC61883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E20-E100-495F-A0ED-8592EC9665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MPEG2-TS Trans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PEG2-TS transfer sequence is defined in IEC61883 stand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ource packet header (4bytes) is applied to each transport stream (TS) packet (188bytes). (Source packet header consists of Reserved field (7bits), cycle count (13 bits), cycle_offset (12 bits). These field is used as time stamp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ource packet (comprising  source packet header and TS packet) is divided to each data block (24byt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everal data blocks are put into one isochronous pack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mmon Isocrhonous Packet (CIP)  header and IEEE1394 header are applied to each isochronous pack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he isochronous packet is transferr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mpty packet (composed only CIP and 1394 Header) is transferred when there is no data to be transferr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B66-6349-4B00-B70C-F53714710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07:44:12Z</dcterms:created>
  <dc:creator>Terada</dc:creator>
  <dc:description/>
  <dc:language>en-US</dc:language>
  <cp:lastModifiedBy>John Kowalski</cp:lastModifiedBy>
  <cp:lastPrinted>2000-09-15T16:24:52Z</cp:lastPrinted>
  <dcterms:modified xsi:type="dcterms:W3CDTF">2000-09-19T15:37:33Z</dcterms:modified>
  <cp:revision>26</cp:revision>
  <dc:subject/>
  <dc:title>Video Format</dc:title>
</cp:coreProperties>
</file>