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CA9-6A23-4ADC-AF7E-40571F3B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30B-3EAA-497E-A512-F7706521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3EA-1210-4932-B254-8E29B057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283-E6C2-4CD8-90C9-060E54A8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E56-E2BB-44A2-BAA3-545604A8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529-40E4-492E-9644-0BEBB42A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AD8-FDA4-4956-97CD-4FAC7F4F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0D4-17ED-4EA1-A032-78BCF0E0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A9E-4A67-4132-99C9-88897C92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2C5-7DB1-4618-A478-D3B6730F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A22-3E9C-45D8-BF6A-5744D2B5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1842-59F3-4420-AF64-C3D7D1C6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Shoemake,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493B8F6-0274-4842-8A48-B94AD1461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Rate 802.11b Stud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to Full Working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tember 18, 2000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45720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 B. Shoemake, Chairperson HRbS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emake@ti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F9B-8ED1-409D-B730-DEE839C5AE6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ter Ballot #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ter Ballot contained on motion to reaffirm 802.11 support of the PAR for extension of 802.11b to higher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ed on vote of 70-0-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cipate final approval by IEEE SA on Thursday, September 21, 2000 at which point TGg will officially b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1A4-814D-4C0D-83C5-9C30321A44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RbSG Conference Ca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fully completed series of four conference calls between July 2000 and September 2000 sessions of the 802.11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d draft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Procedure: 00-209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Requirements: 00-210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 Criteria: 00-211r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963-5A17-4BC5-961D-051D692161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LB #23, specifically YES WITH COMMENTS 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 Selection Procedure, Functional Requirements, and Comparis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liaisons with regulatory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liaisons with other standards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35C-1EFE-4E38-B5F2-0E3B4AA596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sion Objectives (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for multipath and phase noi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formal call for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 complete all work required to allow formal presentation of proposals at the November 2000 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536-FDD6-4842-AD7F-5773E1DC94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shoemake</cp:lastModifiedBy>
  <cp:lastPrinted>1998-02-10T13:28:06Z</cp:lastPrinted>
  <dcterms:modified xsi:type="dcterms:W3CDTF">2000-09-18T15:40:58Z</dcterms:modified>
  <cp:revision>27</cp:revision>
  <dc:subject/>
  <dc:title>No Slide Title</dc:title>
</cp:coreProperties>
</file>