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575-ADFE-41B1-A573-3CA9F51D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6B7-059D-4401-9DD2-D6C46B9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AA5-BC04-4510-BBF9-8BA4FFC4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90D-0223-45F4-A857-1F752EA9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7EB-10D7-4230-AE84-74618C14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1FE-1F4D-49A8-8027-7A6F83DE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234-8449-4BA2-A8FE-C5FE7376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1E7-6F14-4AAB-8A74-D4494F0C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38F-DA8E-4BDA-A51B-0ED1B78E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4F4-2712-4138-9B97-35ABCDCA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297-46BF-455C-82B8-BE554F5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E8E-A9CD-4D71-8163-C8EE49DB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EAD1A1-7919-4ED0-994C-533C8EDCC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ate 802.11b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tember 18-22,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emake@t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3A9-A680-46FA-80DA-7CA59CF3FC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ment of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July 2000 Meeting – Doc.: 00/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YES WITH COMMENTS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422-EF01-4600-8829-DBAB56D613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Old Business 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tus of press release – 00/217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results of conference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utes 00/25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revi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ion Procedure – 00/209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 Requirements – 00/210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rison Criteria – 00/211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ath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Noi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Procedure, Functional Requirements and Comparison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 related sub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00/209r2, 00/210r3, 00/211r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tain motions to adopt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liaison with FCC and other regulatory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EE7-5049-4B94-8EA4-CFEBEB69BC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 reaches final approval and TGg is formed, entertain motion to accept HRbSG work and 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of  remaining sub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etermine cut-off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26B-7B98-4A73-8878-59C88A277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New Business Cont’d.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liaison with and entertain motions related to liais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CC34 - Electromagnetic Energy Product Performanc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TC106 – Testing Instrumentation and Methods for Measuring Electronic and Magnetic Fields Associated with Huma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008-5034-43DC-BEA2-AFA297C4AE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3:30 PM – 5:3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8:00 AM – 10:0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3:30 PM – 5:3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C6A-5E8B-46B7-B8A5-BA16DB9498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18T18:54:30Z</dcterms:modified>
  <cp:revision>28</cp:revision>
  <dc:subject/>
  <dc:title>No Slide Title</dc:title>
</cp:coreProperties>
</file>