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78DE-EAC4-424D-8642-ABF709428E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F43B-B8BB-4B95-ADA4-E6CDAA45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70CE-A5FD-4A5F-B795-C1F52E1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58C39-ABA5-4660-B743-EE5807BB46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81AE-3AFA-4884-A7CF-CEE3E95D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66595-68F2-42EE-B743-F0AD434D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96E2F-BFC9-43CB-85D7-6FAE557F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E1FF-3C47-4C8F-9FD6-0C787AD2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8310-D9C4-4F59-BC19-D043B0A5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1257-AC12-4207-B22F-39CB5585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ECFF-3A41-4981-8196-28D008F5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D4284-6D87-462A-B4E3-5EDD25CC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B441206-639C-49D7-AE96-F3E276A2E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86400" y="647676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647676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General Overview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IEEE 802.11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WLAN Standard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C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Sense Multiple Access with Collision Avoidance (CSMA/C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structure Network (Access Po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-Hoc Network (No Access Po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 (ARQ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 Sav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reless Equivalent Privacy (W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-bit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HSS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 ISM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or 4 level Gaussian F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9 chann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pping Rate &gt; 2.5 hops/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Watt maximum (100 - 500 mW typic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SSS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 ISM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ial Binary and Quadrature P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ing Gain: 11 chips per b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20 MHz channels in ISM B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Watt maximum (100 - 500 mw typic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0556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11 Mbps in 2.4 GHz - IEEE 802.11b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to original DS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s 5.5 and 11 Mbps m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compatible with original DS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omplementary Code Keying  (CCK)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acket Binary Convolution Coding (PBCC) as an optional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channels within 2.4 GHz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Existing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9328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4 Mbps in 5 GHz – IEEE 802.11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s in the U-NII 5 GHz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Orthogonal Frequency Division Multiplexing (OFDM)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on multiple sub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data rates depending on modulation on subcarriers and F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s from 6 to 54 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Existing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280" y="76212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moter Organiz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 Ethernet Compatibility Alliance (WE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-Fi cer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ensure interoperability between multi-vendor products compliant to IEEE 802.11b 2.4 GHz 11 Mbp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TSI 5GHz Co-Ordination &amp; Harmon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New Develop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Enhancements (T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Quality of Service to support time-bounded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hance Security beyond W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Access Protocol (TG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a standard protocol between access points to support features like roaming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Rate Study Group HRb S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 2.4 GHz system to &gt; 20 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ngs to ad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ical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– general co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erence – BT – portable telephone ?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ty issues in the 2.4GHz – 5GHz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beyond current activiti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pectrum higher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W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-exist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0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of IEEE 8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IEEE 802.11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Developments within IEEE 802.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SI Cooperation/Harmo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stry Promoter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Standards Assoc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1828800"/>
            <a:ext cx="8458200" cy="4495680"/>
            <a:chOff x="380880" y="1828800"/>
            <a:chExt cx="8458200" cy="4495680"/>
          </a:xfrm>
        </p:grpSpPr>
        <p:sp>
          <p:nvSpPr>
            <p:cNvPr id="94" name=""/>
            <p:cNvSpPr/>
            <p:nvPr/>
          </p:nvSpPr>
          <p:spPr>
            <a:xfrm>
              <a:off x="3000240" y="4572000"/>
              <a:ext cx="3733920" cy="17524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29040" y="4724280"/>
              <a:ext cx="19051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81440" y="5257800"/>
              <a:ext cx="217656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 (1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81400" y="5791320"/>
              <a:ext cx="3186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TING MEMBERSHIP (5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4129200"/>
              <a:ext cx="168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IEEE 8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73080" y="39258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N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8880" y="4572000"/>
              <a:ext cx="99072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34320" y="5562720"/>
              <a:ext cx="167616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O/I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TC1/S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943600" y="4876560"/>
              <a:ext cx="1295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600" y="5410080"/>
              <a:ext cx="9907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25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2743200"/>
              <a:ext cx="243828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E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ESS RELE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79640" y="1982880"/>
              <a:ext cx="224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CIETY S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334120" y="3886200"/>
              <a:ext cx="22860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98920" y="2819520"/>
              <a:ext cx="243828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SCOM – PA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VCOM – ST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49880" y="2438280"/>
              <a:ext cx="28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-SA STDS B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67000" y="1828800"/>
              <a:ext cx="31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-SA BD OF 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41920" y="22384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880" y="4495680"/>
              <a:ext cx="213372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BLIS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MSC BALLO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720" y="3762360"/>
              <a:ext cx="177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 ST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981080" y="3962160"/>
              <a:ext cx="1447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514600" y="4876920"/>
              <a:ext cx="1447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514240" y="5181120"/>
              <a:ext cx="7621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14600" y="5181120"/>
              <a:ext cx="1295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920" y="3962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Established in 1884 (AIEE &amp; I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December 1999 Membership was 360,000; 66% USA &amp; 33% Non-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produces 30 percent of the world's published literature in electrical engineering, computers and control 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holds annually more than 300 major conferences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has more than 800 active standards with 700 under develop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60520" y="1797120"/>
          <a:ext cx="62578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7120"/>
                    <a:ext cx="62578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474240" y="274320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ve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391320" y="487836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Group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163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2544840"/>
            <a:ext cx="304560" cy="30456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600" y="210168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6280" y="251460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Hiber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6120" y="2925720"/>
            <a:ext cx="304920" cy="3049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9600" y="28954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Disb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306600"/>
            <a:ext cx="304560" cy="304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1520" y="3244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EEE 802.11 Organization Char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23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IEEE 802.11 Proje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33720" y="1411200"/>
            <a:ext cx="41670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 of IEEE 80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e IEEE 802 to develop consensus standards that benefits the World Wide Networked Soci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the imperative principals of due process, consensus, openness, balance and rights of app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distribution of standa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rrent IEEE 802.11 Stand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reless Local Area Networks (W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 Access Control (MAC)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includes five Physical (PHY)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2Mbps Frequency Hopping Spread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2Mbps Direct Sequence Spread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2Mbps 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Mbps in 2.4 G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4 Mbps in 5 G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2:19:01Z</dcterms:created>
  <dc:creator>Al Petrick</dc:creator>
  <dc:description/>
  <dc:language>en-US</dc:language>
  <cp:lastModifiedBy>Al Petrick</cp:lastModifiedBy>
  <cp:lastPrinted>2000-07-31T18:27:51Z</cp:lastPrinted>
  <dcterms:modified xsi:type="dcterms:W3CDTF">2000-11-07T18:49:24Z</dcterms:modified>
  <cp:revision>174</cp:revision>
  <dc:subject/>
  <dc:title>0288r18W-802-11-Marketing-802-11-presentation</dc:title>
</cp:coreProperties>
</file>