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CE796-4A6E-4EE7-85CB-AE272546F5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4D101-F711-4B80-9AE3-8E2999D9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E259C-F1A9-426A-AE78-E08FE104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A0D6-5564-4070-AA76-9E8D84DF98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6F085-DE6C-4FDC-B5DF-25DEF573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27272-236A-4BAC-8D1B-1F0DA8D2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F4E24-AEE1-4240-BAAF-0109FC57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BFF1-B073-4EA6-ABD3-AA614AAB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666C4-B88E-4D0A-B9F5-5B15CB9F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774FD-2DE4-432A-846F-3E320C88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78D8A-6EE2-4C5C-97D6-C742BB97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43AF4-F66E-4210-9103-BE5AC22A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63E41D7-4AC8-4820-9531-6BC0D4DA6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486400" y="6476760"/>
            <a:ext cx="297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6476760"/>
            <a:ext cx="297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General Overview</a:t>
            </a:r>
            <a:br>
              <a:rPr sz="3600"/>
            </a:b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IEEE 802.11</a:t>
            </a:r>
            <a:br>
              <a:rPr sz="3600"/>
            </a:b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WLAN Standard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C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Sense Multiple Access with Collision Avoidance (CSMA/C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structure Network (Access Poi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-Hoc Network (No Access Poi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 (ARQ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 Sav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reless Equivalent Privacy (WE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4-bit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HSS Physical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1780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4 GHz ISM B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and 2 M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or 4 level Gaussian F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9 chann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pping Rate &gt; 2.5 hops/se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Watt maximum (100 - 500 mW typic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SSS Physical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01780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4 GHz ISM B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and 2 M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ial Binary and Quadrature P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ing Gain: 11 chips per b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20 MHz channels in ISM B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Watt maximum (100 - 500 mw typic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30556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11 Mbps in 2.4 GHz - IEEE 802.11b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to original DS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s 5.5 and 11 Mbps m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compatible with original DS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omplementary Code Keying  (CCK)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acket Binary Convolution Coding (PBCC) as an optional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channels within 2.4 GHz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Existing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9328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54 Mbps in 5 GHz – IEEE 802.11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s in the U-NII 5 GHz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Orthogonal Frequency Division Multiplexing (OFDM)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on multiple subcarr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data rates depending on modulation on subcarriers and F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s from 6 to 54 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Existing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4280" y="76212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moter Organiz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 Ethernet Compatibility Alliance (WEC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-Fi cer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ensure interoperability between multi-vendor products compliant to IEEE 802.11b 2.4 GHz 11 Mbp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TSI 5GHz Co-Ordination &amp; Harmon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New Develop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Enhancements (T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Quality of Service to support time-bounded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hance Security beyond W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Access Protocol (TG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a standard protocol between access points to support features like roaming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Rate Study Group HRb S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 2.4 GHz system to &gt; 20 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ngs to ad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ical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– general co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erence – BT – portable telephone ?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ty issues in the 2.4GHz – 5GHz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beyond current activitie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pectrum higher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W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-exist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70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 of IEEE 8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IEEE 802.11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Developments within IEEE 802.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SI Cooperation/Harmo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stry Promoter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Standards Associ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1828800"/>
            <a:ext cx="8458200" cy="4495680"/>
            <a:chOff x="380880" y="1828800"/>
            <a:chExt cx="8458200" cy="4495680"/>
          </a:xfrm>
        </p:grpSpPr>
        <p:sp>
          <p:nvSpPr>
            <p:cNvPr id="94" name=""/>
            <p:cNvSpPr/>
            <p:nvPr/>
          </p:nvSpPr>
          <p:spPr>
            <a:xfrm>
              <a:off x="3000240" y="4572000"/>
              <a:ext cx="3733920" cy="17524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29040" y="4724280"/>
              <a:ext cx="19051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a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81440" y="5257800"/>
              <a:ext cx="217656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 (1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81400" y="5791320"/>
              <a:ext cx="3186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TING MEMBERSHIP (5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5840" y="4129200"/>
              <a:ext cx="168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IEEE 8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73080" y="392580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ON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38880" y="4572000"/>
              <a:ext cx="99072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 T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34320" y="5562720"/>
              <a:ext cx="167616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SO/I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TC1/S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943600" y="4876560"/>
              <a:ext cx="1295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600" y="5410080"/>
              <a:ext cx="9907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6080" y="5257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2743200"/>
              <a:ext cx="243828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E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ESS RELEA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U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79640" y="1982880"/>
              <a:ext cx="224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CIETY S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334120" y="3886200"/>
              <a:ext cx="22860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98920" y="2819520"/>
              <a:ext cx="243828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SCOM – PA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VCOM – ST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T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49880" y="2438280"/>
              <a:ext cx="28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EEE-SA STDS B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67000" y="1828800"/>
              <a:ext cx="31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EEE-SA BD OF 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41920" y="22384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0880" y="4495680"/>
              <a:ext cx="213372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BLISH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MSC BALLO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9720" y="3762360"/>
              <a:ext cx="177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EEE ST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981080" y="3962160"/>
              <a:ext cx="1447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514600" y="4876920"/>
              <a:ext cx="1447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2514240" y="5181120"/>
              <a:ext cx="7621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514600" y="5181120"/>
              <a:ext cx="1295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6920" y="39625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Established in 1884 (AIEE &amp; I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December 1999 Membership was 360,000; 66% USA &amp; 33% Non-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produces 30 percent of the world's published literature in electrical engineering, computers and control technolog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holds annually more than 300 major conferences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has more than 800 active standards with 700 under develop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60520" y="1797120"/>
          <a:ext cx="62578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7120"/>
                    <a:ext cx="62578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474240" y="2743200"/>
            <a:ext cx="20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ive Offic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391320" y="4878360"/>
            <a:ext cx="27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Group Offic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163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2544840"/>
            <a:ext cx="304560" cy="30456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2600" y="2101680"/>
            <a:ext cx="10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6280" y="251460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Hiber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6120" y="2925720"/>
            <a:ext cx="304920" cy="3049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9600" y="28954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Disba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306600"/>
            <a:ext cx="304560" cy="304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1520" y="3244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EEE 802.11 Organization Char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232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IEEE 802.11 Projec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33720" y="1411200"/>
            <a:ext cx="41670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 of IEEE 80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e IEEE 802 to develop consensus standards that benefits the World Wide Networked Socie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the imperative principals of due process, consensus, openness, balance and rights of appe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 distribution of standar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rrent IEEE 802.11 Stand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reless Local Area Networks (W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 Access Control (MAC)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ly includes five Physical (PHY)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– 2Mbps Frequency Hopping Spread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– 2Mbps Direct Sequence Spread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– 2Mbps 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Mbps in 2.4 G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4 Mbps in 5 G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02:19:01Z</dcterms:created>
  <dc:creator>Al Petrick</dc:creator>
  <dc:description/>
  <dc:language>en-US</dc:language>
  <cp:lastModifiedBy>Harry Worstell</cp:lastModifiedBy>
  <cp:lastPrinted>2000-07-31T18:27:51Z</cp:lastPrinted>
  <dcterms:modified xsi:type="dcterms:W3CDTF">2000-09-22T17:44:25Z</dcterms:modified>
  <cp:revision>172</cp:revision>
  <dc:subject/>
  <dc:title>0288W-802-11-Marketing-802-11-presentation</dc:title>
</cp:coreProperties>
</file>