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E2E-6DF5-4C54-A1C5-18726214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57B-B7B3-4B71-BFC8-31F313EF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9FA-E234-47A4-8AA1-42C09AFC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284-1C6B-4B34-916C-5EB64A2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966-BBAB-45B1-89D4-FD3A130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C83-2AAA-459A-A3FD-FB72AD9B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201-8693-48A2-A7D9-2BB54B5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44E-1E81-4ABC-A3CC-BB1DCFAC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C7E-10A9-4E2F-A4BB-A8D65658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A74-142A-4E67-8C32-FF99AB8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DF9-FD44-48C9-B6F1-81A78CF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41F-C42A-4A7C-87E5-6F23D5B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05680" y="6474960"/>
            <a:ext cx="15048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7B8617-03B8-43C0-BBC4-3747CBBB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cius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Mark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an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585-3C01-4B2D-9390-01D8A47763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for November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raft of 802.11 marketing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WLAN market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ing as a joint .11/.15 marketing col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F73-35FF-4571-BB8A-FE96C01BEC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(WLAN) – 802.15(WPAN) market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rketing 802.11 marketing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LA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WLAN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bodies, Promo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publication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456-753A-43AA-8453-FF98296741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Activ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969920"/>
            <a:ext cx="6879600" cy="3363120"/>
            <a:chOff x="609480" y="1969920"/>
            <a:chExt cx="6879600" cy="3363120"/>
          </a:xfrm>
        </p:grpSpPr>
        <p:grpSp>
          <p:nvGrpSpPr>
            <p:cNvPr id="51" name=""/>
            <p:cNvGrpSpPr/>
            <p:nvPr/>
          </p:nvGrpSpPr>
          <p:grpSpPr>
            <a:xfrm>
              <a:off x="609480" y="1969920"/>
              <a:ext cx="2590560" cy="2228400"/>
              <a:chOff x="609480" y="1969920"/>
              <a:chExt cx="2590560" cy="2228400"/>
            </a:xfrm>
          </p:grpSpPr>
          <p:sp>
            <p:nvSpPr>
              <p:cNvPr id="52" name=""/>
              <p:cNvSpPr/>
              <p:nvPr/>
            </p:nvSpPr>
            <p:spPr>
              <a:xfrm>
                <a:off x="609480" y="1969920"/>
                <a:ext cx="2590560" cy="20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0680" y="1969920"/>
                <a:ext cx="2412000" cy="22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EEE 802.11 W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Website mater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Liais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Conferen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Trade journa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Press rele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3581280" y="3188880"/>
              <a:ext cx="2209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1400" y="32796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7640" y="2122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790600" y="3646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8800" y="3295440"/>
              <a:ext cx="170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 WP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0040" y="30366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9031800">
              <a:off x="1969920" y="3039480"/>
              <a:ext cx="41140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90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9095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C19-3292-4FDA-BF67-8E69BC03BF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LAN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quest-G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st-Sull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nke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hners – In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ure development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F83-FDA9-49B2-ABEE-4F55FEC238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coming 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120" y="13716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– leader – Al Pet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5-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ago,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ld Inte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5-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eraton BrookHollow 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nsor: 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25-2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llas,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ciu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dex - LasV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ember 13-1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6F7-C1AD-4EE5-B0F6-CE346D630B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– Jim Zy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A 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AC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E7A-969B-492F-A751-2821CA4A1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– coordinator -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s Systems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nd Protocols -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FAC-742B-43F4-8E8D-FD18FF128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s Relations Analy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– lead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k M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s System Design M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 Kee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quest-G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 Brul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A42-DE20-4F34-90DE-8D51D3DFCC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first draft of 802.11 overview doc: 00/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collaborated with 802.15 marketing group on marketing collateral materials, upcoming conferences, technical pap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work more as a joint .11/.15 market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96B-B03E-481D-B0EC-51F9BF3453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Al Petrick</dc:creator>
  <dc:description/>
  <dc:language>en-US</dc:language>
  <cp:lastModifiedBy>Valued Sony Customer</cp:lastModifiedBy>
  <dcterms:modified xsi:type="dcterms:W3CDTF">2000-09-22T03:36:59Z</dcterms:modified>
  <cp:revision>35</cp:revision>
  <dc:subject/>
  <dc:title>Adhoc-marketing-objectives-and-report-September-2000</dc:title>
</cp:coreProperties>
</file>