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474-DE2E-4919-BDEB-FF6E7D63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FE5-E819-4B05-A8DB-FB2BCAD7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30B8-97C8-4540-9EC0-1CB52622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C76-B918-4539-A799-5A38E9C4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BB6-7D7C-4D0D-ABC6-6DBA573B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C7F-D1EE-4E68-B9C8-78D15099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939-D549-4E9E-91D7-6CC4C9CB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D7F-2CB9-41D1-8B45-6CB1B0D3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585-A441-46DB-8FF4-47A9AF2C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621-881F-40A2-9576-D52D65B3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0CB-DEDD-433D-8496-9BAE9D6B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0C1-01DA-42D9-98B2-14DF6167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42A2834-DB85-462F-9B3E-2D5D48F07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verview of the GSS-API and 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Beach, Symbol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e Walker, Intel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5BD-5463-41B2-B071-36C5A1F98AC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GSS-API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NEGO (RFC 2478) - negotiate the other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beros (RFC 1510, RFC 1964) - centralized key server based on shared secr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KM (RFC 2025) - 1- and 2-way public key based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PKEY (RFC 2847) - one-way authentication a la SSL; a species of SP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RP (draft-ietf-cat-srpgm-xx.txt) - secure remote password; a species of SP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SL (draft-ietf-cat-sasl-gssapi-xx.txt) - one time pass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INIT (draft-ietf-cat-kerberos-pk-init-xx.txt) - use public key to register secret with Kerberos 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C563-73D9-4AFC-AC92-0937B4CD0E0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N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Init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38080" y="2849400"/>
            <a:ext cx="2286000" cy="808920"/>
            <a:chOff x="838080" y="2849400"/>
            <a:chExt cx="2286000" cy="808920"/>
          </a:xfrm>
        </p:grpSpPr>
        <p:sp>
          <p:nvSpPr>
            <p:cNvPr id="133" name=""/>
            <p:cNvSpPr/>
            <p:nvPr/>
          </p:nvSpPr>
          <p:spPr>
            <a:xfrm>
              <a:off x="838080" y="33210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2971800"/>
              <a:ext cx="3812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2849400"/>
              <a:ext cx="83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962520" y="2895480"/>
            <a:ext cx="4267080" cy="2013840"/>
            <a:chOff x="3962520" y="2895480"/>
            <a:chExt cx="4267080" cy="2013840"/>
          </a:xfrm>
        </p:grpSpPr>
        <p:sp>
          <p:nvSpPr>
            <p:cNvPr id="137" name=""/>
            <p:cNvSpPr/>
            <p:nvPr/>
          </p:nvSpPr>
          <p:spPr>
            <a:xfrm>
              <a:off x="5410080" y="45720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Accep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428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640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48520" y="2895480"/>
              <a:ext cx="60948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0" y="327672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0" y="388620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838080" y="3962520"/>
            <a:ext cx="3505320" cy="1676880"/>
            <a:chOff x="838080" y="3962520"/>
            <a:chExt cx="3505320" cy="1676880"/>
          </a:xfrm>
        </p:grpSpPr>
        <p:sp>
          <p:nvSpPr>
            <p:cNvPr id="145" name=""/>
            <p:cNvSpPr/>
            <p:nvPr/>
          </p:nvSpPr>
          <p:spPr>
            <a:xfrm>
              <a:off x="838080" y="53020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886200" y="3962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352680" y="3962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19520" y="3962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828800" y="3962520"/>
              <a:ext cx="38088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286000" y="3962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43434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8800" y="48006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057400" y="2590920"/>
            <a:ext cx="1904400" cy="809640"/>
            <a:chOff x="2057400" y="2590920"/>
            <a:chExt cx="1904400" cy="809640"/>
          </a:xfrm>
        </p:grpSpPr>
        <p:grpSp>
          <p:nvGrpSpPr>
            <p:cNvPr id="154" name=""/>
            <p:cNvGrpSpPr/>
            <p:nvPr/>
          </p:nvGrpSpPr>
          <p:grpSpPr>
            <a:xfrm>
              <a:off x="2057400" y="2590920"/>
              <a:ext cx="1904040" cy="761760"/>
              <a:chOff x="2057400" y="2590920"/>
              <a:chExt cx="1904040" cy="761760"/>
            </a:xfrm>
          </p:grpSpPr>
          <p:sp>
            <p:nvSpPr>
              <p:cNvPr id="155" name=""/>
              <p:cNvSpPr/>
              <p:nvPr/>
            </p:nvSpPr>
            <p:spPr>
              <a:xfrm flipV="1">
                <a:off x="2490120" y="3048120"/>
                <a:ext cx="34632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2057400" y="2590920"/>
                <a:ext cx="1904040" cy="380880"/>
                <a:chOff x="2057400" y="2590920"/>
                <a:chExt cx="1904040" cy="3808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057400" y="2590920"/>
                  <a:ext cx="1904040" cy="38088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00600" y="2644920"/>
                  <a:ext cx="1817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Kerberos, SRP, SPK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>
              <a:off x="2922840" y="3124080"/>
              <a:ext cx="103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438280" y="4648320"/>
            <a:ext cx="990720" cy="609480"/>
            <a:chOff x="2438280" y="4648320"/>
            <a:chExt cx="990720" cy="609480"/>
          </a:xfrm>
        </p:grpSpPr>
        <p:sp>
          <p:nvSpPr>
            <p:cNvPr id="161" name=""/>
            <p:cNvSpPr/>
            <p:nvPr/>
          </p:nvSpPr>
          <p:spPr>
            <a:xfrm flipV="1">
              <a:off x="2438280" y="4876920"/>
              <a:ext cx="3812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14600" y="46483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419720" y="3809880"/>
            <a:ext cx="1676160" cy="687600"/>
            <a:chOff x="4419720" y="3809880"/>
            <a:chExt cx="1676160" cy="687600"/>
          </a:xfrm>
        </p:grpSpPr>
        <p:grpSp>
          <p:nvGrpSpPr>
            <p:cNvPr id="164" name=""/>
            <p:cNvGrpSpPr/>
            <p:nvPr/>
          </p:nvGrpSpPr>
          <p:grpSpPr>
            <a:xfrm>
              <a:off x="4419720" y="3809880"/>
              <a:ext cx="1676160" cy="685440"/>
              <a:chOff x="4419720" y="3809880"/>
              <a:chExt cx="1676160" cy="685440"/>
            </a:xfrm>
          </p:grpSpPr>
          <p:sp>
            <p:nvSpPr>
              <p:cNvPr id="165" name=""/>
              <p:cNvSpPr/>
              <p:nvPr/>
            </p:nvSpPr>
            <p:spPr>
              <a:xfrm flipH="1" flipV="1">
                <a:off x="5790960" y="4266720"/>
                <a:ext cx="2286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19720" y="3809880"/>
                <a:ext cx="1676160" cy="380880"/>
                <a:chOff x="4419720" y="3809880"/>
                <a:chExt cx="1676160" cy="3808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19720" y="3809880"/>
                  <a:ext cx="1676160" cy="38088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457880" y="3863880"/>
                  <a:ext cx="1600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Kerber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4876920" y="42210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+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B785-E726-45F4-B9AC-A398B51BD4C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erber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and Key Distribution Protoc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in late 1980s, latest version is Rev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FC 1510; RFC 1964 fits it into GSS-API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authentication protocol in Windows 2000 Domain 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ly deployed in UNIX s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DB4-D5BF-4794-B9A8-84D0D932CF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Kerberos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major el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: a user or system (username, pass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 (FTP, email, telnet, RF serv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ribu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- maps principals to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step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utually authenticates with KDC (KRB_AP_REQ/KRB_AP_REP exchan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C issues user authorization to access a service (KRB_TGT_REQ/KRB_TGT_REP exchan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gains access to service by presenting 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55F-E662-4E5D-919A-9F974E6970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B_AP_REQ message asks the KDC for access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cket Granting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DC creates a unique authentication key for authenticating self with Ticket Granting Service, encrypts it under the user’s password, and sends it back to the user in the KRB_AP_REQ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r decrypts the message and gains access to the authentication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 is never sent over the air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EB71-0E5E-4B96-8818-BFF25D20F6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ing Auth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B_TGT_REQ asks for authorization to a particula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is protected with authentication key returned by KDC in KRB_AP_REP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DC decrypts message and examines reque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equest is OK, KDC creates a session key to be use between the user and the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B_TGT_REP from KDC contains two copies of the session key, one encrypted under user’s authentication key, and other under service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69D7-9F00-437D-80C5-E8CF704A58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ining Access to th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decrypts the KRB_TGT_REP message to get session key and a “ticket” for th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prepares and sends token to server containing “ticket”, other info, encrypted under sessio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decrypts “ticket” using its own authentication key received from KDC and gains access to sessio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ypts rest of request and processes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sends reply to user to authent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5F2-468E-4EFE-9D7A-2FA16E174AF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 as used by GSS-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Init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16002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9000" y="2209680"/>
            <a:ext cx="2286000" cy="642240"/>
            <a:chOff x="3429000" y="2209680"/>
            <a:chExt cx="2286000" cy="642240"/>
          </a:xfrm>
        </p:grpSpPr>
        <p:sp>
          <p:nvSpPr>
            <p:cNvPr id="185" name=""/>
            <p:cNvSpPr/>
            <p:nvPr/>
          </p:nvSpPr>
          <p:spPr>
            <a:xfrm>
              <a:off x="3429000" y="25146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9000" y="2209680"/>
              <a:ext cx="38124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447920" y="2468520"/>
            <a:ext cx="1752480" cy="276480"/>
            <a:chOff x="1447920" y="2468520"/>
            <a:chExt cx="1752480" cy="276480"/>
          </a:xfrm>
        </p:grpSpPr>
        <p:sp>
          <p:nvSpPr>
            <p:cNvPr id="188" name=""/>
            <p:cNvSpPr/>
            <p:nvPr/>
          </p:nvSpPr>
          <p:spPr>
            <a:xfrm flipH="1">
              <a:off x="1447920" y="2743200"/>
              <a:ext cx="17524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200" y="24685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AP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523880" y="2849400"/>
            <a:ext cx="1676520" cy="276480"/>
            <a:chOff x="1523880" y="2849400"/>
            <a:chExt cx="1676520" cy="276480"/>
          </a:xfrm>
        </p:grpSpPr>
        <p:sp>
          <p:nvSpPr>
            <p:cNvPr id="191" name=""/>
            <p:cNvSpPr/>
            <p:nvPr/>
          </p:nvSpPr>
          <p:spPr>
            <a:xfrm>
              <a:off x="1523880" y="3124080"/>
              <a:ext cx="1676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00200" y="28494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AP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447920" y="3276720"/>
            <a:ext cx="1752480" cy="276480"/>
            <a:chOff x="1447920" y="3276720"/>
            <a:chExt cx="1752480" cy="276480"/>
          </a:xfrm>
        </p:grpSpPr>
        <p:sp>
          <p:nvSpPr>
            <p:cNvPr id="194" name=""/>
            <p:cNvSpPr/>
            <p:nvPr/>
          </p:nvSpPr>
          <p:spPr>
            <a:xfrm flipH="1">
              <a:off x="1447920" y="3551400"/>
              <a:ext cx="17524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200" y="32767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523880" y="3687840"/>
            <a:ext cx="1676520" cy="276480"/>
            <a:chOff x="1523880" y="3687840"/>
            <a:chExt cx="1676520" cy="276480"/>
          </a:xfrm>
        </p:grpSpPr>
        <p:sp>
          <p:nvSpPr>
            <p:cNvPr id="197" name=""/>
            <p:cNvSpPr/>
            <p:nvPr/>
          </p:nvSpPr>
          <p:spPr>
            <a:xfrm>
              <a:off x="1523880" y="3962520"/>
              <a:ext cx="1676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00200" y="3687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486400" y="2895480"/>
            <a:ext cx="3276720" cy="1861560"/>
            <a:chOff x="5486400" y="2895480"/>
            <a:chExt cx="3276720" cy="1861560"/>
          </a:xfrm>
        </p:grpSpPr>
        <p:sp>
          <p:nvSpPr>
            <p:cNvPr id="200" name=""/>
            <p:cNvSpPr/>
            <p:nvPr/>
          </p:nvSpPr>
          <p:spPr>
            <a:xfrm>
              <a:off x="5943600" y="441972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Accep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34320" y="3854520"/>
              <a:ext cx="5331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86400" y="2895480"/>
              <a:ext cx="7621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5715000" y="3429000"/>
              <a:ext cx="1600200" cy="380880"/>
              <a:chOff x="5715000" y="3429000"/>
              <a:chExt cx="1600200" cy="380880"/>
            </a:xfrm>
          </p:grpSpPr>
          <p:sp>
            <p:nvSpPr>
              <p:cNvPr id="204" name=""/>
              <p:cNvSpPr/>
              <p:nvPr/>
            </p:nvSpPr>
            <p:spPr>
              <a:xfrm>
                <a:off x="5715000" y="3429000"/>
                <a:ext cx="160020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49920" y="3483000"/>
                <a:ext cx="153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icket, Authentic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5735520" y="388620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657600" y="4419720"/>
            <a:ext cx="2666880" cy="1143720"/>
            <a:chOff x="3657600" y="4419720"/>
            <a:chExt cx="2666880" cy="1143720"/>
          </a:xfrm>
        </p:grpSpPr>
        <p:sp>
          <p:nvSpPr>
            <p:cNvPr id="208" name=""/>
            <p:cNvSpPr/>
            <p:nvPr/>
          </p:nvSpPr>
          <p:spPr>
            <a:xfrm>
              <a:off x="3657600" y="522612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562720" y="4572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95320" y="4906800"/>
              <a:ext cx="38124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343400" y="4419720"/>
              <a:ext cx="1143000" cy="380880"/>
              <a:chOff x="4343400" y="4419720"/>
              <a:chExt cx="1143000" cy="380880"/>
            </a:xfrm>
          </p:grpSpPr>
          <p:sp>
            <p:nvSpPr>
              <p:cNvPr id="212" name=""/>
              <p:cNvSpPr/>
              <p:nvPr/>
            </p:nvSpPr>
            <p:spPr>
              <a:xfrm>
                <a:off x="4343400" y="4419720"/>
                <a:ext cx="114300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69320" y="4473720"/>
                <a:ext cx="109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uthentic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410080" y="46483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+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592520" y="5638680"/>
            <a:ext cx="1122480" cy="611280"/>
            <a:chOff x="4592520" y="5638680"/>
            <a:chExt cx="1122480" cy="611280"/>
          </a:xfrm>
        </p:grpSpPr>
        <p:sp>
          <p:nvSpPr>
            <p:cNvPr id="216" name=""/>
            <p:cNvSpPr/>
            <p:nvPr/>
          </p:nvSpPr>
          <p:spPr>
            <a:xfrm>
              <a:off x="4592520" y="597348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8840" y="5638680"/>
              <a:ext cx="38088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B28-F1A9-4E65-876C-B8318441129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KINIT + 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Init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16002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29000" y="2209680"/>
            <a:ext cx="2286000" cy="642240"/>
            <a:chOff x="3429000" y="2209680"/>
            <a:chExt cx="2286000" cy="642240"/>
          </a:xfrm>
        </p:grpSpPr>
        <p:sp>
          <p:nvSpPr>
            <p:cNvPr id="223" name=""/>
            <p:cNvSpPr/>
            <p:nvPr/>
          </p:nvSpPr>
          <p:spPr>
            <a:xfrm>
              <a:off x="3429000" y="25146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29000" y="2209680"/>
              <a:ext cx="38124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447920" y="2743200"/>
            <a:ext cx="1752480" cy="276480"/>
            <a:chOff x="1447920" y="2743200"/>
            <a:chExt cx="1752480" cy="276480"/>
          </a:xfrm>
        </p:grpSpPr>
        <p:sp>
          <p:nvSpPr>
            <p:cNvPr id="226" name=""/>
            <p:cNvSpPr/>
            <p:nvPr/>
          </p:nvSpPr>
          <p:spPr>
            <a:xfrm flipH="1">
              <a:off x="1447920" y="3017880"/>
              <a:ext cx="17524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00200" y="27432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523880" y="3154320"/>
            <a:ext cx="1676520" cy="276480"/>
            <a:chOff x="1523880" y="3154320"/>
            <a:chExt cx="1676520" cy="276480"/>
          </a:xfrm>
        </p:grpSpPr>
        <p:sp>
          <p:nvSpPr>
            <p:cNvPr id="229" name=""/>
            <p:cNvSpPr/>
            <p:nvPr/>
          </p:nvSpPr>
          <p:spPr>
            <a:xfrm>
              <a:off x="1523880" y="3429000"/>
              <a:ext cx="1676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0200" y="3154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486400" y="2895480"/>
            <a:ext cx="3276720" cy="1861560"/>
            <a:chOff x="5486400" y="2895480"/>
            <a:chExt cx="3276720" cy="1861560"/>
          </a:xfrm>
        </p:grpSpPr>
        <p:sp>
          <p:nvSpPr>
            <p:cNvPr id="232" name=""/>
            <p:cNvSpPr/>
            <p:nvPr/>
          </p:nvSpPr>
          <p:spPr>
            <a:xfrm>
              <a:off x="5943600" y="441972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Accep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34320" y="3854520"/>
              <a:ext cx="5331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86400" y="2895480"/>
              <a:ext cx="7621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5715000" y="3429000"/>
              <a:ext cx="1600200" cy="380880"/>
              <a:chOff x="5715000" y="3429000"/>
              <a:chExt cx="1600200" cy="380880"/>
            </a:xfrm>
          </p:grpSpPr>
          <p:sp>
            <p:nvSpPr>
              <p:cNvPr id="236" name=""/>
              <p:cNvSpPr/>
              <p:nvPr/>
            </p:nvSpPr>
            <p:spPr>
              <a:xfrm>
                <a:off x="5715000" y="3429000"/>
                <a:ext cx="160020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49920" y="3483000"/>
                <a:ext cx="153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icket, Authentic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5735520" y="388620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657600" y="4419720"/>
            <a:ext cx="2666880" cy="1143720"/>
            <a:chOff x="3657600" y="4419720"/>
            <a:chExt cx="2666880" cy="1143720"/>
          </a:xfrm>
        </p:grpSpPr>
        <p:sp>
          <p:nvSpPr>
            <p:cNvPr id="240" name=""/>
            <p:cNvSpPr/>
            <p:nvPr/>
          </p:nvSpPr>
          <p:spPr>
            <a:xfrm>
              <a:off x="3657600" y="522612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562720" y="4572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906800"/>
              <a:ext cx="38124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4343400" y="4419720"/>
              <a:ext cx="1143000" cy="380880"/>
              <a:chOff x="4343400" y="4419720"/>
              <a:chExt cx="1143000" cy="380880"/>
            </a:xfrm>
          </p:grpSpPr>
          <p:sp>
            <p:nvSpPr>
              <p:cNvPr id="244" name=""/>
              <p:cNvSpPr/>
              <p:nvPr/>
            </p:nvSpPr>
            <p:spPr>
              <a:xfrm>
                <a:off x="4343400" y="4419720"/>
                <a:ext cx="114300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369320" y="4473720"/>
                <a:ext cx="109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uthentic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410080" y="46483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+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592520" y="5638680"/>
            <a:ext cx="1122480" cy="611280"/>
            <a:chOff x="4592520" y="5638680"/>
            <a:chExt cx="1122480" cy="611280"/>
          </a:xfrm>
        </p:grpSpPr>
        <p:sp>
          <p:nvSpPr>
            <p:cNvPr id="248" name=""/>
            <p:cNvSpPr/>
            <p:nvPr/>
          </p:nvSpPr>
          <p:spPr>
            <a:xfrm>
              <a:off x="4592520" y="597348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68840" y="5638680"/>
              <a:ext cx="38088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3C5-5897-41F1-8CB1-FE446F8489B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K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Init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38080" y="2209680"/>
            <a:ext cx="2286000" cy="642240"/>
            <a:chOff x="838080" y="2209680"/>
            <a:chExt cx="2286000" cy="642240"/>
          </a:xfrm>
        </p:grpSpPr>
        <p:sp>
          <p:nvSpPr>
            <p:cNvPr id="254" name=""/>
            <p:cNvSpPr/>
            <p:nvPr/>
          </p:nvSpPr>
          <p:spPr>
            <a:xfrm>
              <a:off x="838080" y="25146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8080" y="2209680"/>
              <a:ext cx="38124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124080" y="2590920"/>
            <a:ext cx="4953240" cy="1175400"/>
            <a:chOff x="3124080" y="2590920"/>
            <a:chExt cx="4953240" cy="1175400"/>
          </a:xfrm>
        </p:grpSpPr>
        <p:sp>
          <p:nvSpPr>
            <p:cNvPr id="257" name=""/>
            <p:cNvSpPr/>
            <p:nvPr/>
          </p:nvSpPr>
          <p:spPr>
            <a:xfrm>
              <a:off x="5257800" y="34290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Accep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86400" y="27432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2743200"/>
              <a:ext cx="5331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4080" y="2743200"/>
              <a:ext cx="46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33920" y="2590920"/>
              <a:ext cx="1600200" cy="380880"/>
              <a:chOff x="3733920" y="2590920"/>
              <a:chExt cx="1600200" cy="380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33920" y="2590920"/>
                <a:ext cx="160020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68840" y="2644920"/>
                <a:ext cx="153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PKM parameter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5049720" y="289548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838080" y="3429000"/>
            <a:ext cx="4800600" cy="1037520"/>
            <a:chOff x="838080" y="3429000"/>
            <a:chExt cx="4800600" cy="1037520"/>
          </a:xfrm>
        </p:grpSpPr>
        <p:sp>
          <p:nvSpPr>
            <p:cNvPr id="266" name=""/>
            <p:cNvSpPr/>
            <p:nvPr/>
          </p:nvSpPr>
          <p:spPr>
            <a:xfrm>
              <a:off x="838080" y="41292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876920" y="35812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133360" y="35812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676520" y="3581280"/>
              <a:ext cx="3808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2895480" y="3429000"/>
              <a:ext cx="1904760" cy="380880"/>
              <a:chOff x="2895480" y="3429000"/>
              <a:chExt cx="1904760" cy="380880"/>
            </a:xfrm>
          </p:grpSpPr>
          <p:sp>
            <p:nvSpPr>
              <p:cNvPr id="271" name=""/>
              <p:cNvSpPr/>
              <p:nvPr/>
            </p:nvSpPr>
            <p:spPr>
              <a:xfrm>
                <a:off x="2895480" y="3429000"/>
                <a:ext cx="190476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36520" y="3483000"/>
                <a:ext cx="1822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ig, SigCert, CryptCe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724280" y="37638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124080" y="4191120"/>
            <a:ext cx="4953240" cy="1067400"/>
            <a:chOff x="3124080" y="4191120"/>
            <a:chExt cx="4953240" cy="1067400"/>
          </a:xfrm>
        </p:grpSpPr>
        <p:sp>
          <p:nvSpPr>
            <p:cNvPr id="275" name=""/>
            <p:cNvSpPr/>
            <p:nvPr/>
          </p:nvSpPr>
          <p:spPr>
            <a:xfrm>
              <a:off x="5257800" y="4921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Accep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05520" y="4343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43600" y="4343400"/>
              <a:ext cx="5335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24080" y="4343400"/>
              <a:ext cx="46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733920" y="4191120"/>
              <a:ext cx="1218960" cy="380880"/>
              <a:chOff x="3733920" y="4191120"/>
              <a:chExt cx="1218960" cy="380880"/>
            </a:xfrm>
          </p:grpSpPr>
          <p:sp>
            <p:nvSpPr>
              <p:cNvPr id="280" name=""/>
              <p:cNvSpPr/>
              <p:nvPr/>
            </p:nvSpPr>
            <p:spPr>
              <a:xfrm>
                <a:off x="3733920" y="4191120"/>
                <a:ext cx="121896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761640" y="4245120"/>
                <a:ext cx="116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ryp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4821120" y="446580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+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410080" y="5257800"/>
            <a:ext cx="1122480" cy="763920"/>
            <a:chOff x="5410080" y="5257800"/>
            <a:chExt cx="1122480" cy="763920"/>
          </a:xfrm>
        </p:grpSpPr>
        <p:sp>
          <p:nvSpPr>
            <p:cNvPr id="284" name=""/>
            <p:cNvSpPr/>
            <p:nvPr/>
          </p:nvSpPr>
          <p:spPr>
            <a:xfrm flipH="1">
              <a:off x="6095520" y="5257800"/>
              <a:ext cx="3812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10080" y="574524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161-D0D7-46BC-B2F4-0BD213DEF16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the background to understand and evaluate the Symbol/Intel proposal to base 802.11 security services on the GSS-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C68-A25C-49FA-9CB1-4CABB1607A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R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9528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Init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38080" y="2133720"/>
            <a:ext cx="2286000" cy="718200"/>
            <a:chOff x="838080" y="2133720"/>
            <a:chExt cx="2286000" cy="718200"/>
          </a:xfrm>
        </p:grpSpPr>
        <p:sp>
          <p:nvSpPr>
            <p:cNvPr id="290" name=""/>
            <p:cNvSpPr/>
            <p:nvPr/>
          </p:nvSpPr>
          <p:spPr>
            <a:xfrm>
              <a:off x="838080" y="25146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8080" y="2209680"/>
              <a:ext cx="38124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14400" y="2133720"/>
              <a:ext cx="99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124080" y="2590920"/>
            <a:ext cx="4953240" cy="1175400"/>
            <a:chOff x="3124080" y="2590920"/>
            <a:chExt cx="4953240" cy="1175400"/>
          </a:xfrm>
        </p:grpSpPr>
        <p:sp>
          <p:nvSpPr>
            <p:cNvPr id="294" name=""/>
            <p:cNvSpPr/>
            <p:nvPr/>
          </p:nvSpPr>
          <p:spPr>
            <a:xfrm>
              <a:off x="5257800" y="34290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Accep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05520" y="27432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43600" y="2743200"/>
              <a:ext cx="5335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24080" y="2743200"/>
              <a:ext cx="46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733920" y="2590920"/>
              <a:ext cx="1218960" cy="380880"/>
              <a:chOff x="3733920" y="2590920"/>
              <a:chExt cx="1218960" cy="380880"/>
            </a:xfrm>
          </p:grpSpPr>
          <p:sp>
            <p:nvSpPr>
              <p:cNvPr id="299" name=""/>
              <p:cNvSpPr/>
              <p:nvPr/>
            </p:nvSpPr>
            <p:spPr>
              <a:xfrm>
                <a:off x="3733920" y="2590920"/>
                <a:ext cx="121896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761640" y="2644920"/>
                <a:ext cx="116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sername,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i="1" lang="en-US" sz="1200" spc="-1" strike="noStrike" baseline="30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821120" y="274320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838080" y="3429000"/>
            <a:ext cx="4800600" cy="1037520"/>
            <a:chOff x="838080" y="3429000"/>
            <a:chExt cx="4800600" cy="1037520"/>
          </a:xfrm>
        </p:grpSpPr>
        <p:sp>
          <p:nvSpPr>
            <p:cNvPr id="303" name=""/>
            <p:cNvSpPr/>
            <p:nvPr/>
          </p:nvSpPr>
          <p:spPr>
            <a:xfrm>
              <a:off x="838080" y="41292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876920" y="35812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971800" y="35812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14600" y="3581280"/>
              <a:ext cx="3808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657600" y="3429000"/>
              <a:ext cx="1143000" cy="380880"/>
              <a:chOff x="3657600" y="3429000"/>
              <a:chExt cx="1143000" cy="380880"/>
            </a:xfrm>
          </p:grpSpPr>
          <p:sp>
            <p:nvSpPr>
              <p:cNvPr id="308" name=""/>
              <p:cNvSpPr/>
              <p:nvPr/>
            </p:nvSpPr>
            <p:spPr>
              <a:xfrm>
                <a:off x="3657600" y="3429000"/>
                <a:ext cx="114300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683520" y="3483000"/>
                <a:ext cx="109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i="1" lang="en-US" sz="1200" spc="-1" strike="noStrike" baseline="30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+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4724280" y="36576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5334120" y="19652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atabase: username, </a:t>
            </a:r>
            <a:r>
              <a:rPr b="1" i="1" lang="en-US" sz="1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 = g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h(</a:t>
            </a:r>
            <a:r>
              <a:rPr b="1" i="1" lang="en-US" sz="1200" spc="-1" strike="noStrike" baseline="30000">
                <a:solidFill>
                  <a:srgbClr val="00cc99"/>
                </a:solidFill>
                <a:latin typeface="Times New Roman"/>
              </a:rPr>
              <a:t>s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,password)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1" i="1" lang="en-US" sz="12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124080" y="4191120"/>
            <a:ext cx="4953240" cy="1067400"/>
            <a:chOff x="3124080" y="4191120"/>
            <a:chExt cx="4953240" cy="1067400"/>
          </a:xfrm>
        </p:grpSpPr>
        <p:sp>
          <p:nvSpPr>
            <p:cNvPr id="313" name=""/>
            <p:cNvSpPr/>
            <p:nvPr/>
          </p:nvSpPr>
          <p:spPr>
            <a:xfrm>
              <a:off x="5257800" y="4921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Accep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4343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43600" y="4343400"/>
              <a:ext cx="5335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24080" y="4343400"/>
              <a:ext cx="46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3733920" y="4191120"/>
              <a:ext cx="1218960" cy="380880"/>
              <a:chOff x="3733920" y="4191120"/>
              <a:chExt cx="1218960" cy="380880"/>
            </a:xfrm>
          </p:grpSpPr>
          <p:sp>
            <p:nvSpPr>
              <p:cNvPr id="318" name=""/>
              <p:cNvSpPr/>
              <p:nvPr/>
            </p:nvSpPr>
            <p:spPr>
              <a:xfrm>
                <a:off x="3733920" y="4191120"/>
                <a:ext cx="121896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61640" y="4245120"/>
                <a:ext cx="116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ash1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4821120" y="446580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990720" y="3657600"/>
            <a:ext cx="6172200" cy="1008360"/>
            <a:chOff x="990720" y="3657600"/>
            <a:chExt cx="6172200" cy="1008360"/>
          </a:xfrm>
        </p:grpSpPr>
        <p:sp>
          <p:nvSpPr>
            <p:cNvPr id="322" name=""/>
            <p:cNvSpPr/>
            <p:nvPr/>
          </p:nvSpPr>
          <p:spPr>
            <a:xfrm>
              <a:off x="5791320" y="36576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K = g</a:t>
              </a:r>
              <a:r>
                <a:rPr b="1" i="1" lang="en-US" sz="1200" spc="-1" strike="noStrike" baseline="30000">
                  <a:solidFill>
                    <a:srgbClr val="cc9900"/>
                  </a:solidFill>
                  <a:latin typeface="Times New Roman"/>
                </a:rPr>
                <a:t>ab</a:t>
              </a: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x</a:t>
              </a:r>
              <a:r>
                <a:rPr b="1" i="1" lang="en-US" sz="1200" spc="-1" strike="noStrike" baseline="30000">
                  <a:solidFill>
                    <a:srgbClr val="cc9900"/>
                  </a:solidFill>
                  <a:latin typeface="Times New Roman"/>
                </a:rPr>
                <a:t>n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90720" y="4389480"/>
              <a:ext cx="213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K = ((g</a:t>
              </a:r>
              <a:r>
                <a:rPr b="1" i="1" lang="en-US" sz="1200" spc="-1" strike="noStrike" baseline="30000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 + x) - x)</a:t>
              </a:r>
              <a:r>
                <a:rPr b="1" i="1" lang="en-US" sz="1200" spc="-1" strike="noStrike" baseline="30000">
                  <a:solidFill>
                    <a:srgbClr val="00cc99"/>
                  </a:solidFill>
                  <a:latin typeface="Times New Roman"/>
                </a:rPr>
                <a:t>(a+n</a:t>
              </a:r>
              <a:r>
                <a:rPr b="1" lang="en-US" sz="1200" spc="-1" strike="noStrike" baseline="30000">
                  <a:solidFill>
                    <a:srgbClr val="00cc99"/>
                  </a:solidFill>
                  <a:latin typeface="Times New Roman"/>
                </a:rPr>
                <a:t>h</a:t>
              </a:r>
              <a:r>
                <a:rPr b="1" i="1" lang="en-US" sz="1200" spc="-1" strike="noStrike" baseline="30000">
                  <a:solidFill>
                    <a:srgbClr val="00cc99"/>
                  </a:solidFill>
                  <a:latin typeface="Times New Roman"/>
                </a:rPr>
                <a:t>(s, passwor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838080" y="4983120"/>
            <a:ext cx="4800600" cy="808920"/>
            <a:chOff x="838080" y="4983120"/>
            <a:chExt cx="4800600" cy="808920"/>
          </a:xfrm>
        </p:grpSpPr>
        <p:sp>
          <p:nvSpPr>
            <p:cNvPr id="325" name=""/>
            <p:cNvSpPr/>
            <p:nvPr/>
          </p:nvSpPr>
          <p:spPr>
            <a:xfrm>
              <a:off x="838080" y="545472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76920" y="5135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971800" y="51354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514600" y="5135400"/>
              <a:ext cx="38088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657600" y="4983120"/>
              <a:ext cx="1143000" cy="380880"/>
              <a:chOff x="3657600" y="4983120"/>
              <a:chExt cx="1143000" cy="380880"/>
            </a:xfrm>
          </p:grpSpPr>
          <p:sp>
            <p:nvSpPr>
              <p:cNvPr id="330" name=""/>
              <p:cNvSpPr/>
              <p:nvPr/>
            </p:nvSpPr>
            <p:spPr>
              <a:xfrm>
                <a:off x="3657600" y="4983120"/>
                <a:ext cx="114300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83520" y="5037120"/>
                <a:ext cx="109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ash2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724280" y="52117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+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438280" y="5791320"/>
            <a:ext cx="1122480" cy="611280"/>
            <a:chOff x="2438280" y="5791320"/>
            <a:chExt cx="1122480" cy="611280"/>
          </a:xfrm>
        </p:grpSpPr>
        <p:sp>
          <p:nvSpPr>
            <p:cNvPr id="334" name=""/>
            <p:cNvSpPr/>
            <p:nvPr/>
          </p:nvSpPr>
          <p:spPr>
            <a:xfrm>
              <a:off x="2438280" y="612612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5791320"/>
              <a:ext cx="38088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C52-A74A-48D7-A56A-D3612A09C3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S-API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, well-defined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ly deployed and well-t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bero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SS-API mechanism providing mutual authentication and key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ly deployed and well-t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217-D161-4A35-8A4A-70E81243F5C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ba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e01496_" descr=""/>
          <p:cNvPicPr/>
          <p:nvPr/>
        </p:nvPicPr>
        <p:blipFill>
          <a:blip r:embed="rId1"/>
          <a:stretch/>
        </p:blipFill>
        <p:spPr>
          <a:xfrm>
            <a:off x="3110040" y="194148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3286-084B-4646-B49E-0811A86BFA1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GSS-AP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-API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0574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0D4-9548-4B66-BD1C-C2CE648DF0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GSS-API?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ic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urity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vice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lication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erface, defined by RFC 27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 2744 gives standard ‘C’ bindings, RFC 2853 for Java b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e will use it as an abstract servic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SS-API interface is implemented by GSS-API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mechanism is a secu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is independent of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969-5F7A-4DD8-AAB3-611C9DB798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GSS-API?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entials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S_Acquire_cred, GSS_Release_cred, GSS_Add_cre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S_Init_sec_context, GSS_Accept_sec_context, GSS_Delete_sec_context, GSS_Inquire_context, GSS_Context_tim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Messag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S_Wrap, GSS_Unwrap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S_Import_name, GSS_Export_name, GSS_Display_statu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8A6-D5E3-44D4-9781-D4E16CD054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SS-API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Establish a security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Use established security context to secure message ex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A38-4836-4410-875E-F1EAA75FF7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blishing a Security Con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Init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2849400"/>
            <a:ext cx="2286000" cy="808920"/>
            <a:chOff x="838080" y="2849400"/>
            <a:chExt cx="2286000" cy="808920"/>
          </a:xfrm>
        </p:grpSpPr>
        <p:sp>
          <p:nvSpPr>
            <p:cNvPr id="62" name=""/>
            <p:cNvSpPr/>
            <p:nvPr/>
          </p:nvSpPr>
          <p:spPr>
            <a:xfrm>
              <a:off x="838080" y="33210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8080" y="2971800"/>
              <a:ext cx="3812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2849400"/>
              <a:ext cx="83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962520" y="2895480"/>
            <a:ext cx="4267080" cy="2013840"/>
            <a:chOff x="3962520" y="2895480"/>
            <a:chExt cx="4267080" cy="2013840"/>
          </a:xfrm>
        </p:grpSpPr>
        <p:sp>
          <p:nvSpPr>
            <p:cNvPr id="66" name=""/>
            <p:cNvSpPr/>
            <p:nvPr/>
          </p:nvSpPr>
          <p:spPr>
            <a:xfrm>
              <a:off x="5410080" y="45720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Accep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6252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2428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8640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48520" y="2895480"/>
              <a:ext cx="60948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327672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0" y="388620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838080" y="3962520"/>
            <a:ext cx="3505320" cy="1676880"/>
            <a:chOff x="838080" y="3962520"/>
            <a:chExt cx="3505320" cy="1676880"/>
          </a:xfrm>
        </p:grpSpPr>
        <p:sp>
          <p:nvSpPr>
            <p:cNvPr id="74" name=""/>
            <p:cNvSpPr/>
            <p:nvPr/>
          </p:nvSpPr>
          <p:spPr>
            <a:xfrm>
              <a:off x="838080" y="53020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886200" y="3962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352680" y="3962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2819520" y="3962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1828800" y="3962520"/>
              <a:ext cx="38088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286000" y="3962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28800" y="43434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28800" y="48006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133720" y="2590920"/>
            <a:ext cx="1676160" cy="809640"/>
            <a:chOff x="2133720" y="2590920"/>
            <a:chExt cx="1676160" cy="809640"/>
          </a:xfrm>
        </p:grpSpPr>
        <p:grpSp>
          <p:nvGrpSpPr>
            <p:cNvPr id="83" name=""/>
            <p:cNvGrpSpPr/>
            <p:nvPr/>
          </p:nvGrpSpPr>
          <p:grpSpPr>
            <a:xfrm>
              <a:off x="2133720" y="2590920"/>
              <a:ext cx="1676160" cy="761760"/>
              <a:chOff x="2133720" y="2590920"/>
              <a:chExt cx="1676160" cy="761760"/>
            </a:xfrm>
          </p:grpSpPr>
          <p:sp>
            <p:nvSpPr>
              <p:cNvPr id="84" name=""/>
              <p:cNvSpPr/>
              <p:nvPr/>
            </p:nvSpPr>
            <p:spPr>
              <a:xfrm flipV="1">
                <a:off x="2514600" y="3048120"/>
                <a:ext cx="30492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2133720" y="2590920"/>
                <a:ext cx="1676160" cy="380880"/>
                <a:chOff x="2133720" y="2590920"/>
                <a:chExt cx="1676160" cy="380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133720" y="2590920"/>
                  <a:ext cx="1676160" cy="38088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171520" y="2644920"/>
                  <a:ext cx="1599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Authentication Tok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2895480" y="31240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438280" y="4648320"/>
            <a:ext cx="990720" cy="609480"/>
            <a:chOff x="2438280" y="4648320"/>
            <a:chExt cx="990720" cy="609480"/>
          </a:xfrm>
        </p:grpSpPr>
        <p:sp>
          <p:nvSpPr>
            <p:cNvPr id="90" name=""/>
            <p:cNvSpPr/>
            <p:nvPr/>
          </p:nvSpPr>
          <p:spPr>
            <a:xfrm flipV="1">
              <a:off x="2438280" y="4876920"/>
              <a:ext cx="3812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46483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419720" y="3809880"/>
            <a:ext cx="1676160" cy="687600"/>
            <a:chOff x="4419720" y="3809880"/>
            <a:chExt cx="1676160" cy="687600"/>
          </a:xfrm>
        </p:grpSpPr>
        <p:grpSp>
          <p:nvGrpSpPr>
            <p:cNvPr id="93" name=""/>
            <p:cNvGrpSpPr/>
            <p:nvPr/>
          </p:nvGrpSpPr>
          <p:grpSpPr>
            <a:xfrm>
              <a:off x="4419720" y="3809880"/>
              <a:ext cx="1676160" cy="685440"/>
              <a:chOff x="4419720" y="3809880"/>
              <a:chExt cx="1676160" cy="685440"/>
            </a:xfrm>
          </p:grpSpPr>
          <p:sp>
            <p:nvSpPr>
              <p:cNvPr id="94" name=""/>
              <p:cNvSpPr/>
              <p:nvPr/>
            </p:nvSpPr>
            <p:spPr>
              <a:xfrm flipH="1" flipV="1">
                <a:off x="5790960" y="4266720"/>
                <a:ext cx="2286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4419720" y="3809880"/>
                <a:ext cx="1676160" cy="380880"/>
                <a:chOff x="4419720" y="3809880"/>
                <a:chExt cx="167616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4419720" y="3809880"/>
                  <a:ext cx="1676160" cy="38088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457880" y="3863880"/>
                  <a:ext cx="1600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Authentication Tok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4876920" y="42210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+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62A-CA81-4041-8CDE-7DF5E187AC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 Security Con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Pe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Pe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38080" y="3505320"/>
            <a:ext cx="2286000" cy="1035720"/>
            <a:chOff x="838080" y="3505320"/>
            <a:chExt cx="2286000" cy="1035720"/>
          </a:xfrm>
        </p:grpSpPr>
        <p:sp>
          <p:nvSpPr>
            <p:cNvPr id="103" name=""/>
            <p:cNvSpPr/>
            <p:nvPr/>
          </p:nvSpPr>
          <p:spPr>
            <a:xfrm>
              <a:off x="838080" y="420372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Wr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9320" y="3505320"/>
              <a:ext cx="2286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71800" y="2895480"/>
            <a:ext cx="2438280" cy="0"/>
            <a:chOff x="2971800" y="2895480"/>
            <a:chExt cx="2438280" cy="0"/>
          </a:xfrm>
        </p:grpSpPr>
        <p:sp>
          <p:nvSpPr>
            <p:cNvPr id="106" name=""/>
            <p:cNvSpPr/>
            <p:nvPr/>
          </p:nvSpPr>
          <p:spPr>
            <a:xfrm>
              <a:off x="297180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428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257800" y="3276720"/>
            <a:ext cx="2819520" cy="1296000"/>
            <a:chOff x="5257800" y="3276720"/>
            <a:chExt cx="2819520" cy="1296000"/>
          </a:xfrm>
        </p:grpSpPr>
        <p:sp>
          <p:nvSpPr>
            <p:cNvPr id="109" name=""/>
            <p:cNvSpPr/>
            <p:nvPr/>
          </p:nvSpPr>
          <p:spPr>
            <a:xfrm>
              <a:off x="5257800" y="42354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Unwr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15000" y="3276720"/>
              <a:ext cx="38088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0880" y="2971800"/>
            <a:ext cx="1676520" cy="380880"/>
            <a:chOff x="380880" y="2971800"/>
            <a:chExt cx="1676520" cy="380880"/>
          </a:xfrm>
        </p:grpSpPr>
        <p:sp>
          <p:nvSpPr>
            <p:cNvPr id="112" name=""/>
            <p:cNvSpPr/>
            <p:nvPr/>
          </p:nvSpPr>
          <p:spPr>
            <a:xfrm>
              <a:off x="380880" y="2971800"/>
              <a:ext cx="1676520" cy="380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040" y="3025800"/>
              <a:ext cx="16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362320" y="3048120"/>
            <a:ext cx="2742840" cy="914400"/>
            <a:chOff x="2362320" y="3048120"/>
            <a:chExt cx="2742840" cy="914400"/>
          </a:xfrm>
        </p:grpSpPr>
        <p:sp>
          <p:nvSpPr>
            <p:cNvPr id="115" name=""/>
            <p:cNvSpPr/>
            <p:nvPr/>
          </p:nvSpPr>
          <p:spPr>
            <a:xfrm flipV="1">
              <a:off x="2362320" y="3429000"/>
              <a:ext cx="3045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3429000" y="3048120"/>
              <a:ext cx="1676160" cy="380880"/>
              <a:chOff x="3429000" y="3048120"/>
              <a:chExt cx="1676160" cy="380880"/>
            </a:xfrm>
          </p:grpSpPr>
          <p:sp>
            <p:nvSpPr>
              <p:cNvPr id="117" name=""/>
              <p:cNvSpPr/>
              <p:nvPr/>
            </p:nvSpPr>
            <p:spPr>
              <a:xfrm>
                <a:off x="3429000" y="3048120"/>
                <a:ext cx="167616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467160" y="3102120"/>
                <a:ext cx="160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rapped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6400800" y="2895480"/>
            <a:ext cx="1676520" cy="914400"/>
            <a:chOff x="6400800" y="2895480"/>
            <a:chExt cx="1676520" cy="914400"/>
          </a:xfrm>
        </p:grpSpPr>
        <p:sp>
          <p:nvSpPr>
            <p:cNvPr id="120" name=""/>
            <p:cNvSpPr/>
            <p:nvPr/>
          </p:nvSpPr>
          <p:spPr>
            <a:xfrm flipV="1">
              <a:off x="6934320" y="3352680"/>
              <a:ext cx="2286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400800" y="2895480"/>
              <a:ext cx="1676520" cy="380880"/>
              <a:chOff x="6400800" y="2895480"/>
              <a:chExt cx="1676520" cy="380880"/>
            </a:xfrm>
          </p:grpSpPr>
          <p:sp>
            <p:nvSpPr>
              <p:cNvPr id="122" name=""/>
              <p:cNvSpPr/>
              <p:nvPr/>
            </p:nvSpPr>
            <p:spPr>
              <a:xfrm>
                <a:off x="6400800" y="2895480"/>
                <a:ext cx="167652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38960" y="2949480"/>
                <a:ext cx="160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F60-9D51-4791-A07F-081AB34801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GSS-AP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-API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6668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E8F-0A01-4C8D-8BFF-262AC0FF1D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8T14:47:30Z</dcterms:created>
  <dc:creator>Jesse R. Walker</dc:creator>
  <dc:description/>
  <dc:language>en-US</dc:language>
  <cp:lastModifiedBy>Jesse R. Walker</cp:lastModifiedBy>
  <cp:lastPrinted>1998-02-10T13:28:06Z</cp:lastPrinted>
  <dcterms:modified xsi:type="dcterms:W3CDTF">2000-09-18T22:40:10Z</dcterms:modified>
  <cp:revision>127</cp:revision>
  <dc:subject/>
  <dc:title>802.1X and 802.11 Security Models</dc:title>
</cp:coreProperties>
</file>