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9CBB-6714-49E5-8C65-A7EEE6DC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B5F9-28DE-4BD5-998E-EDFB88CC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2AD-1BF3-4E18-8AAA-113D7BD5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5BF-190A-40E0-BA35-8B7CB3E80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74AC-2855-49C1-8290-75742CB1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ED19-FFBD-439E-A5C2-5F71B178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10D-8B3D-4E60-AEF9-37996D4A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58E7-51AC-4C63-99F7-B6ECE560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C0B-8F05-4FD9-82E3-A37449F9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8E8-F866-4584-9F26-5131734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6E0-1E03-40B1-A02C-3F21231B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78A0-BD49-4602-9BA3-DC1C0DAB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C299C2C-28A7-445F-9051-C6E189087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SS-API as an 802.11 Security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sse Walker, Intel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Beach, Symbol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F0FE-51CB-42ED-9FA8-4AC9CFCFF55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andatory Implementation: Ro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20574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86600" y="20574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04920" y="2805120"/>
            <a:ext cx="2286000" cy="549720"/>
            <a:chOff x="304920" y="2805120"/>
            <a:chExt cx="2286000" cy="549720"/>
          </a:xfrm>
        </p:grpSpPr>
        <p:sp>
          <p:nvSpPr>
            <p:cNvPr id="160" name=""/>
            <p:cNvSpPr/>
            <p:nvPr/>
          </p:nvSpPr>
          <p:spPr>
            <a:xfrm>
              <a:off x="304920" y="304776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90720" y="2805120"/>
              <a:ext cx="457200" cy="27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838080" y="19810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438280" y="3230640"/>
            <a:ext cx="5257800" cy="276480"/>
            <a:chOff x="2438280" y="3230640"/>
            <a:chExt cx="5257800" cy="276480"/>
          </a:xfrm>
        </p:grpSpPr>
        <p:sp>
          <p:nvSpPr>
            <p:cNvPr id="164" name=""/>
            <p:cNvSpPr/>
            <p:nvPr/>
          </p:nvSpPr>
          <p:spPr>
            <a:xfrm>
              <a:off x="2438280" y="345924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43200" y="32306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345924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86400" y="32306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437920" y="3535200"/>
            <a:ext cx="5181840" cy="276480"/>
            <a:chOff x="2437920" y="3535200"/>
            <a:chExt cx="5181840" cy="276480"/>
          </a:xfrm>
        </p:grpSpPr>
        <p:sp>
          <p:nvSpPr>
            <p:cNvPr id="169" name=""/>
            <p:cNvSpPr/>
            <p:nvPr/>
          </p:nvSpPr>
          <p:spPr>
            <a:xfrm flipH="1">
              <a:off x="2437920" y="376380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43200" y="35352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952520" y="3763800"/>
              <a:ext cx="2667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86400" y="35352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1981080" y="3886200"/>
            <a:ext cx="3962520" cy="688320"/>
            <a:chOff x="1981080" y="3886200"/>
            <a:chExt cx="3962520" cy="688320"/>
          </a:xfrm>
        </p:grpSpPr>
        <p:sp>
          <p:nvSpPr>
            <p:cNvPr id="174" name=""/>
            <p:cNvSpPr/>
            <p:nvPr/>
          </p:nvSpPr>
          <p:spPr>
            <a:xfrm>
              <a:off x="4038480" y="4038840"/>
              <a:ext cx="9907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362320" y="3886200"/>
              <a:ext cx="1600200" cy="380880"/>
              <a:chOff x="2362320" y="3886200"/>
              <a:chExt cx="1600200" cy="380880"/>
            </a:xfrm>
          </p:grpSpPr>
          <p:sp>
            <p:nvSpPr>
              <p:cNvPr id="176" name=""/>
              <p:cNvSpPr/>
              <p:nvPr/>
            </p:nvSpPr>
            <p:spPr>
              <a:xfrm>
                <a:off x="2362320" y="388620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97240" y="394020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cket, 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1981080" y="403884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7600" y="426744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04920" y="4572000"/>
            <a:ext cx="4572000" cy="916920"/>
            <a:chOff x="304920" y="4572000"/>
            <a:chExt cx="4572000" cy="916920"/>
          </a:xfrm>
        </p:grpSpPr>
        <p:sp>
          <p:nvSpPr>
            <p:cNvPr id="181" name=""/>
            <p:cNvSpPr/>
            <p:nvPr/>
          </p:nvSpPr>
          <p:spPr>
            <a:xfrm flipH="1">
              <a:off x="3809880" y="4572000"/>
              <a:ext cx="10670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295280" y="4876920"/>
              <a:ext cx="10670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590920" y="4648320"/>
              <a:ext cx="1143000" cy="380880"/>
              <a:chOff x="2590920" y="4648320"/>
              <a:chExt cx="1143000" cy="380880"/>
            </a:xfrm>
          </p:grpSpPr>
          <p:sp>
            <p:nvSpPr>
              <p:cNvPr id="184" name=""/>
              <p:cNvSpPr/>
              <p:nvPr/>
            </p:nvSpPr>
            <p:spPr>
              <a:xfrm>
                <a:off x="2590920" y="464832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16840" y="470232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304920" y="518184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7848720" y="2743200"/>
            <a:ext cx="838080" cy="2590920"/>
            <a:chOff x="7848720" y="2743200"/>
            <a:chExt cx="838080" cy="2590920"/>
          </a:xfrm>
        </p:grpSpPr>
        <p:sp>
          <p:nvSpPr>
            <p:cNvPr id="188" name=""/>
            <p:cNvSpPr/>
            <p:nvPr/>
          </p:nvSpPr>
          <p:spPr>
            <a:xfrm>
              <a:off x="7848720" y="2743200"/>
              <a:ext cx="0" cy="25909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48720" y="384012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Times New Roman"/>
                </a:rPr>
                <a:t>Kerb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849-C3E8-410A-926E-A0EC6B11B7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2: Bulk Data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GSS_Wrap and GSS_Unwrap as an architectural service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SS_Wrap to produce token from input into the MAC_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bed token as data field of an 802.11 data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GSS_Unwrap to extract data to output through the receiver’s MAC_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9E5-9D8F-4429-B5AC-BB59166FA3F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 Model:              Data Pro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295280" y="2666880"/>
            <a:ext cx="2666880" cy="2514600"/>
            <a:chOff x="1295280" y="2666880"/>
            <a:chExt cx="2666880" cy="2514600"/>
          </a:xfrm>
        </p:grpSpPr>
        <p:grpSp>
          <p:nvGrpSpPr>
            <p:cNvPr id="194" name=""/>
            <p:cNvGrpSpPr/>
            <p:nvPr/>
          </p:nvGrpSpPr>
          <p:grpSpPr>
            <a:xfrm>
              <a:off x="1295280" y="2666880"/>
              <a:ext cx="2666880" cy="2514600"/>
              <a:chOff x="1295280" y="2666880"/>
              <a:chExt cx="2666880" cy="2514600"/>
            </a:xfrm>
          </p:grpSpPr>
          <p:sp>
            <p:nvSpPr>
              <p:cNvPr id="195" name=""/>
              <p:cNvSpPr/>
              <p:nvPr/>
            </p:nvSpPr>
            <p:spPr>
              <a:xfrm>
                <a:off x="2666520" y="4343400"/>
                <a:ext cx="1295280" cy="838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5280" y="2666880"/>
                <a:ext cx="2666880" cy="16765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904760" y="3048120"/>
                <a:ext cx="152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C Sublay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980720" y="266688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C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71240" y="4373640"/>
                <a:ext cx="129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Y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895120" y="4373640"/>
                <a:ext cx="91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SS-A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2742840" y="4343400"/>
              <a:ext cx="1067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7560" y="4343400"/>
              <a:ext cx="106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57040" y="2666880"/>
              <a:ext cx="1067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981080" y="2666520"/>
            <a:ext cx="1904760" cy="1526400"/>
            <a:chOff x="1981080" y="2666520"/>
            <a:chExt cx="1904760" cy="1526400"/>
          </a:xfrm>
        </p:grpSpPr>
        <p:sp>
          <p:nvSpPr>
            <p:cNvPr id="205" name=""/>
            <p:cNvSpPr/>
            <p:nvPr/>
          </p:nvSpPr>
          <p:spPr>
            <a:xfrm>
              <a:off x="373356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8108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90560" y="391644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S_Wr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 flipV="1">
              <a:off x="3047400" y="2895480"/>
              <a:ext cx="6858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047760" y="2666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1916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5257800" y="2666880"/>
            <a:ext cx="2666880" cy="2514600"/>
            <a:chOff x="5257800" y="2666880"/>
            <a:chExt cx="2666880" cy="2514600"/>
          </a:xfrm>
        </p:grpSpPr>
        <p:grpSp>
          <p:nvGrpSpPr>
            <p:cNvPr id="213" name=""/>
            <p:cNvGrpSpPr/>
            <p:nvPr/>
          </p:nvGrpSpPr>
          <p:grpSpPr>
            <a:xfrm>
              <a:off x="5257800" y="2666880"/>
              <a:ext cx="2666880" cy="2514600"/>
              <a:chOff x="5257800" y="2666880"/>
              <a:chExt cx="2666880" cy="2514600"/>
            </a:xfrm>
          </p:grpSpPr>
          <p:sp>
            <p:nvSpPr>
              <p:cNvPr id="214" name=""/>
              <p:cNvSpPr/>
              <p:nvPr/>
            </p:nvSpPr>
            <p:spPr>
              <a:xfrm>
                <a:off x="6629040" y="4343400"/>
                <a:ext cx="1295280" cy="838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57800" y="2666880"/>
                <a:ext cx="2666880" cy="1676520"/>
              </a:xfrm>
              <a:prstGeom prst="rect">
                <a:avLst/>
              </a:prstGeom>
              <a:solidFill>
                <a:srgbClr val="ff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67280" y="3048120"/>
                <a:ext cx="1523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C Sublay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43240" y="2666880"/>
                <a:ext cx="1295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C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333760" y="4373640"/>
                <a:ext cx="1294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PHY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857640" y="4373640"/>
                <a:ext cx="914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SS-AP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705360" y="4343400"/>
              <a:ext cx="1067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10080" y="4343400"/>
              <a:ext cx="106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019560" y="2666880"/>
              <a:ext cx="10670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943600" y="2666520"/>
            <a:ext cx="1981080" cy="1526400"/>
            <a:chOff x="5943600" y="2666520"/>
            <a:chExt cx="1981080" cy="1526400"/>
          </a:xfrm>
        </p:grpSpPr>
        <p:sp>
          <p:nvSpPr>
            <p:cNvPr id="224" name=""/>
            <p:cNvSpPr/>
            <p:nvPr/>
          </p:nvSpPr>
          <p:spPr>
            <a:xfrm>
              <a:off x="769608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94360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38862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629400" y="3916440"/>
              <a:ext cx="129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GSS_Unwr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7009920" y="2895480"/>
              <a:ext cx="685800" cy="990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010280" y="2666520"/>
              <a:ext cx="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81680" y="388620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01A-1275-413F-B8D2-41344CFC072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Requirements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tual authentication (4.1.1): satisified by Ker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mmodation with QoS (4.2.1): satisfied by Ker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control (4.2.2): GSS-API can be integrated into 802.11 access contro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authenticity (4.2.3) and data confidentiality (4.3.1): satisfied by GSS_Wrap, GSS_Unwr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erivation (4.4.1): satisfied by all GSS-API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rets protected from eavesdroppers (4.4.2): satisfied by all GSS-API mech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89A5-A73F-41FF-B8A9-98E0AB71C9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Requirement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ity service negotiations (4.5.1): satisfied by SPNEGO pseudo-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bility (4.5.2):  well-defined API producing opaque tokens for us to pass back and f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andatory-to-implement algorithm (4.5.3): Kerberos only mandatory-to-implement security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lability to all 802.11 environments (4.6): Yes; see examples to fo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atory to implement mechanisms support Enterprise, So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PKINIT or SRP for ad hoc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SPKM to support public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3767-875A-4C7A-AAEF-F5F125E12FB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Proposal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200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A56E-1B30-4CF1-9B58-03C0B174062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 Specific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uthentication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-less Kerb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ship between AP, KDC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ming optimiz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606C-172B-4191-A24A-C253932EF41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sociate, then authenticate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S-API model allows any STA to associate with any A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ips current “authenticate, then associate”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uthenticated STA can send only to AP/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drops frames to other dest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allows no direct unicast traffic to 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uthenticated STA must authenticate within short time (few seconds) or AP drops its a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24B0-092A-475D-AD8F-B0F555EB58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 without 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existing Kerberos implementations run over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 encapsulates Kerberos messages in 802.11 Managemen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S-API mechanisms generating messages must use SDE_S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AP maintains a KDC “Proxy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es User Kerberos messages in UDP/IP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own IP address for these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filter bogus or malformed Kerbero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s KDC from unauthenticated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6A2-9C90-48E4-97B5-BFE78BD634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ionship between KDC, 802.1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side the scope of 802.11, but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chitecture permits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AP (useful for home, So/H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side the AP (useful for enterprise campu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ed directly by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cted via proxy device (e.g., RADIUS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STA (useful for IBSS when combined with PKI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D83C-C922-4A6B-BA6F-31303E3EBF8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GSS-API (RFC 2743) to define an abstrac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802.11 securit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PNEGO (RFC 2478) as the mandatory-to-implement GSS-API security negotiatio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rberos (RFC 1510, RFC 1964) as the mandatory-to-implement GSS-API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C74-1B8D-4B21-8390-15E0F84FD9C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me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 relies on synchronized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need current time synchronized with KDC’s time, accurate to within seco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ources: NTP or internal clock in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broadcasts time on regular ba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STA can hea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to beac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1024-0058-439F-9C5F-59B295642B0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optimize roam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ility #1: All AP’s share an identity with the KDC (the AP service is registered with the addresses of every 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ility #2: Distribute a “roaming” key to the APs who distribute it to the 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2CD8-FB09-48E3-B7CB-9CE0291BF54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Proposal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 Det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3809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278B-0A72-4727-948B-E6E61EEE81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Campus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ntralized Kerberos KDC config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configured to use centralized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s send Kerberos ticket request to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proxy ticket requests from STAs to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s proxy responses from KDC to 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s and APs authenticate via tickets returned to STA from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7B5F-99FA-4198-96AB-6A609D8152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Home/SoHo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 KDC embedded in 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s request tickets to A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DC within AP responds directly to STA’s ticke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 and AP authenticate via ticket issued to STA by the AP’s K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A6F7-30FD-4E0B-AFB2-A5259B54BCA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d hoc Network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 maintains its own Kerberos “KDC-l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 users exchange PGP certificates in the clear at a “PGP key signing par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per-link keys with IBSS peer, run the PKINIT+Kerberos GSS-API mechanism, using PGP certificates to establish Kerberos ti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560F-6B30-48C8-A418-6E206A4A02C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d hoc Network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 maintains an SRP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 particip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on a common password and “usernam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e their local SRP databases with the password and user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establish per-link keys with another peer in IBSS, run the SRP GSS-API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FE9-BBA9-4840-A369-D37F29140B8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n Internet Caf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Use SPKM to establish secur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generates a random session key, encrypts with infrastructure’s public registration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encrypted key to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Run XML over secure link to get credit card number from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Open link to Internet after customer p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ma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this emulates the SSL e-commerc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E8B7-0A5F-4722-8DA6-EF60159BAEF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egacy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Use SPKM to establish secur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Use legacy 1-way user authentication (e.g., via 802.1x) over secure link to authenticate STA user to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Open access to infrastructure network to the legacy authenticated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C48D-5A38-4524-8DF3-30770B97C6D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Regis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Use SPKM to establish secur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Use EAP (802.1x) over secure link to authenticate user to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Run CMP, CMC, or CEP Certificate Registration to issue certificate, policy to wireless station or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4: Use PKINIT+Kerberos to establish per-link keys there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E494-D67B-4E98-99FF-BFEE8FF64C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 Deta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2057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BA28-9C2F-49E4-8F59-36DFCD9B97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Credentials Retriev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1: Use SPKM to establish secure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2: Run SACRED over secure link to allow user to retrieve credentials from the 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 3: Rerun SPNEGO to renegotiate link with retrieved credent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327-2F71-4BE2-A726-0CF52909ABA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Work (1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token encapsulation, forwarding, retries, etc. in 802.11 Mgm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access control state machine to allow mechanisms to passes GSS messages a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GSS_Wrap token encapsulation in 802.11 data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ails of re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SS specific algorithms, e.g., overcoming race conditions on nego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AA9-66EC-4BED-B50E-B62C1F06949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the Work (2)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 (I)BSS name to security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tional information desirable in bea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 GSS-API parameters to be used with each mechanism within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synchronization for Kerb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e for source code to be truly exp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to get AES incorporated into GSS-API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85BD-49D0-4F92-BD21-B52CCA94D8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thing else within scope worth do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use of legacy authentic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don’t, market will not take 802.11 authentication seriously. Is it in scop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public network mechani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registration, policy distribu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key distribu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882-CEB2-4DB6-8F90-255722BBEF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-API Proposal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3520" y="43434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C15B-563A-41B1-A8EC-685136EFBDC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use GSS_(Un)Wr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PI is already defined and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on using known primitives correctly instead of inventing new schemes requiring their ow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er time to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will take too long to get key derivation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ap/Unwrap mechanism expor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I conformant mechanism can be plugged into crypto-less 802.11 exported overs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ing key derivation, security payload formats in 802.11 works moves security back into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9CF-DD96-458D-B87D-CF6441EFA14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WEP for bulk dat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gram service means RC4 key schedule must be recomputed for each fram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ad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P doesn’t deliver on its promise of 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chance of a collision among &lt;key, IV&gt; pairs after onl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4/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096 frames throughout entire 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ryptanalysis of RC4 easiest at beginning of output key stream any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P applies the easily cryptanalyzed part of the RC4 key stream to known plaintext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header id field enables differential crypt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P moves crypto considerations into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788-156C-4063-8694-5742FC86BA0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S-API and supporting mechanisms meet the TGe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osals has other desirable properties as wel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es on widely deployed security service, Kerb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s crypto considerations from 802.11 per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es a very large number of deployment scen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s the playing field from a security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the door to innovation by vend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80F-0C14-4423-B553-A145D2AE7F2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ba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e01496_" descr=""/>
          <p:cNvPicPr/>
          <p:nvPr/>
        </p:nvPicPr>
        <p:blipFill>
          <a:blip r:embed="rId1"/>
          <a:stretch/>
        </p:blipFill>
        <p:spPr>
          <a:xfrm>
            <a:off x="3110040" y="194148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921D-62EB-4E52-AB10-B03D1A2F4E1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tisfy the TGe Requirements docu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reinvent the wh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s won’t deploy new mechanisms that make them throw away old security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ing our own will take years to get security r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use prove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well-defined tokens that easily fit into existing 802.11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8BC-B742-4BEB-937F-A03D9E1E70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rt security functionality out of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SS: MAC can’t solve the security problem by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 on how to use security mechanisms, not what the mechanisms are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vel the playing f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ize network equipment market by introducing a standard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mandate algorithms with open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opportunities for vendors to inno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22D-6F2F-4A5A-9BFE-8A086D1EC8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s for 802.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beros Deta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ple Deplo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2 and Legacy Priv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66688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66C-CC64-44A8-9C41-59C70B6C6B4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al 1: Negotiation, Authentication, and Key Mg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otiation: use SPNEGO (RFC 2478) pseudo mechanism to negotiate actual security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datory-to-implement authentication: Kerberos (RFC 1510) GSS-API (RFC 196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KINIT+Kerberos for IB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 GSS-API Kerberos source code available at http://web.mit.edu/kerberos/www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GSS-API mechanisms are op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B7CD-9143-4BAB-8622-2C8F7FC477F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0" y="5181480"/>
            <a:ext cx="1981080" cy="838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rchitectural Model: Authentication and Key Mgm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4525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S-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3505320"/>
            <a:ext cx="2667240" cy="16761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3505320"/>
            <a:ext cx="2666880" cy="1676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29240" y="3886200"/>
            <a:ext cx="179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C Sublayer Management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95560" y="38862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C Sub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24160" y="350532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858000" y="384804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518148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05720" y="4145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LME_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5181480"/>
            <a:ext cx="1066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5211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Y_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400440" y="4495680"/>
            <a:ext cx="1981440" cy="459000"/>
            <a:chOff x="6400440" y="4495680"/>
            <a:chExt cx="1981440" cy="459000"/>
          </a:xfrm>
        </p:grpSpPr>
        <p:sp>
          <p:nvSpPr>
            <p:cNvPr id="75" name=""/>
            <p:cNvSpPr/>
            <p:nvPr/>
          </p:nvSpPr>
          <p:spPr>
            <a:xfrm flipH="1">
              <a:off x="6400440" y="4572000"/>
              <a:ext cx="1143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67480" y="4495680"/>
              <a:ext cx="914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elect Mechani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105520" y="52117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SS-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895480" y="4343400"/>
            <a:ext cx="2590920" cy="685800"/>
            <a:chOff x="2895480" y="4343400"/>
            <a:chExt cx="2590920" cy="685800"/>
          </a:xfrm>
        </p:grpSpPr>
        <p:sp>
          <p:nvSpPr>
            <p:cNvPr id="79" name=""/>
            <p:cNvSpPr/>
            <p:nvPr/>
          </p:nvSpPr>
          <p:spPr>
            <a:xfrm>
              <a:off x="5486400" y="4724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5480" y="4724280"/>
              <a:ext cx="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95480" y="472428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71800" y="4343400"/>
              <a:ext cx="251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bed GSS-API tokens in 802.11 Mgmt Fram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523880" y="2133720"/>
            <a:ext cx="2667240" cy="2361960"/>
            <a:chOff x="1523880" y="2133720"/>
            <a:chExt cx="2667240" cy="2361960"/>
          </a:xfrm>
        </p:grpSpPr>
        <p:grpSp>
          <p:nvGrpSpPr>
            <p:cNvPr id="84" name=""/>
            <p:cNvGrpSpPr/>
            <p:nvPr/>
          </p:nvGrpSpPr>
          <p:grpSpPr>
            <a:xfrm>
              <a:off x="1523880" y="2133720"/>
              <a:ext cx="2667240" cy="1371600"/>
              <a:chOff x="1523880" y="2133720"/>
              <a:chExt cx="2667240" cy="1371600"/>
            </a:xfrm>
          </p:grpSpPr>
          <p:sp>
            <p:nvSpPr>
              <p:cNvPr id="85" name=""/>
              <p:cNvSpPr/>
              <p:nvPr/>
            </p:nvSpPr>
            <p:spPr>
              <a:xfrm>
                <a:off x="1981080" y="2133720"/>
                <a:ext cx="1981440" cy="8380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86000" y="2209680"/>
                <a:ext cx="1371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GSS-API Mechanis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523880" y="2971800"/>
                <a:ext cx="2667240" cy="533520"/>
              </a:xfrm>
              <a:prstGeom prst="rect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09680" y="3124080"/>
                <a:ext cx="1295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LL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362320" y="2971800"/>
                <a:ext cx="106668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09680" y="2666880"/>
                <a:ext cx="1295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802.10SDE_S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514600" y="2971800"/>
              <a:ext cx="0" cy="1523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209680" y="3505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C_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1DBF-944B-4038-A30D-1259DF2BFF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Mandatory Implementation: Initial Cont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182880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cc9900"/>
                </a:solidFill>
                <a:uFillTx/>
                <a:latin typeface="Times New Roman"/>
              </a:rPr>
              <a:t>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Times New Roman"/>
              </a:rPr>
              <a:t>K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04920" y="2209680"/>
            <a:ext cx="2286000" cy="550080"/>
            <a:chOff x="304920" y="2209680"/>
            <a:chExt cx="2286000" cy="550080"/>
          </a:xfrm>
        </p:grpSpPr>
        <p:sp>
          <p:nvSpPr>
            <p:cNvPr id="98" name=""/>
            <p:cNvSpPr/>
            <p:nvPr/>
          </p:nvSpPr>
          <p:spPr>
            <a:xfrm>
              <a:off x="304920" y="245268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90720" y="2209680"/>
              <a:ext cx="45720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838080" y="1752480"/>
            <a:ext cx="83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438280" y="2438280"/>
            <a:ext cx="3505320" cy="688320"/>
            <a:chOff x="2438280" y="2438280"/>
            <a:chExt cx="3505320" cy="688320"/>
          </a:xfrm>
        </p:grpSpPr>
        <p:sp>
          <p:nvSpPr>
            <p:cNvPr id="102" name=""/>
            <p:cNvSpPr/>
            <p:nvPr/>
          </p:nvSpPr>
          <p:spPr>
            <a:xfrm>
              <a:off x="3657600" y="28195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38280" y="25909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86200" y="2590920"/>
              <a:ext cx="7621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819520" y="2438280"/>
              <a:ext cx="990360" cy="380880"/>
              <a:chOff x="2819520" y="2438280"/>
              <a:chExt cx="990360" cy="380880"/>
            </a:xfrm>
          </p:grpSpPr>
          <p:sp>
            <p:nvSpPr>
              <p:cNvPr id="106" name=""/>
              <p:cNvSpPr/>
              <p:nvPr/>
            </p:nvSpPr>
            <p:spPr>
              <a:xfrm>
                <a:off x="2819520" y="2438280"/>
                <a:ext cx="99036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841840" y="2492280"/>
                <a:ext cx="94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Kerber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304920" y="3048120"/>
            <a:ext cx="4190400" cy="764280"/>
            <a:chOff x="304920" y="3048120"/>
            <a:chExt cx="4190400" cy="764280"/>
          </a:xfrm>
        </p:grpSpPr>
        <p:sp>
          <p:nvSpPr>
            <p:cNvPr id="109" name=""/>
            <p:cNvSpPr/>
            <p:nvPr/>
          </p:nvSpPr>
          <p:spPr>
            <a:xfrm flipH="1">
              <a:off x="1371600" y="3200400"/>
              <a:ext cx="137160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962160" y="3200400"/>
              <a:ext cx="533160" cy="76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819520" y="3048120"/>
              <a:ext cx="990360" cy="380880"/>
              <a:chOff x="2819520" y="3048120"/>
              <a:chExt cx="990360" cy="380880"/>
            </a:xfrm>
          </p:grpSpPr>
          <p:sp>
            <p:nvSpPr>
              <p:cNvPr id="112" name=""/>
              <p:cNvSpPr/>
              <p:nvPr/>
            </p:nvSpPr>
            <p:spPr>
              <a:xfrm>
                <a:off x="2819520" y="3048120"/>
                <a:ext cx="99036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41840" y="3102120"/>
                <a:ext cx="945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Kerbero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304920" y="35053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438280" y="3429000"/>
            <a:ext cx="5257800" cy="276480"/>
            <a:chOff x="2438280" y="3429000"/>
            <a:chExt cx="5257800" cy="276480"/>
          </a:xfrm>
        </p:grpSpPr>
        <p:sp>
          <p:nvSpPr>
            <p:cNvPr id="116" name=""/>
            <p:cNvSpPr/>
            <p:nvPr/>
          </p:nvSpPr>
          <p:spPr>
            <a:xfrm>
              <a:off x="2438280" y="365760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43200" y="34290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52880" y="36576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34290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37920" y="3733920"/>
            <a:ext cx="5181840" cy="276480"/>
            <a:chOff x="2437920" y="3733920"/>
            <a:chExt cx="5181840" cy="276480"/>
          </a:xfrm>
        </p:grpSpPr>
        <p:sp>
          <p:nvSpPr>
            <p:cNvPr id="121" name=""/>
            <p:cNvSpPr/>
            <p:nvPr/>
          </p:nvSpPr>
          <p:spPr>
            <a:xfrm flipH="1">
              <a:off x="2437920" y="396252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37339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4952520" y="3962520"/>
              <a:ext cx="2667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6400" y="37339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AP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438280" y="4068720"/>
            <a:ext cx="5257800" cy="276480"/>
            <a:chOff x="2438280" y="4068720"/>
            <a:chExt cx="5257800" cy="276480"/>
          </a:xfrm>
        </p:grpSpPr>
        <p:sp>
          <p:nvSpPr>
            <p:cNvPr id="126" name=""/>
            <p:cNvSpPr/>
            <p:nvPr/>
          </p:nvSpPr>
          <p:spPr>
            <a:xfrm>
              <a:off x="2438280" y="4297320"/>
              <a:ext cx="2286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40687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52880" y="429732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86400" y="40687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437920" y="4373640"/>
            <a:ext cx="5181840" cy="276480"/>
            <a:chOff x="2437920" y="4373640"/>
            <a:chExt cx="5181840" cy="276480"/>
          </a:xfrm>
        </p:grpSpPr>
        <p:sp>
          <p:nvSpPr>
            <p:cNvPr id="131" name=""/>
            <p:cNvSpPr/>
            <p:nvPr/>
          </p:nvSpPr>
          <p:spPr>
            <a:xfrm flipH="1">
              <a:off x="2437920" y="4602240"/>
              <a:ext cx="22100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43200" y="43736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952520" y="4602240"/>
              <a:ext cx="2667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86400" y="43736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KRB_TGT_RE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981080" y="4724280"/>
            <a:ext cx="3962520" cy="688320"/>
            <a:chOff x="1981080" y="4724280"/>
            <a:chExt cx="3962520" cy="688320"/>
          </a:xfrm>
        </p:grpSpPr>
        <p:sp>
          <p:nvSpPr>
            <p:cNvPr id="136" name=""/>
            <p:cNvSpPr/>
            <p:nvPr/>
          </p:nvSpPr>
          <p:spPr>
            <a:xfrm>
              <a:off x="4038480" y="4876920"/>
              <a:ext cx="99072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2362320" y="4724280"/>
              <a:ext cx="1600200" cy="380880"/>
              <a:chOff x="2362320" y="4724280"/>
              <a:chExt cx="1600200" cy="380880"/>
            </a:xfrm>
          </p:grpSpPr>
          <p:sp>
            <p:nvSpPr>
              <p:cNvPr id="138" name=""/>
              <p:cNvSpPr/>
              <p:nvPr/>
            </p:nvSpPr>
            <p:spPr>
              <a:xfrm>
                <a:off x="2362320" y="4724280"/>
                <a:ext cx="1600200" cy="380880"/>
              </a:xfrm>
              <a:prstGeom prst="rect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397240" y="4778280"/>
                <a:ext cx="1530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icket, 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981080" y="487692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57600" y="51055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04920" y="5410080"/>
            <a:ext cx="4572000" cy="916920"/>
            <a:chOff x="304920" y="5410080"/>
            <a:chExt cx="4572000" cy="916920"/>
          </a:xfrm>
        </p:grpSpPr>
        <p:sp>
          <p:nvSpPr>
            <p:cNvPr id="143" name=""/>
            <p:cNvSpPr/>
            <p:nvPr/>
          </p:nvSpPr>
          <p:spPr>
            <a:xfrm flipH="1">
              <a:off x="3809880" y="5410080"/>
              <a:ext cx="10670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1295280" y="5715000"/>
              <a:ext cx="106704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590920" y="5486400"/>
              <a:ext cx="1143000" cy="380880"/>
              <a:chOff x="2590920" y="5486400"/>
              <a:chExt cx="1143000" cy="380880"/>
            </a:xfrm>
          </p:grpSpPr>
          <p:sp>
            <p:nvSpPr>
              <p:cNvPr id="146" name=""/>
              <p:cNvSpPr/>
              <p:nvPr/>
            </p:nvSpPr>
            <p:spPr>
              <a:xfrm>
                <a:off x="2590920" y="5486400"/>
                <a:ext cx="1143000" cy="380880"/>
              </a:xfrm>
              <a:prstGeom prst="rect">
                <a:avLst/>
              </a:prstGeom>
              <a:solidFill>
                <a:srgbClr val="cc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616840" y="5540400"/>
                <a:ext cx="109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entic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304920" y="6019920"/>
              <a:ext cx="228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SS_Init_sec_cont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7848720" y="2438280"/>
            <a:ext cx="838080" cy="914400"/>
            <a:chOff x="7848720" y="2438280"/>
            <a:chExt cx="838080" cy="914400"/>
          </a:xfrm>
        </p:grpSpPr>
        <p:sp>
          <p:nvSpPr>
            <p:cNvPr id="150" name=""/>
            <p:cNvSpPr/>
            <p:nvPr/>
          </p:nvSpPr>
          <p:spPr>
            <a:xfrm>
              <a:off x="7848720" y="2438280"/>
              <a:ext cx="0" cy="91440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48720" y="266688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Times New Roman"/>
                </a:rPr>
                <a:t>SPNE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7848720" y="3581280"/>
            <a:ext cx="838080" cy="2590920"/>
            <a:chOff x="7848720" y="3581280"/>
            <a:chExt cx="838080" cy="2590920"/>
          </a:xfrm>
        </p:grpSpPr>
        <p:sp>
          <p:nvSpPr>
            <p:cNvPr id="153" name=""/>
            <p:cNvSpPr/>
            <p:nvPr/>
          </p:nvSpPr>
          <p:spPr>
            <a:xfrm>
              <a:off x="7848720" y="3581280"/>
              <a:ext cx="0" cy="259092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48720" y="467820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0000"/>
                  </a:solidFill>
                  <a:latin typeface="Times New Roman"/>
                </a:rPr>
                <a:t>Kerbe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esse Walker and Bob Bea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3C1-FB7C-4ED9-863C-9EBF2891E72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8T14:47:30Z</dcterms:created>
  <dc:creator>Jesse R. Walker</dc:creator>
  <dc:description/>
  <dc:language>en-US</dc:language>
  <cp:lastModifiedBy>Jesse R. Walker</cp:lastModifiedBy>
  <cp:lastPrinted>1998-02-10T13:28:06Z</cp:lastPrinted>
  <dcterms:modified xsi:type="dcterms:W3CDTF">2000-09-18T22:40:51Z</dcterms:modified>
  <cp:revision>134</cp:revision>
  <dc:subject/>
  <dc:title>802.1X and 802.11 Security Models</dc:title>
</cp:coreProperties>
</file>