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98480" y="97200"/>
            <a:ext cx="2838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9880" y="97200"/>
            <a:ext cx="2760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805200" y="8986680"/>
            <a:ext cx="25322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58840" y="8986680"/>
            <a:ext cx="809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585BC6-5812-4E91-8293-7864D151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080" y="8986680"/>
            <a:ext cx="71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080" y="8985240"/>
            <a:ext cx="55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4120" y="297000"/>
            <a:ext cx="56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wer amplifier has a nonlinearity which increases the bandwidth of the signal.  In fact, this 11 MHz chip rate QPSK signal with a 5th order Butterworth filter is able to just meet the mask for this particular PA with a backoff of 3.5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mpact does a power amplifier have on a transmitted signal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show the Rapp Model which models the nonlinearity of a power amplifier.  It is commonly accepted that the Rapp Model with a parameter of p=2 or 3 is a good model for realistic PA’s.  The plot shows a linear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ot shows the characteristic in dB vs. dB.  The bottom right plot shows the saturation point and the 1 dB Compression Point for various values of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0DE-28BE-4128-8A52-89C9A671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520-7E26-4ED7-AC86-968385E1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0FA-358D-4B55-835A-9E553B3E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B58-47DD-41AA-9BA9-F4C8B95E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852-7C6E-4967-B622-6057B02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7FA-D84F-4440-8C0E-B31A7B7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10D-A793-44E5-BB1D-B769C0DC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3FF-AB77-4526-A4F0-30E76FF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6EA-7002-4AF7-8881-9B70B3D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832-E218-456D-AF76-2F415CD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1E1-1328-4F95-B7EB-AD569A1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9D0-D499-4A80-A706-6B762D7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05B6C9-FC2D-42C3-A2D8-A14C9C39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A Model f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C33-7750-471F-947B-3E70591886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atlab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0640" y="2209680"/>
            <a:ext cx="7541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%%%%%%%%%%%%%%%%%%%%%%%%%%%%%%%%%%%%%%%%%%%%%%%%%%%%%%%%%%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RappPa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RAPP model of a power amplifi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Input:   Vector of complex nu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Output:  Vector of complex numbers with same dimension as in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Mark Webster                              Septem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%%%%%%%%%%%%%%%%%%%%%%%%%%%%%%%%%%%%%%%%%%%%%%%%%%%%%%%%%%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 RappPa( x, p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om = (1 + abs(x).^(2*p)) .^ (1/(2*p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 x ./ deno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F3E-3740-4B25-9037-2F5D6C2D9E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use of RAPP PA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=2 and p=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utput back-off (OBO) from full saturation to specify the driv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-sample signal 2x to 4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spectrum (mas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2D2-99C5-401C-8A84-04904BEEB0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3680" y="1828800"/>
            <a:ext cx="720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describes a power amplifi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non-linearity for 802.11 HRb propos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 impacts spectral m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solid-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ower amplif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for Wireless Multimedia Commun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 van Nee, Ramjee Prasad, Artech House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4AF-40C5-4C29-A504-F3DD783E88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 of Power Ampl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382840" y="2057400"/>
            <a:ext cx="35607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920" y="1752480"/>
            <a:ext cx="180216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 MHz Chip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7160" y="1752480"/>
            <a:ext cx="66384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66680" y="1630440"/>
            <a:ext cx="1794600" cy="824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th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terwor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282920" y="2193840"/>
          <a:ext cx="749520" cy="20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2920" y="2193840"/>
                    <a:ext cx="74952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867280" y="1752480"/>
            <a:ext cx="221004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fefef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pp PA (p 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 dB Output Ba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0160" y="30924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6160" y="3527280"/>
            <a:ext cx="1526400" cy="580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fter 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638320" y="4114800"/>
            <a:ext cx="4431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320" y="363708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2120" y="4441680"/>
            <a:ext cx="1526400" cy="580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efore 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15000" y="5029200"/>
            <a:ext cx="4428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62E-A109-4F43-98CF-2B8ED3E1DC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eneral P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97360" y="2743200"/>
            <a:ext cx="106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97360" y="3505320"/>
            <a:ext cx="106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7640" y="2514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bs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50576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ngle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05920" y="3124080"/>
            <a:ext cx="13237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plitu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3400" y="4435560"/>
            <a:ext cx="9824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0080" y="320040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0440" y="4495680"/>
            <a:ext cx="506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4724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3960" y="3265560"/>
          <a:ext cx="17557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265560"/>
                    <a:ext cx="1755720" cy="62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172200" y="4299120"/>
          <a:ext cx="18334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299120"/>
                    <a:ext cx="183348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0968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724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057400"/>
            <a:ext cx="5715000" cy="3733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4724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200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518080" y="4724280"/>
          <a:ext cx="50184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8080" y="4724280"/>
                    <a:ext cx="501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265640" y="4267080"/>
          <a:ext cx="3826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5640" y="4267080"/>
                    <a:ext cx="382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018120" y="2666880"/>
          <a:ext cx="611280" cy="5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8120" y="2666880"/>
                    <a:ext cx="611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49568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35400" y="2590920"/>
          <a:ext cx="519120" cy="5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5400" y="2590920"/>
                    <a:ext cx="51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64600" y="20685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w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0880" y="4102200"/>
          <a:ext cx="53640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0880" y="4102200"/>
                    <a:ext cx="5364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20920" y="25909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ime-va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ignal En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D2F4-F210-4DDC-A54E-CA3E830888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commended P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68760" y="3292560"/>
            <a:ext cx="10602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9040" y="27432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bs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0240" y="52862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ngle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7320" y="3352680"/>
            <a:ext cx="13237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plitu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74800" y="4664160"/>
            <a:ext cx="9824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1480" y="364644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9528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3429000"/>
          <a:ext cx="1447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049800" y="4527720"/>
          <a:ext cx="16192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9800" y="4527720"/>
                    <a:ext cx="161928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981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952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8098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286000"/>
            <a:ext cx="5715000" cy="3733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952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657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6464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76560" y="4419720"/>
          <a:ext cx="460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6560" y="4419720"/>
                    <a:ext cx="460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89520" y="3112920"/>
          <a:ext cx="611280" cy="5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9520" y="3112920"/>
                    <a:ext cx="611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006800" y="3036960"/>
          <a:ext cx="519120" cy="55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6800" y="3036960"/>
                    <a:ext cx="51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636000" y="2286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w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3560" y="1704960"/>
            <a:ext cx="50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Fairly Representative of Solid State Ampl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E20-3BF3-4B5A-9E16-8BF2A0EB98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APP Model for AM/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5181480" cy="372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7280" y="1523880"/>
            <a:ext cx="210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APP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or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040" y="601992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. IEEE802.11-97/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440" y="39574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90120" y="3500280"/>
            <a:ext cx="1843560" cy="33732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 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590920"/>
          <a:ext cx="2313000" cy="114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90920"/>
                    <a:ext cx="23130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5640" y="43434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5880" y="4786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dB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Off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733920" y="1857240"/>
          <a:ext cx="426708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1857240"/>
                    <a:ext cx="4267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E07-B80C-4F3C-9DCD-5FFBE5AA87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utput Power Description: 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dB Compression Poin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Full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46840" y="3200400"/>
            <a:ext cx="32590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46840" y="55119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6840" y="5278320"/>
            <a:ext cx="3259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46840" y="504684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6840" y="48150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46840" y="45831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6840" y="435132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6840" y="41292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6840" y="38973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46840" y="366408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46840" y="343224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46840" y="3200400"/>
            <a:ext cx="3259080" cy="231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6840" y="3200400"/>
            <a:ext cx="1440" cy="231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05440" y="5511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05440" y="5278320"/>
            <a:ext cx="41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5440" y="50468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054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5440" y="45831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05440" y="4351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5440" y="4129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5440" y="38973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05440" y="36640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5440" y="3432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5440" y="320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46840" y="32004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468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086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722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1358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97640" y="3200400"/>
            <a:ext cx="32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851520" y="3200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213680" y="3200400"/>
            <a:ext cx="32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787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9423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3059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046840" y="3704760"/>
            <a:ext cx="361800" cy="1079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08640" y="3432240"/>
            <a:ext cx="363600" cy="272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72240" y="3332160"/>
            <a:ext cx="363600" cy="100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135840" y="3281040"/>
            <a:ext cx="361800" cy="50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97640" y="3251160"/>
            <a:ext cx="353880" cy="3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51520" y="3230280"/>
            <a:ext cx="362160" cy="20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213680" y="3220560"/>
            <a:ext cx="36504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78720" y="3209400"/>
            <a:ext cx="363600" cy="11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2320" y="3209760"/>
            <a:ext cx="36360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6840" y="3200400"/>
            <a:ext cx="361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0864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7224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35840" y="3200400"/>
            <a:ext cx="361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97640" y="3200400"/>
            <a:ext cx="35388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1520" y="3200400"/>
            <a:ext cx="36216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13680" y="3200400"/>
            <a:ext cx="36504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872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4232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16600" y="47545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8400" y="367524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2000" y="3402000"/>
            <a:ext cx="6048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5600" y="33019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67400" y="3251160"/>
            <a:ext cx="619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1640" y="32209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83440" y="3200400"/>
            <a:ext cx="619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8480" y="319104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12080" y="317988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73880" y="3179880"/>
            <a:ext cx="6192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1660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84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420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0560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74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2164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8344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848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1208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73880" y="3170160"/>
            <a:ext cx="5112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95560" y="5430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60720" y="5197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0720" y="4965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0720" y="47340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0720" y="45021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60720" y="4270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60720" y="4048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60720" y="38163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60720" y="35812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0720" y="33512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03560" y="311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64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82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18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54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72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11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32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783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419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64160" y="2917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48600" y="276552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"p" param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4179240" y="4247640"/>
            <a:ext cx="83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4639680" y="4239360"/>
            <a:ext cx="25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05440" y="3832200"/>
            <a:ext cx="1600200" cy="91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91480" y="3908520"/>
            <a:ext cx="1465920" cy="672480"/>
            <a:chOff x="6891480" y="3908520"/>
            <a:chExt cx="1465920" cy="672480"/>
          </a:xfrm>
        </p:grpSpPr>
        <p:sp>
          <p:nvSpPr>
            <p:cNvPr id="251" name=""/>
            <p:cNvSpPr/>
            <p:nvPr/>
          </p:nvSpPr>
          <p:spPr>
            <a:xfrm>
              <a:off x="6891480" y="4041720"/>
              <a:ext cx="2574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56640" y="401292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4480" y="3908520"/>
              <a:ext cx="113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tput Power a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30600" y="4070160"/>
              <a:ext cx="1035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B Compress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21960" y="42321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91480" y="4546440"/>
              <a:ext cx="2574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6880" y="4518000"/>
              <a:ext cx="47520" cy="47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1320" y="4413240"/>
              <a:ext cx="99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turation 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765520"/>
            <a:ext cx="4114800" cy="3178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93120" y="3340080"/>
            <a:ext cx="941040" cy="33732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249-F818-48B8-85B4-F80D707D4D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ow to Specify Driv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2680" y="2257560"/>
            <a:ext cx="7084440" cy="15570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PA input back-off from 1 dB Compression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PA output back-off from 1 dB Compression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PA output back-off from full sat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0920" y="4600440"/>
            <a:ext cx="72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1 dB compression point is amplifier model 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Output from full saturation is directly usable in link budget calc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AEE-BE9D-4B1E-9571-DE95A5D5BE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actical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400" y="3367080"/>
            <a:ext cx="8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14160" y="449568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9080" y="3276720"/>
            <a:ext cx="10666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14880" y="4419720"/>
            <a:ext cx="17524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98920" y="4672080"/>
          <a:ext cx="161136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8920" y="4672080"/>
                    <a:ext cx="1611360" cy="509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24784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95760" y="3657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9280" y="36576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6736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2476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8120" y="335268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19560" y="33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dd multipath,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d send to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50240" y="4191120"/>
            <a:ext cx="17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put Ba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OBO)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62920" y="19051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x to 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ver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2590920"/>
            <a:ext cx="14857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600200" y="3352680"/>
            <a:ext cx="838080" cy="5335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657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1440" y="4343400"/>
            <a:ext cx="134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Gain Adj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for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52480" y="38862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58D-F809-4617-855A-295511BF74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</dc:creator>
  <dc:description/>
  <dc:language>en-US</dc:language>
  <cp:lastModifiedBy>Harry Worstell</cp:lastModifiedBy>
  <cp:lastPrinted>2000-05-04T15:07:54Z</cp:lastPrinted>
  <dcterms:modified xsi:type="dcterms:W3CDTF">2000-09-20T18:27:19Z</dcterms:modified>
  <cp:revision>56</cp:revision>
  <dc:subject/>
  <dc:title>Suggest PA Model for 802.11 HRb</dc:title>
</cp:coreProperties>
</file>