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56E-6A06-4134-90F6-9F4D05EC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DDB-1F3E-45B6-B9B3-27624751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516-8A28-4CAB-A206-B8A84F25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03C-892E-4385-83E8-9FCE0E1A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766-9E09-4500-BDED-1ED3D30C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813-E182-4FD6-9F73-85DD3409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85F-EEE9-4E2B-A25E-AECD9B82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986-21FF-4D39-B3B5-11C83CEB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538-ED00-4897-88F0-91BF6BD1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0C5-0336-4DEB-A785-A822FA65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DCA-4BEF-4D7D-BCA9-BDBABE32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4FD-B71B-47A8-8A6D-44AF12AD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9C997B6-8BCC-45FC-A44A-5DAC97E6A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CC Update: NPRM 99-2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y Ad Hoc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sdale, Arizona,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19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BE3-86FC-4996-832F-B5B012EF3A2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99-2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F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SS Processing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Bifurcated Procee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&amp; O issued on WBF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 pending on DSSS Processing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147-0891-40C4-996A-D373D1EF4E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BFH (99-23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&amp; O issued August 31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5 mW Tx pow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Hz channel width (-20 d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of 15 non-overlapping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 Hz minimum hop 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ion to existing text i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to 90 days after publication in the Federal Reg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D02-A9F8-48F3-9F36-142F1ECAFB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SS Processing Gain (99-23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has not ruled on this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 proposed a new jamme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 noise vs CW j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Iss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new optional test, o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existing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802.11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n CW Jamme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ussian noise test needs further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806-CA57-415A-9D15-D3219B3D3D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SS Processing Gain (99-23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with F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RAH Group schedule regular calls with O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of FCC discussions to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perspectives on processing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 receiving many inquiries from industry regarding higher data rates in 2.4 GHz ISM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approaches to resolve this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AB6-D844-48DD-B79E-312436A6C3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17:30:51Z</dcterms:created>
  <dc:creator>Harris Semiconductor</dc:creator>
  <dc:description/>
  <dc:language>en-US</dc:language>
  <cp:lastModifiedBy>Harris Semiconductor</cp:lastModifiedBy>
  <cp:lastPrinted>1998-02-10T13:28:06Z</cp:lastPrinted>
  <dcterms:modified xsi:type="dcterms:W3CDTF">2000-09-20T22:26:03Z</dcterms:modified>
  <cp:revision>10</cp:revision>
  <dc:subject/>
  <dc:title>No Slide Title</dc:title>
</cp:coreProperties>
</file>