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053-0510-4B12-9422-2C40C962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6EBF-B879-4809-A280-6D4B7343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266-187F-435C-AC9A-DF60FD68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E7A0-5A62-405E-9E33-E120D5F5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9C15-4D09-4035-AF91-8631A980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A851-5D66-465C-A186-C3ACFF1E8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0A51-735A-4AD7-937F-3944AFB5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016-9415-4178-A30B-69A492F4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056-C696-4756-AE64-5F5990351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A12F-AD8E-467F-99EC-25C42AEA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453-66A3-417F-A6DC-67281D16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0AC0-F1FD-4BA2-8542-62AEC8FD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90720"/>
            <a:ext cx="121932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. Webster, Mike Se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E94A468-F1E5-41EF-B118-2C9E5AD1E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96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ggested Phase Noise Model for 802.11 HR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 Webster and Mike Se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il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ptember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4B66-54DE-4DC8-9FC6-6E8F632E3F2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51960" y="1676520"/>
            <a:ext cx="7968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Design VCO phz noise fil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1-pole Butterworth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NPoles = 1;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Gives 20 dB/dec phase-noise roll-of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nSampRateHz = chanSampRateMHz * 1e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n = 2 * vcoPnBwHz / chanSampRateH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vcoPnB,vcoPnA] = butter( vcoPnNPoles, W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Compute the resulting RMS phz noise in dBc/H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RadiansRms = vcoPnDegRms * pi/18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Var = vcoPnRadiansRms ^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xcessBw1PoleButter = pi/2;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Relative excess bandwith of 1-pole fil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PwrPerHzOneSided = vcoPnVar / (vcoPnBwHz * excessBw1PoleButter) 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PwrPerHzSsb = vcoPnPwrPerHzOneSided / 2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LvldBcPerHzSsb = 10 * log10( vcoPnPwrPerHzSsb 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Compute AWGN source level feeding Butterworth fil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wgnPnPwr = vcoPnPwrPerHzSsb * chanSampRateHz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wgnPnRms = sqrt(awgnPnPw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Generator (page 2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8EF-77F8-4C5C-B0AE-FA508D89E497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09000" y="2612880"/>
            <a:ext cx="73281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Pre-energize lowpass filter to eliminate start-up trans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by setting initial lowpass filter st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Energize with Gaussian variable equal to desired rms phase noi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pFiltInitState = vcoPnRadiansRms*rand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Generate a VCO phase-noise sample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wgnPn = awgnPnRms * randn(nSamples,1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oredGaussianPn = filter(vcoPnB,vcoPnA,awgnPn,lpFiltInitStat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hzNoise = exp(j*coloredGaussianPn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Generator (page 3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A72B-23CA-4187-90E4-0011BD383F7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Test Shell (page 1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8720" y="1295280"/>
            <a:ext cx="77551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MainPhzNoiseTest.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This routine tests the procedure for simulating phase no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using 1-pole LPF spectral shaping.  In this routine, th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e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1) The 3 dB bandwidth of the LP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2) The desired RMS phase noise in degre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3) The number of phase noise samples desi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   (4) The simulation channel sample r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imulation verifies th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Mark Webster        September 9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ear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lose 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ettable paramet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DegRms = 1;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Desired RMS phase error in degre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BwHz = 10e3;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LPF 3 dB bandwidth in Hz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amples = 1e6;      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Length of transmit signal (packet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nSampRateMHz = 44;      </a:t>
            </a: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Signal (packet) sample ra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F54-263F-460E-B464-5879D7DA71F5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05400" y="2279520"/>
            <a:ext cx="74350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Monte-Carlo simulation to verify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Note, the 1-pole filter has a start-up transi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But, that is OK for examining effects of phase devia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Output samples have the form exp(j*radian_deviatio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Generate a VCO sample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coPnPhasor = PhzNoiseGen( vcoPnDegRms, vcoPnBwHz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amples, chanSampRateMHz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Estimate the VCO's output phz noise in degrees R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gRx = angle(vcoPnPhasor) * 180/pi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gRmsEst = sqrt(mean(degRx.^2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Test Shell (page 2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CA1-CDE1-4118-97DD-2D7456AF4C01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28720" y="1371600"/>
            <a:ext cx="77551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 Plot and print stochastic result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28b22"/>
                </a:solidFill>
                <a:latin typeface="Courier New"/>
              </a:rPr>
              <a:t>%--------------------------------------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ig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lot(degR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r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x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sample #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ylabel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Degre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 = sprintf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Phz Noise Sample: %2.2f degrees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degRmsE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itle(st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 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*********************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 = sprintf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Target RMS phz error (degrees): %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vcoPnDegRms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st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tr = sprintf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Estimated RMS phz error (deg) using %d samples: %d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amples, degRmsEs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st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*******************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isp(</a:t>
            </a:r>
            <a:r>
              <a:rPr b="1" lang="en-US" sz="1400" spc="-1" strike="noStrike">
                <a:solidFill>
                  <a:srgbClr val="b22222"/>
                </a:solidFill>
                <a:latin typeface="Courier New"/>
              </a:rPr>
              <a:t>' 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Test Shell (page 3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1E72-6CAF-4AE5-997B-B203B99DD0B5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072080" y="5086440"/>
            <a:ext cx="6340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************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rget RMS phz error (degrees):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imated RMS phz error (deg) using 1000000 samples: 1.005964e+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*****************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xample Test Shell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D6B5-B252-4972-AD2B-34723DC428B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76720" y="190512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Zoomed Plot of Test Shell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2590920"/>
            <a:ext cx="1066680" cy="228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2320" y="2206800"/>
            <a:ext cx="2896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tart-up Transient Avoided b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re-energizing Lowpass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with Gaussian variable hav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desired RMS degree phz no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1828800" y="2513880"/>
            <a:ext cx="2437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D19-2FC2-4AD0-AE07-DD30A3CB248F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mmend 1-pole phase noise sha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3 dB  bandwidth of 20 KH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eep RMS phase noise in deg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influence on Carrier Degradation in AWG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-up transient is avoi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vea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assumes “ideal” carrier recovery loo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88CA-6503-48FE-85AC-255C219CD32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017800"/>
            <a:ext cx="7478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esentation recommends a phase-noi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model for 802.11 HRb propos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noise impacts packet-error-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is a fair representation of phase noi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behavior and “ideal” carrier recovery loo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 is easy to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by 802.11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5648-854B-423F-A2A3-55CF616BE6B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3080" y="837720"/>
            <a:ext cx="68403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VCO Phase Noise and Ideal 2nd-order Carrier Recovery Lo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431172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nd-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49760" y="4311720"/>
            <a:ext cx="1355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6040" y="44751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V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0440" y="4311720"/>
            <a:ext cx="685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4616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4616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6800" y="281952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78200" y="25909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1000" y="289548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5480" y="2944800"/>
            <a:ext cx="98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V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Bc/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38040" y="22575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257800" y="2819160"/>
            <a:ext cx="57168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91040" y="259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9104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86400" y="335268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+20 dB/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5520" y="2819520"/>
            <a:ext cx="78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Res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8440" y="22575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1320" y="2819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7696080" y="478476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96160" y="4556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96160" y="45561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03600" y="522612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66200" y="480060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991280" y="422280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8660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880" y="5486400"/>
            <a:ext cx="213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ssumes Id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Phase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4280" y="411480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9608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55000" y="213372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07160" y="2438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3809880"/>
            <a:ext cx="609480" cy="38124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935000">
            <a:off x="4647960" y="3809880"/>
            <a:ext cx="609480" cy="38124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B734-CBF3-4F99-A982-B2A275CF8AE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3440" y="1066680"/>
            <a:ext cx="6840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quivalent Phase Nois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7400" y="3489480"/>
            <a:ext cx="128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st-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960" y="3489480"/>
            <a:ext cx="13557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4240" y="365292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AW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3489480"/>
            <a:ext cx="1006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37940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79404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934320" y="287964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34040" y="26510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34040" y="26510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41480" y="332100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04440" y="26668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29160" y="23176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24480" y="28954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82160" y="220968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43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5029200" y="469260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29280" y="44640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29280" y="4464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84080" y="495288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3400" y="4495680"/>
            <a:ext cx="78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1st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24040" y="413064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4708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7400" y="402264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327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9760" y="4540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09760" y="4540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1240" y="4572000"/>
            <a:ext cx="100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W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S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4880" y="420696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447920" y="4784760"/>
            <a:ext cx="76176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4267080"/>
            <a:ext cx="53316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9461000">
            <a:off x="3505320" y="4266720"/>
            <a:ext cx="533160" cy="228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29400" y="4114800"/>
            <a:ext cx="1523880" cy="8380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96480" y="5181480"/>
            <a:ext cx="274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atches Compo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Hardware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2743200"/>
            <a:ext cx="1523520" cy="121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52520" y="2286000"/>
            <a:ext cx="2225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Randomly Pre-energ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to prev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Startup Trans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5EEF-F688-4B67-A296-BC0453267CB1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wo Fre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267080" y="310824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67160" y="28796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67160" y="28796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74600" y="354960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320" y="2819520"/>
            <a:ext cx="147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has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62280" y="254628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3124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15280" y="243828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2743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8680" y="299556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ssb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1240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11640" y="4829040"/>
            <a:ext cx="6095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Fre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1.  3 dB band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.  SSB Phase noise level at 0 Hz (or RMS Phase no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2214-535E-4A10-A150-E111B43AD5C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08000" y="812880"/>
            <a:ext cx="684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Equivalent Noise Bandwidth of 1-pole 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utterworth Filter used for phase noise shap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198072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198108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371600" y="198072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1981080"/>
            <a:ext cx="7596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523880" y="1980720"/>
            <a:ext cx="76320" cy="228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981080"/>
            <a:ext cx="7632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1143000" y="2057040"/>
            <a:ext cx="7632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837720" y="2057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2880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828800" y="2514600"/>
            <a:ext cx="30384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0456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20760" y="16383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3040" y="2330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666880" y="1752480"/>
          <a:ext cx="1371600" cy="10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752480"/>
                    <a:ext cx="1371600" cy="10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666880" y="2685960"/>
          <a:ext cx="3657600" cy="66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2685960"/>
                    <a:ext cx="365760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2666880" y="3416400"/>
          <a:ext cx="3505320" cy="90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416400"/>
                    <a:ext cx="350532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143000" y="4818240"/>
          <a:ext cx="6553080" cy="104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3000" y="4818240"/>
                    <a:ext cx="6553080" cy="104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990720" y="4495680"/>
            <a:ext cx="739116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DE9-EB9C-4D2F-80AC-2385F566E526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779400" y="738360"/>
            <a:ext cx="684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ompute RMS Phase Noise as Function of Flat SSB Power P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</a:rPr>
              <a:t>ssb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2743200" y="2500200"/>
            <a:ext cx="495360" cy="549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43280" y="2271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43280" y="2271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50360" y="2941560"/>
            <a:ext cx="109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20 dB/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760" y="2728800"/>
            <a:ext cx="81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38040" y="1938240"/>
            <a:ext cx="5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133720" y="2516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1400" y="1830240"/>
            <a:ext cx="50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</a:rPr>
              <a:t>3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213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4800" y="2387520"/>
            <a:ext cx="87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ssb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28800" y="2516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419720" y="2211480"/>
          <a:ext cx="204444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11480"/>
                    <a:ext cx="20444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419720" y="2973240"/>
          <a:ext cx="2286000" cy="58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973240"/>
                    <a:ext cx="22860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514600" y="4040280"/>
          <a:ext cx="4724280" cy="87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4040280"/>
                    <a:ext cx="4724280" cy="87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76280" y="546120"/>
          <a:ext cx="112680" cy="17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6280" y="546120"/>
                    <a:ext cx="112680" cy="1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038480" y="5259240"/>
          <a:ext cx="1524240" cy="684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5259240"/>
                    <a:ext cx="1524240" cy="6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4A4B-AB4F-4E92-B451-D2F54BFC55CA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9800" y="1447920"/>
            <a:ext cx="84711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Settable parame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oPnDegRms = 1;     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Desired RMS phase error in deg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oPnBwHz = 10e3;    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LPF 3 dB bandwidth in 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amples = 1e6;      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Length of transmit signal (packet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nSampRateMHz = 44;      </a:t>
            </a: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Signal (packet) sample r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Monte-Carlo simulation to verify mod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Note, the 1-pole filter has a start-up transi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But, that is OK for examining effects of phase devi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Output samples have the form exp(j*radian_deviatio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------------------------------------------------------------------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Generate a VCO sample wave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coPnPhasor = PhzNoiseGen( vcoPnDegRms, vcoPnBwHz,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amples, chanSampRateMHz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28b22"/>
                </a:solidFill>
                <a:latin typeface="Courier New"/>
              </a:rPr>
              <a:t>% Phase-noise distort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utSig = inSig .* phzNo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1532-F9B8-43C5-BC6C-2BA31B7F0F5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tlab Code for Generator (page 1 of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6200" y="1447920"/>
            <a:ext cx="777024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PhzNoiseGen.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VCO Phase Noise modeled using a 1-pole Butterworth filter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give 20 dB/dec slope.  Gaussian white noise is pa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through the Butterworth filter, with the correct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to generate the radian variation.  Output samples h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the form exp(j*radian_devi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Input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vcoPnDegRms           % Desired RMS phase error in degre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vcoPnBwHz             % LPF 3 dB bandwidth in Hz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nSamples              % Size of output ve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chanSampRateMHz       % Simulation sampl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Output paramete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phzNoise      % nSamples length complex ve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              % Each sample has abs() equal to 1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              % Example us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                  %      outSig = inSig .* phzNo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 Mark Webster        September 19,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28b22"/>
                </a:solidFill>
                <a:latin typeface="Courier New"/>
              </a:rPr>
              <a:t>%***************************************************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hzNoise = PhzNoiseGen( vcoPnDegRms, vcoPnBwHz, nSamples, chanSampRate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rk Webster and Karen Halford, Intersil Corpor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A0A9-95F6-4AC9-A5C1-C741DEB3DAA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16:31:50Z</dcterms:created>
  <dc:creator>Mark Webster, Mike Seals</dc:creator>
  <dc:description/>
  <dc:language>en-US</dc:language>
  <cp:lastModifiedBy>Harry Worstell</cp:lastModifiedBy>
  <cp:lastPrinted>2000-05-04T15:07:54Z</cp:lastPrinted>
  <dcterms:modified xsi:type="dcterms:W3CDTF">2000-09-21T00:16:04Z</dcterms:modified>
  <cp:revision>60</cp:revision>
  <dc:subject/>
  <dc:title>Suggest Phase Noise Model for 802.11 HRb</dc:title>
</cp:coreProperties>
</file>