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2F2-E7A9-4554-B71A-2729C23F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98FB-3F50-40BA-9C53-E9037077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ADA-45FE-4ECF-95B1-13C5C583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A6B7-2EA1-422A-A8D4-67EE450F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983-F5AF-4DD8-981B-8E2256E4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00A-8F5E-4DAE-BFE9-0FB95604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393-7EE2-42BF-BF4D-02AB5835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8AB8-BA12-4EFF-8CB1-31FB80D0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CE0-180A-4696-89F8-68988CAE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7F6-BEA0-4006-8BA4-EA651E82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6BE-2E5E-41BE-B540-4E9D9F0B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4AE-2192-4851-937C-6369A015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Halford and M. Webster, Inter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AF60B50-BB23-476F-AFD7-9E930FD84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Channel Estimation Sensi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680" y="365760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ve Halford &amp; Mark Web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A99A-6D1E-4544-85A0-8FF87C7FFDB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ath is recognized as major WLAN impai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 modulations that allow for good multipath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K was selected because of inherent multipath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Rake receiver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erior multipath performance versus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rates will require sophisticated multipath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DM was selected because of complexity vs. multipath tr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 to allow for creative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icult to trade merits due to IP concer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factor is sensitivity of the equalization &amp; modulation to channel estimation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ives bit widths, RF front end specifications, time-lin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 a method for exploring the estimation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BDF-745C-4664-9726-F0B3D9F9F6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osed Test for Robust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s cannot be estimated perf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 and finite estimation length con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or sensitivity by perturbing the true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uses perturbed channel to estimate equal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operates on data from the true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change in PER due to channel estimation err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D76-C685-44D3-999D-B0151AD31C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itivity to Channel Errors: 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2133720"/>
            <a:ext cx="762120" cy="99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0fc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05120"/>
            <a:ext cx="191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Multipath Performanc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95520" y="14986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74600" y="2489040"/>
            <a:ext cx="105408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qual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28680" y="279396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87680" y="2476440"/>
            <a:ext cx="99072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1680" y="2768760"/>
            <a:ext cx="99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Equaliz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Para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96240" y="1650960"/>
            <a:ext cx="89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ha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Impu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11240" y="1168560"/>
            <a:ext cx="118116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9120" y="132084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0600" y="10922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92400" y="132084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44880" y="132084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1680" y="106668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ata with ISI/Multi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78400" y="275256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83440" y="252396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acket Error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3429000"/>
            <a:ext cx="9138600" cy="2895480"/>
            <a:chOff x="0" y="3429000"/>
            <a:chExt cx="9138600" cy="2895480"/>
          </a:xfrm>
        </p:grpSpPr>
        <p:sp>
          <p:nvSpPr>
            <p:cNvPr id="69" name=""/>
            <p:cNvSpPr/>
            <p:nvPr/>
          </p:nvSpPr>
          <p:spPr>
            <a:xfrm>
              <a:off x="7760160" y="5038560"/>
              <a:ext cx="137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Times New Roman"/>
                </a:rPr>
                <a:t>Packet Error 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51320" y="5003640"/>
              <a:ext cx="105408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qualiz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arame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c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05400" y="530856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64400" y="4991040"/>
              <a:ext cx="990360" cy="57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58040" y="5283360"/>
              <a:ext cx="99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Equaliz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Parame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1120" y="4572000"/>
              <a:ext cx="895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Channe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Impul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87960" y="3683160"/>
              <a:ext cx="1180800" cy="33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5840" y="38354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82000" y="35812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68760" y="3835440"/>
              <a:ext cx="175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221600" y="38354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68040" y="3581280"/>
              <a:ext cx="203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Data with ISI/Multipa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54760" y="52671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3429000"/>
              <a:ext cx="8458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05040" y="5740560"/>
              <a:ext cx="1104840" cy="583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erturb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00400" y="52578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00400" y="5257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1905120" y="4343400"/>
              <a:ext cx="761760" cy="9907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0fc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251240"/>
              <a:ext cx="19162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tipath Performance Test with Channel Err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45C-1CF1-4A91-AFA3-6424CF2A5B4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ion of Perturbed 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905120" y="2852640"/>
          <a:ext cx="480672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52640"/>
                    <a:ext cx="48067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00760" y="1413000"/>
            <a:ext cx="799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valid approaches to generating a perturbed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81520" y="353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09760" y="4148280"/>
          <a:ext cx="6934320" cy="7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4148280"/>
                    <a:ext cx="69343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EA7-E542-4A7A-AC37-25FA9D5ED1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®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de for Exponential Channel with Estimation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76520" y="1905120"/>
          <a:ext cx="6068880" cy="37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6068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6E6-6E45-42E5-9090-822086293F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®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de for Exponential Channel with Estimation Errors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828800" y="2057400"/>
          <a:ext cx="5405400" cy="368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057400"/>
                    <a:ext cx="540540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BBA-49D0-4AF0-A763-FE14CBDEA3A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3T16:59:03Z</dcterms:created>
  <dc:creator>Karen W. Halford</dc:creator>
  <dc:description/>
  <dc:language>en-US</dc:language>
  <cp:lastModifiedBy>Harry Worstell</cp:lastModifiedBy>
  <cp:lastPrinted>2000-09-15T18:49:53Z</cp:lastPrinted>
  <dcterms:modified xsi:type="dcterms:W3CDTF">2000-09-20T18:28:52Z</dcterms:modified>
  <cp:revision>48</cp:revision>
  <dc:subject/>
  <dc:title>No Slide Title</dc:title>
</cp:coreProperties>
</file>