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D14-26FD-498A-AFE4-18B0DD7C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1EE-12FB-4705-81A9-565D2077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B9D-6D36-4361-B02C-0E89B6CB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2CA-2E42-47EB-A105-81602148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976-2F09-47DE-ABA0-F2D643F7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1B1-72FE-4AEC-9C88-82AB00C5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B0E-3B3A-4374-BEFD-58367B29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9D0-F3F7-40F5-9A63-D76FB240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D43-625D-4935-AFFE-22507EC3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A8B-108E-4148-83F9-7DB7531A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3A7-0204-4FF8-9EC4-F599E3D7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04F-2A84-4D5B-8DD3-037D3102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44CDA6-9A3F-4230-932B-73596F58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Joint Proposal R1 update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, Lucent, Share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zeCOM, NWN/Inter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m Diepatraten - Lu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imir Yanover - Breeze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zo Wentink - Inter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666-9C60-46BB-8C8F-292A607BBF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s Set–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to Identify the Element and the 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Policy =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{Normal 802.11 | Delayed | No Ack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360-B925-424D-ADDB-16DCBC7AA8C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858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 Set–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fo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=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{1 if periodic traffic pattern |   0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 Policy =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rmal 802.11 | Delayed | No Ack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 Info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– Header FEC &amp; Payload FEC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Info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laceholder to identify e.g. sec. algorithm applicability to the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AEA-782E-40D9-BE3B-661F64C6ED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858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 Set–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Contro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 Bit Map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{ 1s for applicable parameters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records fol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=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lative priority for handling this parameter within the set of the parameters assigned to the V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f a change triggering notification = {lower value | higher value | both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Threshol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r a change that triggers the not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444-6EB0-4DDD-A373-A20D44458EA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 Set–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Control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Interval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[specific Periodic demand only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Committed Time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[for other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DU Siz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[Periodic demand onl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y Delay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 Delay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&amp; Jitter 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Data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7DF-9B7D-452B-B5A9-E760C1B2B66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094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 Set–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Data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Burs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Rat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9AB-FD97-4679-B7F1-8D421A66EFB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Aggregation of the MPDUs into a Single PSD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 to decrease PHY / PLCP overhead = IFS + Preamble + PLC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PDUs are inserted as MAC Header + Body(if present) + F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F4A-C46D-4471-A4AE-2AC2E9A0FCA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Traffic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zo Went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thoven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zo@nw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E83-883B-430D-B254-B10057E299E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e Traffic Class (TC) M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ides internal VSID’s, the Joint proposal now also supports Traffic Classes (TC’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Classes (TC’s) are 3 bit numeric traffic labels, as defined in 802.1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lasses are available for upstream traffic, per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 labels are passed down by higher layers or by 802.1D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’s can be used for a priorities or a flow based scheme, where flow based has maximum of 7 QOS flows per sta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ore than 7 QoS flows per station requires flow aggregation or VSID’s. This is a policy deci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A70-BA21-48BD-8295-0BFDEFECBF4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e TC Mod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and TC labeling are performed at high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rame Classification Entity (FCE) required insid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nagement messages needed to convey filter specs to th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TC mappings currently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802.1D/Intserv mapping (BE=0, CL=3, GS=5, NC=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flow mapping through SBM and RS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serv DSCP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formation in document 00/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AE9-6E6C-4E0C-8AB8-03D26F18FF4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e TC Mode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’s are the preferred interface for a DCF based channel access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F based QoS enhanced channel access mechanisms are priorities based by 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oS capabilities (TC or VSID) are station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d in the capability information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more capabilities when other modes (DCF) ar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C71-00D3-4CFF-B524-1A078B1D523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Joint Proposal activitie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oint Proposal group has been active to further refine the proposal, and generate the associated standard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worked with other parties to incorporate their ideas into the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z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60B-55F9-4008-AD3B-CE92727F06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ying TC’s into the VSID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’s are local to a station, but concatenating with the AID gives a unique traffic ID within the 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.AID is similar to the VS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.AID is in fact a station specific VS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queness is required for signalling messages used in the proposal (i.e. CC, 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SID range now splits into four sub-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Clas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ID upstream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ID downstream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ID sidestream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F52-585D-43B2-A9B9-B207B26D2E0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256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ew VSID Numbering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39760" y="2362320"/>
            <a:ext cx="7076880" cy="3352320"/>
            <a:chOff x="1139760" y="2362320"/>
            <a:chExt cx="7076880" cy="3352320"/>
          </a:xfrm>
        </p:grpSpPr>
        <p:grpSp>
          <p:nvGrpSpPr>
            <p:cNvPr id="88" name=""/>
            <p:cNvGrpSpPr/>
            <p:nvPr/>
          </p:nvGrpSpPr>
          <p:grpSpPr>
            <a:xfrm>
              <a:off x="1144800" y="2367000"/>
              <a:ext cx="7065720" cy="3342240"/>
              <a:chOff x="1144800" y="2367000"/>
              <a:chExt cx="7065720" cy="334224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144800" y="2367000"/>
                <a:ext cx="415440" cy="752760"/>
                <a:chOff x="1144800" y="2367000"/>
                <a:chExt cx="415440" cy="7527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19700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4480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1560600" y="2367000"/>
                <a:ext cx="415080" cy="752760"/>
                <a:chOff x="1560600" y="2367000"/>
                <a:chExt cx="415080" cy="752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612800" y="2367000"/>
                  <a:ext cx="31068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560600" y="2367000"/>
                  <a:ext cx="41508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976400" y="2367000"/>
                <a:ext cx="415440" cy="752760"/>
                <a:chOff x="1976400" y="2367000"/>
                <a:chExt cx="415440" cy="752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02860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97640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392560" y="2367000"/>
                <a:ext cx="415440" cy="752760"/>
                <a:chOff x="2392560" y="2367000"/>
                <a:chExt cx="415440" cy="752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44476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39256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808720" y="2367000"/>
                <a:ext cx="415080" cy="752760"/>
                <a:chOff x="2808720" y="2367000"/>
                <a:chExt cx="415080" cy="752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86020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08720" y="2367000"/>
                  <a:ext cx="41508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224520" y="2367000"/>
                <a:ext cx="415440" cy="752760"/>
                <a:chOff x="3224520" y="2367000"/>
                <a:chExt cx="415440" cy="752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27672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2452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640680" y="2367000"/>
                <a:ext cx="415440" cy="752760"/>
                <a:chOff x="3640680" y="2367000"/>
                <a:chExt cx="415440" cy="7527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69288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64068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056840" y="2367000"/>
                <a:ext cx="415080" cy="752760"/>
                <a:chOff x="4056840" y="2367000"/>
                <a:chExt cx="415080" cy="7527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10832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056840" y="2367000"/>
                  <a:ext cx="41508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472280" y="2367000"/>
                <a:ext cx="415440" cy="752760"/>
                <a:chOff x="4472280" y="2367000"/>
                <a:chExt cx="415440" cy="7527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52448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47228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888440" y="2367000"/>
                <a:ext cx="415080" cy="752760"/>
                <a:chOff x="4888440" y="2367000"/>
                <a:chExt cx="415080" cy="7527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94064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88440" y="2367000"/>
                  <a:ext cx="41508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304240" y="2367000"/>
                <a:ext cx="415440" cy="752760"/>
                <a:chOff x="5304240" y="2367000"/>
                <a:chExt cx="415440" cy="7527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35644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30424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720400" y="2367000"/>
                <a:ext cx="415440" cy="752760"/>
                <a:chOff x="5720400" y="2367000"/>
                <a:chExt cx="415440" cy="7527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77260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2040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136560" y="2367000"/>
                <a:ext cx="518040" cy="752760"/>
                <a:chOff x="6136560" y="2367000"/>
                <a:chExt cx="518040" cy="7527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188760" y="2367000"/>
                  <a:ext cx="4136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136560" y="2367000"/>
                  <a:ext cx="5180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654960" y="2367000"/>
                <a:ext cx="518040" cy="752760"/>
                <a:chOff x="6654960" y="2367000"/>
                <a:chExt cx="518040" cy="7527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707160" y="2367000"/>
                  <a:ext cx="4136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654960" y="2367000"/>
                  <a:ext cx="5180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173720" y="2367000"/>
                <a:ext cx="518040" cy="752760"/>
                <a:chOff x="7173720" y="2367000"/>
                <a:chExt cx="518040" cy="7527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225920" y="2367000"/>
                  <a:ext cx="4136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173720" y="2367000"/>
                  <a:ext cx="5180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692480" y="2367000"/>
                <a:ext cx="518040" cy="752760"/>
                <a:chOff x="7692480" y="2367000"/>
                <a:chExt cx="518040" cy="7527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744680" y="2367000"/>
                  <a:ext cx="4136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692480" y="2367000"/>
                  <a:ext cx="5180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144800" y="3120120"/>
                <a:ext cx="4575240" cy="611640"/>
                <a:chOff x="1144800" y="3120120"/>
                <a:chExt cx="4575240" cy="6116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197000" y="3120120"/>
                  <a:ext cx="447084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I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144800" y="3120120"/>
                  <a:ext cx="457524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720400" y="3120120"/>
                <a:ext cx="1452960" cy="611640"/>
                <a:chOff x="5720400" y="3120120"/>
                <a:chExt cx="1452960" cy="6116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772600" y="3120120"/>
                  <a:ext cx="13485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raffic Cl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720400" y="3120120"/>
                  <a:ext cx="145296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173720" y="3120120"/>
                <a:ext cx="1036800" cy="611640"/>
                <a:chOff x="7173720" y="3120120"/>
                <a:chExt cx="1036800" cy="6116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225920" y="3120120"/>
                  <a:ext cx="93240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73720" y="3120120"/>
                  <a:ext cx="103680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144800" y="3732120"/>
                <a:ext cx="4991400" cy="611640"/>
                <a:chOff x="1144800" y="3732120"/>
                <a:chExt cx="4991400" cy="611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197000" y="3732120"/>
                  <a:ext cx="488700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SID for upstream (VS from ESTA to EAP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144800" y="3732120"/>
                  <a:ext cx="499140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136560" y="3732120"/>
                <a:ext cx="518040" cy="611640"/>
                <a:chOff x="6136560" y="3732120"/>
                <a:chExt cx="518040" cy="6116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188760" y="3732120"/>
                  <a:ext cx="41364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136560" y="3732120"/>
                  <a:ext cx="51804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654960" y="3732120"/>
                <a:ext cx="518040" cy="611640"/>
                <a:chOff x="6654960" y="3732120"/>
                <a:chExt cx="518040" cy="6116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707160" y="3732120"/>
                  <a:ext cx="41364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54960" y="3732120"/>
                  <a:ext cx="51804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173720" y="3732120"/>
                <a:ext cx="1036800" cy="611640"/>
                <a:chOff x="7173720" y="3732120"/>
                <a:chExt cx="1036800" cy="6116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225920" y="3732120"/>
                  <a:ext cx="93240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73720" y="3732120"/>
                  <a:ext cx="103680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144800" y="4344480"/>
                <a:ext cx="4991400" cy="612000"/>
                <a:chOff x="1144800" y="4344480"/>
                <a:chExt cx="4991400" cy="61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197000" y="4344480"/>
                  <a:ext cx="488700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SID for downstream(VS from EAP to ESTA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44800" y="4344480"/>
                  <a:ext cx="4991400" cy="61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136560" y="4344480"/>
                <a:ext cx="518040" cy="612000"/>
                <a:chOff x="6136560" y="4344480"/>
                <a:chExt cx="518040" cy="61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188760" y="4344480"/>
                  <a:ext cx="4136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136560" y="4344480"/>
                  <a:ext cx="518040" cy="61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6654960" y="4344480"/>
                <a:ext cx="518040" cy="612000"/>
                <a:chOff x="6654960" y="4344480"/>
                <a:chExt cx="518040" cy="61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707160" y="4344480"/>
                  <a:ext cx="4136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654960" y="4344480"/>
                  <a:ext cx="518040" cy="61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7173720" y="4344480"/>
                <a:ext cx="1036800" cy="612000"/>
                <a:chOff x="7173720" y="4344480"/>
                <a:chExt cx="1036800" cy="61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225920" y="4344480"/>
                  <a:ext cx="93240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73720" y="4344480"/>
                  <a:ext cx="1036800" cy="61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144800" y="4956840"/>
                <a:ext cx="4991400" cy="752400"/>
                <a:chOff x="1144800" y="4956840"/>
                <a:chExt cx="4991400" cy="752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197000" y="4956840"/>
                  <a:ext cx="488700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SID for sidestream (VS from ESTA to ESTA in same QBS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144800" y="4956840"/>
                  <a:ext cx="4991400" cy="75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6136560" y="4956840"/>
                <a:ext cx="518040" cy="752400"/>
                <a:chOff x="6136560" y="4956840"/>
                <a:chExt cx="518040" cy="752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188760" y="4956840"/>
                  <a:ext cx="4136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136560" y="4956840"/>
                  <a:ext cx="518040" cy="75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654960" y="4956840"/>
                <a:ext cx="518040" cy="752400"/>
                <a:chOff x="6654960" y="4956840"/>
                <a:chExt cx="518040" cy="752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707160" y="4956840"/>
                  <a:ext cx="4136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654960" y="4956840"/>
                  <a:ext cx="518040" cy="75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173720" y="4956840"/>
                <a:ext cx="1036800" cy="752400"/>
                <a:chOff x="7173720" y="4956840"/>
                <a:chExt cx="1036800" cy="7524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225920" y="4956840"/>
                  <a:ext cx="93240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173720" y="4956840"/>
                  <a:ext cx="1036800" cy="75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1139760" y="2362320"/>
              <a:ext cx="7076880" cy="3352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0" y="5052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6F8-1A0C-4EC0-B01C-E398F58E44C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957-DD76-4749-A585-9F1874F582B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Joint Proposal R1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proposal document 120R1 is issued containing the following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and editorial changes to original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to incorporate the essential elements of the BreezeCOM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to incorporate a number of elements of the NWN/doc 204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B6D-CF5C-4979-B2F7-7AD6E30084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ges Overview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ed notification mechanism and notification threshold parameters for feedback to higher layers about state of provided QoS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w 802.1D user priority and/or IETF traffic class values to be used in lieu of VSIDs in cases where connectionless, prioritized differentiation of up to 7 priorities is sufficient and QoS contracts or other connection mechanism are not needed at the MAC sublayer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 effectiveness of power save at stations with active virtual streams through control of receiver on-time by listen epoch rather than the senders' TXO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ntion to add an aggregation mechanism that permits multiple MPDUs to be sent with a single instance of PHY overhead, with details to be presented at the November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rify the reference model and remove the SBM-specific provi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AA8-73D8-460F-92C9-42801E99B1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anded Joint Proposal group is willing to incorporate DCF mechanisms and connectionless PCF mechanisms into their proposal to come to a baseline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o get this started this week to come to a consensus document by the November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we want to work together with other parties to incorporate their idea’s when it makes 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A8E-D47B-4751-9FD7-B78EA7CBC6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ollowup presenta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307b from Breez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307c from Inter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ocument will be 307r1 put on the server later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1B2-7699-440F-9C24-3E4AF9B031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ew Features in Joint Proposal 00/120r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733920"/>
            <a:ext cx="84582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li Chayat Breezecom naftalic@breezecom.co.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dimir Yanover vladimiry@breezecom.co.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6CD-E7B0-4955-82A3-B433BEFC7F5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2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aradigm of Communication between Upper Layers and MA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2057400"/>
          <a:ext cx="7391520" cy="44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39152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C15-92FC-4EBA-A658-1CEB958C54D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           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s 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QoS Parameter Set element contains the set of parameters necessary to describe the demanded transport characteristics for MSDUs belonging to the specified virtual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ddressed to the TAME at the EPC and the transmission control entities at the 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4BD-E901-411A-B08F-ED877E502EC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5:04:30Z</dcterms:created>
  <dc:creator>Sunghyun Choi, Philips Research</dc:creator>
  <dc:description>Sunghyun Choi, Philips Research-USA</dc:description>
  <dc:language>en-US</dc:language>
  <cp:lastModifiedBy>Menzo</cp:lastModifiedBy>
  <cp:lastPrinted>1998-02-10T13:28:06Z</cp:lastPrinted>
  <dcterms:modified xsi:type="dcterms:W3CDTF">2000-09-21T15:09:14Z</dcterms:modified>
  <cp:revision>146</cp:revision>
  <dc:subject>Submissions</dc:subject>
  <dc:title>Collision Avoidance of IEEE 802.11e MAC in Overlapping BSSs</dc:title>
</cp:coreProperties>
</file>