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B7F-4031-49BB-A6E5-33139D34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CAF-E247-4EB5-9743-D11222CF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716-EF3E-4176-A4EB-10726020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7E7-F1E0-4C42-BA4F-7EB6413C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7BC-3EC9-45BC-AD40-E6D9F6C8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F09-5A36-418B-8A93-9BDDBF73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6E8-85D2-4075-82A4-3FFF417B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888-0EB1-491B-BD0F-67ED36B7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771-3B88-420D-BDDA-FB2903E7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938-5594-4100-8355-7687A1A5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083-BD6B-478B-8F38-AAA09B2B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AEE-2B7C-4B28-9C4E-50B128FC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329A8A-CD1A-4759-8ABA-2F9233937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00/3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Wideband Frequency Hopping – an opportinity for 802.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eze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155-D1C4-4298-B863-6CF95691CEF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C ruling on NPRM 99-2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si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15 non-overlapping hopping channels spanning at least 75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to 5 MHz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x power up to 125 m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public support for the new regulations, both from users and from 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F56-294C-4D40-AEB8-F39E9CD47C8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pportunity for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can’t beat them, join the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more collocated networks than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 hopping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s similar to 802.11b and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 Mbps is 2.2 bits/s/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aggregate capacities than DS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ly given FCC concerns re “high spectral efficiency 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E50-BCA9-4966-91C2-F6D5AD7E57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a WBFH Study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vestigate interest within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 a PAR skeleton by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PAR a.s.a.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investigating technical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 802.15 of the acti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251-9F51-45D6-881D-8A5DB80A89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the 802.11 establishes a Study Group with the objective of preparing a PAR for a WBFH PHY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AAE-2061-43C8-9EFF-14562C1DE5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9:25:20Z</dcterms:created>
  <dc:creator>Naftali Chayat</dc:creator>
  <dc:description/>
  <dc:language>en-US</dc:language>
  <cp:lastModifiedBy>Naftali Chayat</cp:lastModifiedBy>
  <cp:lastPrinted>1998-02-10T13:28:06Z</cp:lastPrinted>
  <dcterms:modified xsi:type="dcterms:W3CDTF">2000-09-20T19:32:58Z</dcterms:modified>
  <cp:revision>3</cp:revision>
  <dc:subject/>
  <dc:title>PowerPoint Presentation</dc:title>
</cp:coreProperties>
</file>