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2F5-C73D-4AD3-BC2E-386CC830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206-3DD1-4773-B620-2C8ECC25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296-8CBF-4EF3-8B24-76EDAFD0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064-BB40-45E4-B925-FB69F237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8F9-49CF-4486-8486-F6ED11DC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044E-B809-42BF-B14C-5208874B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9FD-2B05-42B3-9964-EAFE62DB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AAE-CC0C-47EA-8F05-4236196A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804-BB41-4240-92DD-34232E47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D97-BECB-44FC-A613-6AACB7CA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8CA-9106-46A6-9273-84012722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93F-E022-4EE0-B776-F710FEA0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2DF08B-4E5D-48F6-8F7F-BC85E0072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gh Rate 802.11b Study Group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ptember 20, 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Ph.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person, HRb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8C2-6D30-4EE3-BB4B-E524826607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er Ballot #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 Ballot #23 which contained one motion to reaffirm support of the PAR for extension of 802.11b to rates greater than 20Mbps was approved on a vote of 70-0-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ed YES WITH COMMENTS vote on letter ballot #2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action required on Letter Ballot #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E1E-3691-4A36-A56A-5242A5878B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g Selection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document 00-209r3 as the official version Selection Procedure on vot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37-0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document 00-210r4 as the official version of the Functional Requirements on vot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34-0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document 00-211r9 as the official version of the Comparison Criteria on vot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38-0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e calling for motion at Friday 802.11 Plenary to approve these docu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D61-7468-4F18-9E35-59D0687D3D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 Heard Related to Docs. 209, 210 and 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valuating the Performance of HRb Proposals in Multipa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 Webster, Karen Halford and Steve Halford, Inter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ing Multipath and Fa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ris Heegard, Sean Coffey and Matthew B. Shoemake, Texas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uggested PA Model for 802.11 H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 Webster, Inter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uggested Phase Noise Model for 802.11 HRb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 Webster, Inter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valuating Channel Estimation 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ve Halford and Mark Webster, Inter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77A-0BB5-4429-8B28-6473DB27D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Ma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d motion related to meeting with FCC.  Will present motion to 802.11 Plenary on Wednesday aftern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D90-D1C8-4F10-A465-77D1ED557A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Press Rel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217r3 contains the revised version of the draft 802.11 HRbSG press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of this press release was reaffirmed on a vote of 39-0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ED0-F66F-47AE-8D18-39E53BE6D4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fo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der of the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Gg adopt work thus far of HRbS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up issu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determine cut-off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remaining sub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liaison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SCC34 - Electromagnetic Energy Product Performanc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 TC106 – Testing Instrumentation and Methods for Measuring Electronic and Magnetic Fields Associated with Human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E5E-39E3-4655-86B0-A81C32F93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shoemake</cp:lastModifiedBy>
  <cp:lastPrinted>1998-02-10T13:28:06Z</cp:lastPrinted>
  <dcterms:modified xsi:type="dcterms:W3CDTF">2000-09-20T20:41:15Z</dcterms:modified>
  <cp:revision>24</cp:revision>
  <dc:subject/>
  <dc:title>No Slide Title</dc:title>
</cp:coreProperties>
</file>