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972F-8801-4EB5-B9BC-11A178C6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0112-A06B-41CB-8664-FEEC03D6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FF6B-70D9-40E7-B0EA-5DF95703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518-4659-4CF3-B8FF-B190823F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D4A-E1E2-46A9-8630-EE3A284A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5A2F-006D-4B7D-B313-1015B321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73CC-7DD9-4531-8CD2-426B8DE3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95E3-AD14-4F8B-9C92-F1AE7E3A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6278-202D-4CAE-924A-891993E5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05F6-7CB9-4768-8615-FD8E5F74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DEA1-1CFD-4442-91DF-FA4B3DB3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0B9-D3BF-4DA1-9153-00A16F33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98CC43F-55DD-4E23-AD0B-EE9C0A857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gulatory Ad Hoc Group Re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sdale, AZ,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AC7B-7748-471D-827E-EAF8A15A92B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WB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9400"/>
            <a:ext cx="7772400" cy="456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RM is released 98-1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 closed Sept 12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y comments will close Oct 12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ssion proposes to all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ntional emissions at Class B limit &gt; 2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dB below Class B limit &lt; 2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WB technology promise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new class of communications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emely high rate, low power, short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non-communication apps (ra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910E-4AD7-4806-9BF2-BC34425B65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GHz WLAN I.A.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1 Global 5 GHz WLAN S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ted by Compaq, Intel, 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a new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ive Conve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 one for early ad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s established w/ IEEE and ETSI B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meeting 10/20/00 in Hous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1E6-00B2-4291-87C8-3D35D93D4F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802.11a in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 / ETSI BRAN Correspon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H drafted response to ETSI BRAN Letter of May 2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cations requeste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act on users of existing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existence of HiperLAN and 802.11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PC and D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H draft forwarded to plenary for appr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212-2823-4362-A00D-E1D546F8F3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PRM 99-23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eding has been bifur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&amp; O issued on WBF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 Processing Gain Test issue remains 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ssion authorizes WBF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s Part 15 rules for FH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5 mW power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5 non-overlapping channels spanning 75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5 Hz hop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SS Processing Gain issue not dec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H Group passed resolution to contact FCC in Nov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warded motion to 802.11b HR SG for joint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A448-A4D2-446E-9650-38A4499B74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ld Radiocomm. Conference (WR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C expected US proposal for global allocation of upper UNII band for RLAN a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world allocation:  5.15 - 5.725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include ISM band at 5.725 - 5.825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…US had no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 needs to make request for inclusion of 5.725 - 5.825 GHz band into global allocation for R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to be included in agenda for nex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als from industry are need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info:  http:\\www.ero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73EA-92CA-400B-9E0D-A966CEDCEC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9:41:06Z</dcterms:created>
  <dc:creator>Harris Semiconductor</dc:creator>
  <dc:description/>
  <dc:language>en-US</dc:language>
  <cp:lastModifiedBy>Harry Worstell</cp:lastModifiedBy>
  <cp:lastPrinted>1998-02-10T13:28:06Z</cp:lastPrinted>
  <dcterms:modified xsi:type="dcterms:W3CDTF">2000-09-21T01:32:20Z</dcterms:modified>
  <cp:revision>8</cp:revision>
  <dc:subject/>
  <dc:title>No Slide Title</dc:title>
</cp:coreProperties>
</file>