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F0F-B475-4F02-AFAC-F265F71A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548-2E0C-4B95-BB8D-D62B071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7A1-396E-4675-BC8F-45D8E15D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B58-B706-4EC4-B463-A9DCC1B3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30C-25AE-4C80-9F4A-5018D767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A08-9FEB-44FC-80BF-D6C4E331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A20-466A-45C7-BB47-FF5BEB2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882-3F1B-46AC-B8EF-EC8FEBAD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FC5-320E-423C-808A-BAC40FFD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835-D8FC-4902-9544-972ECFF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AA4-0D1C-4775-B681-F483FA0C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2D3-0F1A-4A64-AE13-F721CF6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62720" y="6474960"/>
            <a:ext cx="2147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 Eckard, Verizon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078C90-DF0B-4E58-A5CF-1E15F8FF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182880"/>
            <a:ext cx="256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1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Equipment to Support 802.11 and 802.15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k Eck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zon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2ED-A63B-4A17-A7B6-D8590D39D9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AN Equipment for 802.11 and 802.15 M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equipment to provide permanent wireless network(s) to support 802.11 and 802.15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to be separable, if necessary, to support different meeting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from surplus from prior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ccess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il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wireless preamps and 4 micro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hipping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radio cards (4 for access points, 20 to lend at meet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219-96F3-4C6A-B7A5-721FBE422F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A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198520"/>
          <a:ext cx="777240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8520"/>
                    <a:ext cx="777240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82B-F60B-4226-9BF1-48E818D1C4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ed Expe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057400"/>
          <a:ext cx="800100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0EA-367F-4A49-909A-E455E8590C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04:31:51Z</dcterms:created>
  <dc:creator>Dick Echard</dc:creator>
  <dc:description/>
  <dc:language>en-US</dc:language>
  <cp:lastModifiedBy>Dick Echard</cp:lastModifiedBy>
  <cp:lastPrinted>1998-02-10T13:28:06Z</cp:lastPrinted>
  <dcterms:modified xsi:type="dcterms:W3CDTF">2000-09-21T22:35:44Z</dcterms:modified>
  <cp:revision>7</cp:revision>
  <dc:subject/>
  <dc:title>Wireless LAN Equipment to Support 802.11 and 802.15 Meetings</dc:title>
</cp:coreProperties>
</file>