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CDDC7-EE7B-472D-9BB4-67503CE97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8853B-6CD2-449F-93DD-2E00599BB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9525A-D7D7-459F-AEB2-ED5BA8007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48942-333D-4779-86D4-F0C134B6B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83A0E-21A6-48C6-BA86-63D9CD9E8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EF0AA-F0AE-4495-A891-7BA20523A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59A69-237F-4B41-A6DE-CED40B766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F23E7-0F9C-4AFB-B91B-1F03B0CE5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8E708-A61F-4E8F-91ED-A6411AFAF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86ED-3748-467F-B0F4-BC3F4485B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1AB00-8D31-427E-9F31-389B70730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6762-1D0F-4A7D-9D86-BDC79F573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120" y="182520"/>
            <a:ext cx="12193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B. Shoemake,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E641B4-01F0-4CD0-ACEA-F662A12D4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3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Gg Report to 802.11 WG</a:t>
            </a:r>
            <a:br>
              <a:rPr sz="4400"/>
            </a:br>
            <a:r>
              <a:rPr b="0" lang="en-US" sz="4400" spc="-1" strike="noStrike">
                <a:solidFill>
                  <a:srgbClr val="000000"/>
                </a:solidFill>
                <a:latin typeface="Times New Roman"/>
              </a:rPr>
              <a:t>September 22, 2000</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thew B. Shoemake, Ph.D.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g Chairpers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0D6891F-4CCD-4AAA-96E6-F91B42690EC0}"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fficial Document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SG/TGg has completed and adopted the following docu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Procedure 00-209r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 Requirement 00-210r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 Criteria 00-211r9</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to adopt these documents in TGg by Carl Andren, Second Andre Martin, Approved 20-0-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7C70E79-1062-4BD7-AC84-E60A926EC6D2}"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l for Proposal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g discussed and passed a motion calling for issuance of a </a:t>
            </a:r>
            <a:r>
              <a:rPr b="0" i="1" lang="en-US" sz="3200" spc="-1" strike="noStrike">
                <a:solidFill>
                  <a:srgbClr val="000000"/>
                </a:solidFill>
                <a:latin typeface="Times New Roman"/>
              </a:rPr>
              <a:t>Call for Proposals</a:t>
            </a:r>
            <a:r>
              <a:rPr b="0" lang="en-US" sz="3200" spc="-1" strike="noStrike">
                <a:solidFill>
                  <a:srgbClr val="000000"/>
                </a:solidFill>
                <a:latin typeface="Times New Roman"/>
              </a:rPr>
              <a:t> includin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dline for notification of intent to propose of Monday, October 30, 2000 at 11:59PM ES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dline for submission of proposal to TGg of Monday, November 6, 2000 at 11:59PM EST</a:t>
            </a:r>
            <a:endParaRPr b="0" lang="en-US" sz="2800" spc="-1" strike="noStrike">
              <a:solidFill>
                <a:srgbClr val="000000"/>
              </a:solidFill>
              <a:latin typeface="Times New Roman"/>
            </a:endParaRPr>
          </a:p>
          <a:p>
            <a:pPr lvl="2" marL="108576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made by Mark Webster, Seconded by Ivan Reede, Passed 18-0-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0DA749B-1DCE-463E-BE71-63AF7192F59B}"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tory</a:t>
            </a:r>
            <a:endParaRPr b="0" lang="en-US" sz="4400" spc="-1" strike="noStrike">
              <a:solidFill>
                <a:srgbClr val="000000"/>
              </a:solidFill>
              <a:latin typeface="Times New Roman"/>
            </a:endParaRPr>
          </a:p>
        </p:txBody>
      </p:sp>
      <p:sp>
        <p:nvSpPr>
          <p:cNvPr id="52"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tion passed as follo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Gg  and Ad Hoc Regulatory Group jointly schedule a telephone conference call with the OET at the FCC for the November meeting to obtain FCC perspectives on the </a:t>
            </a:r>
            <a:r>
              <a:rPr b="0" i="1" lang="en-US" sz="2400" spc="-1" strike="noStrike">
                <a:solidFill>
                  <a:srgbClr val="000000"/>
                </a:solidFill>
                <a:latin typeface="Times New Roman"/>
                <a:ea typeface="Times New Roman"/>
              </a:rPr>
              <a:t>processing gain </a:t>
            </a:r>
            <a:r>
              <a:rPr b="0" lang="en-US" sz="2400" spc="-1" strike="noStrike">
                <a:solidFill>
                  <a:srgbClr val="000000"/>
                </a:solidFill>
                <a:latin typeface="Times New Roman"/>
                <a:ea typeface="Times New Roman"/>
              </a:rPr>
              <a:t>and other relevant issues and to schedule conference calls of TGg and Ad Hoc Reg. to determine the agenda for the FCC conference call.  The TGg requests participation of the 802.11 WG chairperson in these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ved by Jim Zyren, Seconded Jan Boer, Motion Passed:  13-0-1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3662273-8552-4D69-814D-564701A6AEFE}"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pectral Mask Considerations</a:t>
            </a:r>
            <a:r>
              <a:rPr b="1" i="1"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 Webster and Karen Halford, Intersil</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 00-283</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EEE 802.11 FCC Liai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im Zyren, Intersil</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 00-32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CDD0349-0F6C-45BB-A351-BD24B7EE06F5}"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for Next Meet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 propos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with our Selection Proced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r proposals, compile comparison criteria,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of the TGg chairperson is that the furthest TGg could possibly make it through the Selection Procedure during the November 2000 meeting is the 25%, low hurdle vote (Item 13) of the Selection Procedu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up liaison with external organizations, e.g. ISO, IEEE SCC34, IEC TC106,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D6083E7-B686-4793-9924-F5340F362649}"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Worstell</cp:lastModifiedBy>
  <cp:lastPrinted>1998-02-10T13:28:06Z</cp:lastPrinted>
  <dcterms:modified xsi:type="dcterms:W3CDTF">2000-10-30T20:00:18Z</dcterms:modified>
  <cp:revision>26</cp:revision>
  <dc:subject/>
  <dc:title>No Slide Title</dc:title>
</cp:coreProperties>
</file>