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57C-8607-4E8E-9076-3AF6893C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4EE-F604-4C70-8CFB-3CAFE1B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5D9-C391-482C-8ACF-12877C27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712-1823-4AF6-85DE-BC5F86C3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40E-0140-40F3-A96C-665E263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933-0867-4226-B3E5-74CD788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A44-251B-407B-8A3A-EA34855F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2C4-7427-47EE-8332-7EF528C3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BB9-0060-45FA-8158-0B829A95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6C1-4402-4591-ADC5-B9F53AF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A93-A9A0-4093-B7D4-07F14F3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586-1EFE-4F5B-B775-2CA1AD6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6C06C1-F3BB-40E2-BF55-DE35938C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_x0008__x0008_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F91-553E-4247-B369-C60E0C2212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531-E046-4D12-8182-B710A467E0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303-F81C-4632-AC8D-F6CEE6B41B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1, 4-octet fix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A85-90DF-4817-B6C5-542217A497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7C9-317D-41F2-8B19-01DB66B6F6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06T21:49:53Z</dcterms:modified>
  <cp:revision>12</cp:revision>
  <dc:subject/>
  <dc:title>No Slide Title</dc:title>
</cp:coreProperties>
</file>