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78E0-CE01-45A5-AA3C-303E155D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10EE-1310-4182-B03E-E2F10742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CD2-3BF3-40EA-889F-74B873AC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094-3CE3-4F6C-A218-CAC0C437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424A-F540-4880-9A01-52721691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1C2A-EE61-4CD6-A5D6-87E5E052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B671-CEDC-4584-B883-838AAFCA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B310-7542-4310-9283-F7A3A473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90D-3DFF-4C4E-85EA-B4F81A1A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399-C878-4EA4-9A3F-84EDB70C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462-84C2-4D48-9D5E-EF2ED77E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D577-22A2-41D0-9004-8FE22BB0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379800"/>
            <a:ext cx="1752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76760"/>
            <a:ext cx="3124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DD1BA61-862A-4583-AB4B-5E007B020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Management Actions</a:t>
            </a:r>
            <a:br>
              <a:rPr sz="44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chanism for all MAC enhancement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57240" y="3352320"/>
            <a:ext cx="380988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hael Fis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ICE-Inter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42-3 Medical Dr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n Antonio, TX 782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1-210-614-4096 x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fischer@choicemicr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C7E-EA9B-4725-A7F0-4D3EA390CA8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et of functional enhancements to the 802.11 MAC requires new management fram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only 5 reserved management sub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ng elements to existing subtypes is only a partial solution, and may reduce efficiency and reliability as the management frame bodies get longer and lo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some functions that need unique sub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ly frames that use_x0008__x0008_ special rules, like Beacon, Probe &amp; A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"Container" for MPDU aggregation is a new special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need to save a few management subtypes for future special cases, because backward compatibility constraints make it messy to add MMPDUs as control sub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41F-37BC-4862-A9B7-427F33D172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posed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mechanism to add all new generic management frames using 1 subtype, and leave the last 3 management subtypes for future specia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"generic Management Action" subtype in the QoS baseline proposal achiev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both request/response and notificatio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for uniform status reporting (where benefic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s no format or content restrictions on frame body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unless there is clear justification for a different approach, generic action frames will use fixed fields and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s non-conflicting, parallel work by different task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095E-CF30-424E-9F0D-AD38D793C1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Action Request Fr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subtype 14, with (at least) 4, 1-octet fixed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ode, assigned per task group or sub-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ies general subject, such as QoS Actions, Security Action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s non-conflicting assignment of Action codes by each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code (even), for a specific function within the 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st and notification actions use even action code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ion Delay, allows occurrence of action to be del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ay=0 for immediate actions, &gt;0 is count of TBTTs prior to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ay&gt;0 only for Category,Action specified to allow or require de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og Token (octet needed for alignment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 ignored, but returned in corresponding octet of Action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t of the frame body is specific to the Category,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09480" y="1447920"/>
            <a:ext cx="7925040" cy="765000"/>
            <a:chOff x="609480" y="1447920"/>
            <a:chExt cx="7925040" cy="765000"/>
          </a:xfrm>
        </p:grpSpPr>
        <p:sp>
          <p:nvSpPr>
            <p:cNvPr id="54" name=""/>
            <p:cNvSpPr/>
            <p:nvPr/>
          </p:nvSpPr>
          <p:spPr>
            <a:xfrm>
              <a:off x="7696080" y="1676520"/>
              <a:ext cx="8384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F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1676520"/>
              <a:ext cx="12668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MAC_x0008__x0008_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Arial"/>
                </a:rPr>
                <a:t>(subtype 1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907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ev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763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tegory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051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va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195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alo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40400" y="144792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2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834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978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122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266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98560" y="1447920"/>
              <a:ext cx="71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0-23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33920" y="1676520"/>
              <a:ext cx="216216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-specifi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xed fields &amp; el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2684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FB5A-55B3-40A2-8C91-29144CA764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Action Response Fr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frames only used to return results and report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cation-style actions do not require respo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ode:  same as in request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category is not recognized, frame is ignored without error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code (odd):  ResponseCode:= RequestCode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unrecognized action in a recognized category causes an error 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 code:  indicates success or failure of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=0 for success;  Status=1 for unrecognized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&gt;1 is failure code specific to Category,A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og Token:  value copied from Dialog Token of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be useful in matching responses at stations that may have more than one request outstanding concurren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t of the frame body is specific to the Category,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09480" y="1447920"/>
            <a:ext cx="7925040" cy="765000"/>
            <a:chOff x="609480" y="1447920"/>
            <a:chExt cx="7925040" cy="765000"/>
          </a:xfrm>
        </p:grpSpPr>
        <p:sp>
          <p:nvSpPr>
            <p:cNvPr id="71" name=""/>
            <p:cNvSpPr/>
            <p:nvPr/>
          </p:nvSpPr>
          <p:spPr>
            <a:xfrm>
              <a:off x="7696080" y="1676520"/>
              <a:ext cx="8384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F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480" y="1676520"/>
              <a:ext cx="12668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MAC_x0008__x0008_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Arial"/>
                </a:rPr>
                <a:t>(subtype 1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907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od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63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tegory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051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195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alo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40400" y="144792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2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834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978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122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266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98560" y="1447920"/>
              <a:ext cx="71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0-23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33920" y="1676520"/>
              <a:ext cx="216216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-specifi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xed fields &amp; el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2684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19B-0717-4537-948E-693C62DEF1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22:59:43Z</dcterms:created>
  <dc:creator>Michael Fischer</dc:creator>
  <dc:description/>
  <dc:language>en-US</dc:language>
  <cp:lastModifiedBy>Harry Worstell</cp:lastModifiedBy>
  <cp:lastPrinted>1998-02-10T13:28:06Z</cp:lastPrinted>
  <dcterms:modified xsi:type="dcterms:W3CDTF">2000-11-13T18:58:53Z</dcterms:modified>
  <cp:revision>10</cp:revision>
  <dc:subject/>
  <dc:title>No Slide Title</dc:title>
</cp:coreProperties>
</file>