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6CB-92C7-4C4A-8064-A847FCC6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66E-19D7-4D10-8357-98C92EBE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36D-B294-4213-B08B-EDCB671E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D40-265B-4B5E-BE44-83CF2617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3F76-BB78-4524-B320-898FBFDE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8FC-7620-4B4F-8E65-B2670637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597-A2BB-4062-A4D6-1EE0994F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397-8107-4EEC-A611-0B4571ED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2F4-DA59-4619-9B35-4993551C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8E5-FC0B-4845-9032-F3F033FE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CFE-FBA7-4541-8353-926DA3E9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04A-6558-4A2E-AC81-0A441F87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92ECAF-D1D5-4B01-B149-D3E833CC9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49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s for MPEG2 and Video Confere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chin Deshpa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rinivas Kand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p Laboratories of America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mas, WA 986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0C7-65D9-479F-A288-DA9BCAA190D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Coding for Video Confere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iz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P payload for H.261, H.263, H.263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of blocks (GOB) based packe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for Internet environment packet size can vary from 200-15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head of 40 bytes header (RTP+UDP+IP) per packet, so keeping packet size close to maximum transfer unit (MTU) of network desirable (taking into account latency requir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77C-7C17-4939-B302-DBD7B1D82F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.261, H.263 (+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261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x 64 Kbps (P=1,2,3...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er standard, H.263(+) outperform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263(+)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263 : baseline standard, 4 optional anne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263+ : baseline standard, 16 optional anne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713-8D63-4137-8969-EE75866EB7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References for Video Conference Traffic Mode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yman D., Tabatabai A., Lakshman T.V., “Statistical analysis and simulation study of video teleconference traffic in ATM networks,” IEEE J Sel. Areas in Comm, 2(1), pp. 49-59, 199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genoglu F., Jabbari B., Zhang Y.Q., “Motion-classified autoregressive modeling of variable bit-rate video,” IEEE Trans. CSVT, 3(1), pp. 42-53, 19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bman A., Berger A.W., “Traffic descriptors for VBR video teleconferencing,” IEEE/ACM Trans. Networking, 3, pp 329-339, 19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52E-60B0-4FDD-8E3E-96335EB4A0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EG 2 VBR Sourc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1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7120" y="15238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989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6040" y="167652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9240" y="167652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7120" y="31240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7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989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98920" y="23623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94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712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652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0364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942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84520" y="3429000"/>
            <a:ext cx="1278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240" y="33210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68440" y="332100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3276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7120" y="4800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71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6520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65200" y="4038480"/>
            <a:ext cx="3411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71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3204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366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415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4644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1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559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084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654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70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524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798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8964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942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48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7640" y="5548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40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432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892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9380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9872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0820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312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180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2260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2752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324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3700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4192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468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120" y="5715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5715000"/>
            <a:ext cx="0" cy="40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4800" y="5835600"/>
            <a:ext cx="28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 Frames (typically N=15 or 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7120" y="5867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867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5840" y="3262320"/>
            <a:ext cx="317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= Group of Pi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e rate = 30 frames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is geometrically 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frames are log-normally 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.i.d or A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&amp; P frames are iid log-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057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5120" y="2133720"/>
            <a:ext cx="24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e Length= N*d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657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D73-1E21-41DE-A4C4-27C5AA3C55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EG 2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0" y="1523880"/>
          <a:ext cx="468792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6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755720" y="4803840"/>
          <a:ext cx="5477040" cy="477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5720" y="4803840"/>
                    <a:ext cx="54770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55C-FA89-4739-8BFF-0705C0D415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Conferencing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01640" y="4622760"/>
          <a:ext cx="61200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4622760"/>
                    <a:ext cx="61200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025640" y="1295280"/>
            <a:ext cx="72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deo-conferencing typically use H.263 or H.261 standards for video co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BR is usually employed, by  the application using a rate control algorithms. In certain situations frames may be dropped to meet the target bit-rate. Typically no B frames are used due to low latency requir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size - typically can be 576 bytes/ 1000 bytes/ 1500 bytes for Int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Usage of smaller packet size (576 bytes) is more conservative since there is a less chance of getting fragmen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tency is not an issue for high rates even if we use 1500 by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AAF-ADA7-40E4-B21A-A2BBE7FEAD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ndix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 Brief tutorial on Video Conferenc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A29-CDBB-45B6-9482-B975C32899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320,321,322,323,324 – Umbrella standards for multimedia communications (video conferenc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323: multimedia communication over packet switched networks  that do not provide a guaranteed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261, H.263(+) : video coding standards used with H.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711, G.722, G.723, G.728, G.729 : audio coding standards used with H.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1E3-6DE4-4BE8-9329-ADF5C0521E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Conferenc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-to-point / Multi-point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oint conferen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Multipoint control unit (MC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multi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cast / Multi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E6D-DB7A-43B8-8575-9158824B97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Coding for Video Confere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ve na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ent requirements on latency (150-400 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B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CIF (176x144), CIF (352x288) typical frame resolutions (also possible : SQCIF, 4CIF, 16CI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rates : 5 to 30 frames per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781-2D0D-4DBA-9C24-9213396185BC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Coding for Video Confere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-rates (including audio): mostly CBR geared towards different client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56 Kbps (modem) (typically use H.263 at 5-15 fps, G.723 at 5.3/6.3 K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128 Kbps (ISDN) (typically use H.263 at 10-20 fps, G.723 at 5.3/6.3 K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56 Kbps-1.5 Mbps) Higher bitrate (DSL, cable modem, T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A5B-5F79-4F9B-B5D7-4863BE58BE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8:01:56Z</dcterms:created>
  <dc:creator>sdeshpande</dc:creator>
  <dc:description>S. Deshpande, S. Kandala, Sharp Labs</dc:description>
  <cp:keywords>November 2000</cp:keywords>
  <dc:language>en-US</dc:language>
  <cp:lastModifiedBy>Harry Worstell</cp:lastModifiedBy>
  <cp:lastPrinted>2000-10-20T18:35:57Z</cp:lastPrinted>
  <dcterms:modified xsi:type="dcterms:W3CDTF">2000-11-03T22:25:21Z</dcterms:modified>
  <cp:revision>56</cp:revision>
  <dc:subject/>
  <dc:title>Traffic Models for Video Conferencing</dc:title>
</cp:coreProperties>
</file>