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A6AFB-DDBC-41BF-B879-2240544AA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2568-2BD8-49F9-9CC9-D7E21B21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84C5B-312B-4C1A-9E8F-818E8BB5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FDD1D-D971-4BEB-8B2D-461CC3089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1294D-C16A-45D3-A544-D01D1CD1A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92811-B240-41EA-8909-039D7E31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0CFB-4DBC-4E55-9479-4A915EC7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8E11-2898-426F-9010-4C259E2B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92B0-41A2-4279-90F1-42E424BAC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5491-5D15-4B53-A2AB-16895B51C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C99B-4529-460D-B4B0-5DF79771A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E712-F71A-4444-8425-2E12559D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022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13440" y="6474960"/>
            <a:ext cx="25970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ten Hoeben, Menzo Wentink,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D75629-052C-4CFD-9397-3D9BA6C00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 D-QoS through </a:t>
            </a:r>
            <a:br>
              <a:rPr sz="4400"/>
            </a:b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arten Hoeben, Menzo Wentin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i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44A41D6-3AF2-4CDB-A5BA-C93F817E31A0}"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Issu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DCFs increase the number of entities contending (up to 2007*8!). Is this a problem?</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he intent of D-QoS is to keep the medium load reasonably low through rate control and increased CWs, so contention is less of an issu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V-DCFs contend with the same (low) CW</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l V-DCFs avoid collis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local (station internal) interaction of V-DCFs introduce unwanted side effects, such as fairness issue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alyzed so far, these side effects are minimal and do not impact the fairness noticeab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9C7F019-B5B4-42DC-9D8E-0E9042D50D01}" type="slidenum">
              <a:t>10</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Objectiv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service differenti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losing fairness (delay and throughput)</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between classes of same priority as well as cross priority, both local and remo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increasing complexity too mu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the delay for higher priority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medium lo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starvation of lower priority clas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869B71D-4694-4793-BCB4-C34AAE0FCA71}"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CF Properti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F is a reasonable fair access mechanism, given tha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frames are equal in size (throughput fairnes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is monitored over a longer perio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s use the same Contention Window (CW) setting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far problem is not considered an issu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properties are reasonable if medium load is kept low</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of CW allows for different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3DFBB5B-1164-4278-9499-9B46771A7271}"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Concep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queues for each priority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 through per class CW settings and/or Submission Rate (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W and SR are dynamically adapted to current medium l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presentation by Wim Diepstraten, Lucent for more detai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DE5BE16-0E1A-4580-BDFC-5208207E5ED7}"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Access Mechanism Problem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unfairn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does not solve intrinsic DCF problem</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unfairness between same priority classes of local and remote STA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the local STA has frames in both high priority as well as low priority classes while the remote STA has frames in only low priority classes, the access distribution for the low priority classes is not the s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7540823-09EC-456B-BAAE-D40A1C6F1911}"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Access Mechanism Problems (cont’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not consequent within same local cla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high priority queue empties, the new tx-opportunity rate distribution for a lower priority queue changes in an unpredictable wa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predict behavior or analyze theore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ity of service rate control is l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tuning-parameters (backoff and service r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AC8DB8C-CB36-4A92-A69B-608BB467988A}" type="slidenum">
              <a:t>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D-QoS through “Virtual DCF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queues of the priority classes in an STA as independent (virtual) DCFs</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V-DCF contends for the medium independently of the other local V-DCF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ing a local collision between V-DCFs is a policy decision</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ase of a collision with a remote V-DCF, the CW for a retry is doubled for the colliding V-DCF only</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te solely through CW differentiation (service rate not required)</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CW also dependent of the total duration of the frame exchange for which the V-DCF contends will increase fairness</a:t>
            </a:r>
            <a:endParaRPr b="0" lang="en-US" sz="2400" spc="-1" strike="noStrike">
              <a:solidFill>
                <a:srgbClr val="000000"/>
              </a:solidFill>
              <a:latin typeface="Times New Roman"/>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DF3E610-E4BA-48A1-BB68-B8CACD925DDB}" type="slidenum">
              <a:t>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Advantag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and fair service differenti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upling of the entire fairness matrix (local-remote, high-low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upling of access mechanism from drop rate control because queue backlog does not influence distribution of access per cla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rate control does not have to be standardized because it  is not couple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a simple solution of inherent DCF throughput fairness issu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C147D95-79FF-4DA4-A69F-87F0EE13C2BD}"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Advantages (cont’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implementation complexity</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nalyze than current D-QoS access mechan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s D-QoS with a better differentiation metho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deas of Lucent’s proposal (Load monitoring and controlling, AP priority, drop rate control etc) are still applic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er integration of legacy st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4B1D6EC-0490-40C5-90F4-D55332CC1471}"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Harry Worstell</cp:lastModifiedBy>
  <cp:lastPrinted>1998-02-10T13:28:06Z</cp:lastPrinted>
  <dcterms:modified xsi:type="dcterms:W3CDTF">2000-11-02T17:49:51Z</dcterms:modified>
  <cp:revision>287</cp:revision>
  <dc:subject/>
  <dc:title>Multimedia Synchronization and 802.11 MAC Enhancements </dc:title>
</cp:coreProperties>
</file>