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A3A16-833D-404C-988E-DC314655D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752480"/>
            <a:ext cx="77724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685800" y="4220640"/>
            <a:ext cx="77724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F0F1A-31D0-474A-9873-D8406DB2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466848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85800" y="422064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668480" y="422064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D940F-4DF9-4BA6-B502-12D0E6063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75248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313800" y="175248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5941440" y="175248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685800" y="422064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313800" y="422064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5941440" y="422064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253DA-E910-4B5F-8841-889CEDD69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2EC42-71CD-4065-9DB0-F21D86762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5FBA4-CED0-4993-B65E-0BEFCBE1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752480"/>
            <a:ext cx="37926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1752480"/>
            <a:ext cx="37926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79F02-09A0-434C-9F22-311BB1703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2E5B0-B9BD-42A3-8B15-2B43D73EA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EC72-AAB2-4DF6-A21B-F27D7052D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752480"/>
            <a:ext cx="37926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685800" y="422064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D5993-1587-482A-ACD7-79DA286F4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752480"/>
            <a:ext cx="37926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668480" y="422064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A699A-8157-47B9-B317-3FF13BADF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848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800" y="4220640"/>
            <a:ext cx="77724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BA706-AEF6-4E65-B26C-3C83A0262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379800"/>
            <a:ext cx="175248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3B4116-6CF8-4113-848A-53D0E5FB8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5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1219320"/>
            <a:ext cx="7772400" cy="274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of the</a:t>
            </a:r>
            <a:br>
              <a:rPr sz="4000"/>
            </a:br>
            <a:r>
              <a:rPr b="0" lang="en-US" sz="4000" spc="-1" strike="noStrike">
                <a:solidFill>
                  <a:srgbClr val="000000"/>
                </a:solidFill>
                <a:latin typeface="Times New Roman"/>
              </a:rPr>
              <a:t>QoS Baseline Proposal</a:t>
            </a:r>
            <a:br>
              <a:rPr sz="4000"/>
            </a:br>
            <a:br>
              <a:rPr sz="4000"/>
            </a:br>
            <a:r>
              <a:rPr b="0" lang="en-US" sz="2800" spc="-1" strike="noStrike">
                <a:solidFill>
                  <a:srgbClr val="000000"/>
                </a:solidFill>
                <a:latin typeface="Times New Roman"/>
              </a:rPr>
              <a:t>Developed by the QoS Baseline Ad-hoc Group</a:t>
            </a:r>
            <a:br>
              <a:rPr sz="2800"/>
            </a:br>
            <a:r>
              <a:rPr b="0" lang="en-US" sz="2800" spc="-1" strike="noStrike">
                <a:solidFill>
                  <a:srgbClr val="000000"/>
                </a:solidFill>
                <a:latin typeface="Times New Roman"/>
              </a:rPr>
              <a:t>September-November, 2000</a:t>
            </a:r>
            <a:br>
              <a:rPr sz="2800"/>
            </a:br>
            <a:br>
              <a:rPr sz="2800"/>
            </a:br>
            <a:r>
              <a:rPr b="0" lang="en-US" sz="2000" spc="-1" strike="noStrike">
                <a:solidFill>
                  <a:srgbClr val="000000"/>
                </a:solidFill>
                <a:latin typeface="Times New Roman"/>
              </a:rPr>
              <a:t>Revision 1, incorporating changes made during the November meeting</a:t>
            </a:r>
            <a:endParaRPr b="0" lang="en-US" sz="2000" spc="-1" strike="noStrike">
              <a:solidFill>
                <a:srgbClr val="000000"/>
              </a:solidFill>
              <a:latin typeface="Times New Roman"/>
            </a:endParaRPr>
          </a:p>
        </p:txBody>
      </p:sp>
      <p:sp>
        <p:nvSpPr>
          <p:cNvPr id="46" name="PlaceHolder 2"/>
          <p:cNvSpPr>
            <a:spLocks noGrp="1"/>
          </p:cNvSpPr>
          <p:nvPr>
            <p:ph/>
          </p:nvPr>
        </p:nvSpPr>
        <p:spPr>
          <a:xfrm>
            <a:off x="3657240" y="4572000"/>
            <a:ext cx="3809880" cy="186840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Fischer</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ICE-Intersil</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42-3 Medical Drive</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n Antonio, TX 78229</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10-614-4096 x107</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ischer@choicemicro.com</a:t>
            </a:r>
            <a:endParaRPr b="0" lang="en-US" sz="1800" spc="-1" strike="noStrike">
              <a:solidFill>
                <a:srgbClr val="000000"/>
              </a:solidFill>
              <a:latin typeface="Times New Roman"/>
            </a:endParaRPr>
          </a:p>
        </p:txBody>
      </p:sp>
      <p:sp>
        <p:nvSpPr>
          <p:cNvPr id="47" name=""/>
          <p:cNvSpPr/>
          <p:nvPr/>
        </p:nvSpPr>
        <p:spPr>
          <a:xfrm>
            <a:off x="1752120" y="457200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 Edito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2D6B24A8-2D0D-44B3-8133-9E98392D8FCE}" type="slidenum">
              <a:t>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w MAC Mechanisms (general)</a:t>
            </a:r>
            <a:endParaRPr b="0" lang="en-US" sz="4000" spc="-1" strike="noStrike">
              <a:solidFill>
                <a:srgbClr val="000000"/>
              </a:solidFill>
              <a:latin typeface="Times New Roman"/>
            </a:endParaRPr>
          </a:p>
        </p:txBody>
      </p:sp>
      <p:sp>
        <p:nvSpPr>
          <p:cNvPr id="122"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 Opportunities (TXOP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ight to transmit defined by starting time &amp; duration limi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es to EDCF contention winner as well as CF-poll recipient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 is global during CP, piggybacked with poll during CFP</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allocated in advance during CF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Category Identifiers (TCID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2-octet field at end of MAC header in QoS data subtyp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order 3 bits are priority parameter for MSDU</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layout as TCI field of 802.1Q VLAN tag, VID field is </a:t>
            </a:r>
            <a:r>
              <a:rPr b="1" lang="en-US" sz="1800" spc="-1" strike="noStrike">
                <a:solidFill>
                  <a:srgbClr val="000000"/>
                </a:solidFill>
                <a:latin typeface="Times New Roman"/>
              </a:rPr>
              <a:t>reserved</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unt of traffic queued for TC piggybacked during CFP</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ontrol frames and elements use TCA field with {TC,AI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FFFEDE0C-0E95-4015-86C3-3736560AAB0F}"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w MAC Mechanisms</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regation of multiple MPDUs into a single PSD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transfers (EDCF) of SIFS-separated frames that fit in TXO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ed Acknowledgment (level 3 onl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format allows up to n*16 unacknowledged frames per TC</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try delay" parameters allows fallback to ARQ</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ized Contention  &amp; Reservation Request (EPCF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e EAP/EP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S Overlap Miti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Portal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81A99844-D01F-4155-BB17-AB8BF896A80C}"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ed DCF</a:t>
            </a:r>
            <a:endParaRPr b="0" lang="en-US" sz="4000" spc="-1" strike="noStrike">
              <a:solidFill>
                <a:srgbClr val="000000"/>
              </a:solidFill>
              <a:latin typeface="Times New Roman"/>
            </a:endParaRPr>
          </a:p>
        </p:txBody>
      </p:sp>
      <p:sp>
        <p:nvSpPr>
          <p:cNvPr id="126"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based Distributed Coordin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chieve fairness access among traffic of the same priority at different st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lative to best effort traffic from legacy st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 penalty for non-used traffic class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s will be “Black Box” in Baseline draft text and resolved based on proposals made through November 2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s in separate present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88DCEB11-7181-4A07-B100-340F2537D288}"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ed PCF</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ly based on the detailed effort from the Joint Proposal (00/071, 00/120) by AT&amp;T, Lucent, Sharewave, and others (00/120r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echanism enhancements from Joint Proposal</a:t>
            </a:r>
            <a:endParaRPr b="0"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ized Contention (CC)</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ation Request (RR)</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k Policy (normal, delayed, non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OP limit and TC size piggybacked on QoS data frame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Multipoll for multiple TXOP assignment</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Schedule for periodic (CBR-type) traffic</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does not require BSS-unique VSIDs nor external classifier ent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42ED0E13-0FD2-4C45-9A31-9C06A477AF09}"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LME SAP</a:t>
            </a: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 additions to Scan, Start, Join, etc. to add QoS levels as association attribu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ME-TSUPDATE.request/confirmation</a:t>
            </a:r>
            <a:br>
              <a:rPr sz="2400"/>
            </a:br>
            <a:r>
              <a:rPr b="0" lang="en-US" sz="2400" spc="-1" strike="noStrike">
                <a:solidFill>
                  <a:srgbClr val="000000"/>
                </a:solidFill>
                <a:latin typeface="Times New Roman"/>
              </a:rPr>
              <a:t>used to define and modify traffic specif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ME-WMSTATUS.request/confirmation</a:t>
            </a:r>
            <a:br>
              <a:rPr sz="2400"/>
            </a:br>
            <a:r>
              <a:rPr b="0" lang="en-US" sz="2400" spc="-1" strike="noStrike">
                <a:solidFill>
                  <a:srgbClr val="000000"/>
                </a:solidFill>
                <a:latin typeface="Times New Roman"/>
              </a:rPr>
              <a:t>for WLAN-aware higher-layer bandwidth reservation and QoS management entities to obtain information on the state of the wireless mediu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84DD7DA1-2F0F-47CA-9ACD-B8D78DD2D448}"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gregation</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end multiple MPDUs in a single PS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special management frame known as "Contain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ed MPDUs to single address (unicast contain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cast MPDUs to a single group address (multicast contain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cast and/or multicast MPDUs to any group address (broadcast contain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ther immediate acknowledgement or delayed acknowledgement (if level 3 Q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nominally limited to 2302 octe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96551A7E-486A-48A5-A95A-2869C4101DC3}"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wer Save</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Epoc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ions of beacon interval when power save ESTA is awak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 requests amount of awake time, EAP assigns epoch(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existing power save with PS-Pol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P can use "PS-non-poll" during WSTA's listen epoc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OPs can be allocated during listen epoch to allow direct ESTA-ESTA under power sav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A7ACE375-1044-44E5-ABBB-3C22D4D9431A}"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complete Items &amp; Placeholders</a:t>
            </a:r>
            <a:endParaRPr b="0" lang="en-US" sz="4000" spc="-1" strike="noStrike">
              <a:solidFill>
                <a:srgbClr val="000000"/>
              </a:solidFill>
              <a:latin typeface="Times New Roman"/>
            </a:endParaRPr>
          </a:p>
        </p:txBody>
      </p:sp>
      <p:sp>
        <p:nvSpPr>
          <p:cNvPr id="136"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C (at MAC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CF channel acc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S Overlap Mitigation (parti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Porta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on with HL end-to-end QoS management entitie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1A45BAC1-3643-48F3-8334-F379C6E93ABA}"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Issues (from November Meeting)</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nt all pieces mandatory if implementing the QoS op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not want options inside of option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i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 3 is too complex, in the absence of justification should be dropp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d TXOPs, very hard to implement, cost/benefit concer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ion, too limited to be worth the effor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ed acknowledgement is unjustifiable in a MAC protoco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Mill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should be no options, or collapse levels (presumably 1 &amp; 2 to 1.5)</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hew Sherman, Harry Worstel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nts to merge levels 1 and 2 into a level 1.5</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15B2AEFF-584B-4F99-9FD1-D10BF3640DD8}" type="slidenum">
              <a:t>1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Issues (from November Meeting)</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gyhun</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bss overlap mitigation, but wants more details are needed</a:t>
            </a:r>
            <a:endParaRPr b="0" lang="en-US" sz="18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en-Ping</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ants to use same level 0 frames for level 2 PCF</a:t>
            </a:r>
            <a:endParaRPr b="0"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rimarily wants to remove RR/CC in level 2</a:t>
            </a:r>
            <a:endParaRPr b="0" lang="en-US" sz="18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John K.  </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cern over whether QoS under DCF is useful, wants mainly level 3</a:t>
            </a:r>
            <a:endParaRPr b="0" lang="en-US" sz="18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aju &amp; Matthew Fischer (changed from no to abstain based on responses)</a:t>
            </a:r>
            <a:endParaRPr b="0" lang="en-US" sz="20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ants fec frame format from joint proposal included for use with 802.11b</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ants to reserve the 4 NoData qos data subtypes, the reason the 2 +CF-Ack</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polling interval and transmission interval redundant in traffic specification</a:t>
            </a:r>
            <a:endParaRPr b="0" lang="en-US" sz="16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arked as open issue in 360r2</a:t>
            </a:r>
            <a:endParaRPr b="0" lang="en-US" sz="1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etry interval in TU</a:t>
            </a:r>
            <a:endParaRPr b="0" lang="en-US" sz="16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is was discussed in NJ, is not always a benefit, and appears to hurt jitter because ESTA's TXOP may fall too early in subsequent superframe to be usable for retries, probably still open  </a:t>
            </a:r>
            <a:endParaRPr b="0" lang="en-US" sz="14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arked as an open issue in 360r2)</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3BE36C8D-8F0D-4185-A17B-78EE498E2FE7}"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Baseline Ad-hoc Group</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ed areas of consensus and disagree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s of functions that had to be present to achieve &gt;75% sup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s of functions that had to be absent to achieve &gt;75% sup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unately, there was sufficient willingness to compromise that the intersection of these sets is </a:t>
            </a:r>
            <a:r>
              <a:rPr b="1" lang="en-US" sz="2000" spc="-1" strike="noStrike">
                <a:solidFill>
                  <a:srgbClr val="ff0000"/>
                </a:solidFill>
                <a:latin typeface="Times New Roman"/>
              </a:rPr>
              <a:t>not</a:t>
            </a:r>
            <a:r>
              <a:rPr b="0" lang="en-US" sz="2000" spc="-1" strike="noStrike">
                <a:solidFill>
                  <a:srgbClr val="000000"/>
                </a:solidFill>
                <a:latin typeface="Times New Roman"/>
              </a:rPr>
              <a:t> nul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nested conformance model, no disjoint option s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a uniform higher-layer interface within the confines of the 802 MAC SAP and MLME SA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sistent set of frame formats based on 8 traffic catego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de substantial progress on defining the enhanced DCF, enhanced PCF, and traffic category support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have initial draft within weeks if this baseline is adopt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F76E0F8A-BFA7-4EB8-9FEB-E1EAA980AA09}"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Issues (from November Meeting)</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aju &amp; Matthew Fischer (changed from no to abstain based on response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qbss activtity change not present the QoS action code is assigned and placeholders are included in 360r1 (7.4.4 &amp; 7.4.5), don't know if issue is still open</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ahlid</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ants one simulation framework</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rian</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ncerned about real-time response  (implied that 2us responses must be hardwired??)</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b Meier</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cern about the overlapping BSS mitigation mechanism,  would be happy with black box for now.</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de remark about PCF "not obvious that it is really contention free ...“  &lt;&lt;not said at meeting:  we had a semantic problem with this once or twice before -- the name is not ideal but is in the published standard, so we may need again to clarify that "contention" in this context means "CSMA channel access contention" which is indeed absent during the CFP ("CSMA-free period" ??).  What may occur during the CFP is co-channel interference from a hidden station or nearby BS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CD6F79FA-4060-4CFD-8E44-DA8532FF8D59}" type="slidenum">
              <a:t>2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ey Features of Proposed Baseline</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ward compatible from and coexistent with 802.11-1999</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both prioritized and parameterized QoS</a:t>
            </a:r>
            <a:endParaRPr b="0" lang="en-US" sz="24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ized QoS provides relative differentiation between priorities</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ized QoS provides managed delivery using traffic specs</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as viewed from above the MAC SAP there is only one service!</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QoS delivery under both (E)DCF and (E)PCF</a:t>
            </a:r>
            <a:endParaRPr b="0" lang="en-US" sz="24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ized QoS only available under EPCF</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d efficiency through new and streamlined mechanisms</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S Overlap Mitiga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elements to extend BSS coverage &amp; connectivity</a:t>
            </a:r>
            <a:endParaRPr b="0" lang="en-US" sz="24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Portal (BP):  infrastructure access at non-AP location</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e AP/PC:  to preserve BSS (&amp; QoS) in event of failure</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AP/PC:  to extend spatial coverage via WDS link</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221A23CA-648E-420A-A9CD-F58C0F41B0BE}"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ormance Levels</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599840"/>
            <a:ext cx="7772400" cy="2971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4 conformance levels, designated 0 to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higher level is a proper superset of the level bene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ormance levels are attributes of the </a:t>
            </a:r>
            <a:r>
              <a:rPr b="0" i="1" lang="en-US" sz="2400" spc="-1" strike="noStrike">
                <a:solidFill>
                  <a:srgbClr val="ff0000"/>
                </a:solidFill>
                <a:latin typeface="Times New Roman"/>
              </a:rPr>
              <a:t>Association</a:t>
            </a:r>
            <a:endParaRPr b="0" lang="en-US" sz="2400" spc="-1" strike="noStrike">
              <a:solidFill>
                <a:srgbClr val="000000"/>
              </a:solidFill>
              <a:latin typeface="Times New Roman"/>
            </a:endParaRPr>
          </a:p>
        </p:txBody>
      </p:sp>
      <p:grpSp>
        <p:nvGrpSpPr>
          <p:cNvPr id="54" name=""/>
          <p:cNvGrpSpPr/>
          <p:nvPr/>
        </p:nvGrpSpPr>
        <p:grpSpPr>
          <a:xfrm>
            <a:off x="1676520" y="4876920"/>
            <a:ext cx="5867280" cy="1523880"/>
            <a:chOff x="1676520" y="4876920"/>
            <a:chExt cx="5867280" cy="1523880"/>
          </a:xfrm>
        </p:grpSpPr>
        <p:sp>
          <p:nvSpPr>
            <p:cNvPr id="55" name=""/>
            <p:cNvSpPr/>
            <p:nvPr/>
          </p:nvSpPr>
          <p:spPr>
            <a:xfrm>
              <a:off x="1676520" y="6096240"/>
              <a:ext cx="838080" cy="30456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evel 0</a:t>
              </a:r>
              <a:endParaRPr b="0" lang="en-US" sz="1400" spc="-1" strike="noStrike">
                <a:solidFill>
                  <a:srgbClr val="000000"/>
                </a:solidFill>
                <a:latin typeface="Times New Roman"/>
              </a:endParaRPr>
            </a:p>
          </p:txBody>
        </p:sp>
        <p:sp>
          <p:nvSpPr>
            <p:cNvPr id="56" name=""/>
            <p:cNvSpPr/>
            <p:nvPr/>
          </p:nvSpPr>
          <p:spPr>
            <a:xfrm>
              <a:off x="1676520" y="579132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1</a:t>
              </a:r>
              <a:endParaRPr b="0" lang="en-US" sz="1400" spc="-1" strike="noStrike">
                <a:solidFill>
                  <a:srgbClr val="000000"/>
                </a:solidFill>
                <a:latin typeface="Times New Roman"/>
              </a:endParaRPr>
            </a:p>
          </p:txBody>
        </p:sp>
        <p:sp>
          <p:nvSpPr>
            <p:cNvPr id="57" name=""/>
            <p:cNvSpPr/>
            <p:nvPr/>
          </p:nvSpPr>
          <p:spPr>
            <a:xfrm>
              <a:off x="1676520" y="548640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2</a:t>
              </a:r>
              <a:endParaRPr b="0" lang="en-US" sz="1400" spc="-1" strike="noStrike">
                <a:solidFill>
                  <a:srgbClr val="000000"/>
                </a:solidFill>
                <a:latin typeface="Times New Roman"/>
              </a:endParaRPr>
            </a:p>
          </p:txBody>
        </p:sp>
        <p:sp>
          <p:nvSpPr>
            <p:cNvPr id="58" name=""/>
            <p:cNvSpPr/>
            <p:nvPr/>
          </p:nvSpPr>
          <p:spPr>
            <a:xfrm>
              <a:off x="1676520" y="5181840"/>
              <a:ext cx="83808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3</a:t>
              </a:r>
              <a:endParaRPr b="0" lang="en-US" sz="1400" spc="-1" strike="noStrike">
                <a:solidFill>
                  <a:srgbClr val="000000"/>
                </a:solidFill>
                <a:latin typeface="Times New Roman"/>
              </a:endParaRPr>
            </a:p>
          </p:txBody>
        </p:sp>
        <p:sp>
          <p:nvSpPr>
            <p:cNvPr id="59" name=""/>
            <p:cNvSpPr/>
            <p:nvPr/>
          </p:nvSpPr>
          <p:spPr>
            <a:xfrm>
              <a:off x="2514600" y="5181840"/>
              <a:ext cx="251460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EDCF)</a:t>
              </a:r>
              <a:endParaRPr b="0" lang="en-US" sz="1400" spc="-1" strike="noStrike">
                <a:solidFill>
                  <a:srgbClr val="000000"/>
                </a:solidFill>
                <a:latin typeface="Times New Roman"/>
              </a:endParaRPr>
            </a:p>
          </p:txBody>
        </p:sp>
        <p:sp>
          <p:nvSpPr>
            <p:cNvPr id="60" name=""/>
            <p:cNvSpPr/>
            <p:nvPr/>
          </p:nvSpPr>
          <p:spPr>
            <a:xfrm>
              <a:off x="2514600" y="5486400"/>
              <a:ext cx="251460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EDCF)</a:t>
              </a:r>
              <a:endParaRPr b="0" lang="en-US" sz="1400" spc="-1" strike="noStrike">
                <a:solidFill>
                  <a:srgbClr val="000000"/>
                </a:solidFill>
                <a:latin typeface="Times New Roman"/>
              </a:endParaRPr>
            </a:p>
          </p:txBody>
        </p:sp>
        <p:sp>
          <p:nvSpPr>
            <p:cNvPr id="61" name=""/>
            <p:cNvSpPr/>
            <p:nvPr/>
          </p:nvSpPr>
          <p:spPr>
            <a:xfrm>
              <a:off x="2514600" y="6096240"/>
              <a:ext cx="2514600" cy="30456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No QoS (DCF)</a:t>
              </a:r>
              <a:endParaRPr b="0" lang="en-US" sz="1400" spc="-1" strike="noStrike">
                <a:solidFill>
                  <a:srgbClr val="000000"/>
                </a:solidFill>
                <a:latin typeface="Times New Roman"/>
              </a:endParaRPr>
            </a:p>
          </p:txBody>
        </p:sp>
        <p:sp>
          <p:nvSpPr>
            <p:cNvPr id="62" name=""/>
            <p:cNvSpPr/>
            <p:nvPr/>
          </p:nvSpPr>
          <p:spPr>
            <a:xfrm>
              <a:off x="2514600" y="4876920"/>
              <a:ext cx="2514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Period</a:t>
              </a:r>
              <a:endParaRPr b="0" lang="en-US" sz="1400" spc="-1" strike="noStrike">
                <a:solidFill>
                  <a:srgbClr val="000000"/>
                </a:solidFill>
                <a:latin typeface="Times New Roman"/>
              </a:endParaRPr>
            </a:p>
          </p:txBody>
        </p:sp>
        <p:sp>
          <p:nvSpPr>
            <p:cNvPr id="63" name=""/>
            <p:cNvSpPr/>
            <p:nvPr/>
          </p:nvSpPr>
          <p:spPr>
            <a:xfrm>
              <a:off x="5029200" y="5181840"/>
              <a:ext cx="251460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arameterized QoS (EPCF)</a:t>
              </a:r>
              <a:endParaRPr b="0" lang="en-US" sz="1400" spc="-1" strike="noStrike">
                <a:solidFill>
                  <a:srgbClr val="000000"/>
                </a:solidFill>
                <a:latin typeface="Times New Roman"/>
              </a:endParaRPr>
            </a:p>
          </p:txBody>
        </p:sp>
        <p:sp>
          <p:nvSpPr>
            <p:cNvPr id="64" name=""/>
            <p:cNvSpPr/>
            <p:nvPr/>
          </p:nvSpPr>
          <p:spPr>
            <a:xfrm>
              <a:off x="5029200" y="5791320"/>
              <a:ext cx="251460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Arial"/>
                </a:rPr>
                <a:t>Stations are CF-Pollable</a:t>
              </a:r>
              <a:endParaRPr b="0" lang="en-US" sz="1400" spc="-1" strike="noStrike">
                <a:solidFill>
                  <a:srgbClr val="000000"/>
                </a:solidFill>
                <a:latin typeface="Times New Roman"/>
              </a:endParaRPr>
            </a:p>
          </p:txBody>
        </p:sp>
        <p:sp>
          <p:nvSpPr>
            <p:cNvPr id="65" name=""/>
            <p:cNvSpPr/>
            <p:nvPr/>
          </p:nvSpPr>
          <p:spPr>
            <a:xfrm>
              <a:off x="5029200" y="6096240"/>
              <a:ext cx="2514600" cy="30456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No QoS (PCF)</a:t>
              </a:r>
              <a:endParaRPr b="0" lang="en-US" sz="1400" spc="-1" strike="noStrike">
                <a:solidFill>
                  <a:srgbClr val="000000"/>
                </a:solidFill>
                <a:latin typeface="Times New Roman"/>
              </a:endParaRPr>
            </a:p>
          </p:txBody>
        </p:sp>
        <p:sp>
          <p:nvSpPr>
            <p:cNvPr id="66" name=""/>
            <p:cNvSpPr/>
            <p:nvPr/>
          </p:nvSpPr>
          <p:spPr>
            <a:xfrm>
              <a:off x="5029200" y="4876920"/>
              <a:ext cx="2514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Free Period</a:t>
              </a:r>
              <a:endParaRPr b="0" lang="en-US" sz="1400" spc="-1" strike="noStrike">
                <a:solidFill>
                  <a:srgbClr val="000000"/>
                </a:solidFill>
                <a:latin typeface="Times New Roman"/>
              </a:endParaRPr>
            </a:p>
          </p:txBody>
        </p:sp>
        <p:sp>
          <p:nvSpPr>
            <p:cNvPr id="67" name=""/>
            <p:cNvSpPr/>
            <p:nvPr/>
          </p:nvSpPr>
          <p:spPr>
            <a:xfrm>
              <a:off x="2514600" y="5791320"/>
              <a:ext cx="251460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EDCF)</a:t>
              </a:r>
              <a:endParaRPr b="0" lang="en-US" sz="1400" spc="-1" strike="noStrike">
                <a:solidFill>
                  <a:srgbClr val="000000"/>
                </a:solidFill>
                <a:latin typeface="Times New Roman"/>
              </a:endParaRPr>
            </a:p>
          </p:txBody>
        </p:sp>
        <p:sp>
          <p:nvSpPr>
            <p:cNvPr id="68" name=""/>
            <p:cNvSpPr/>
            <p:nvPr/>
          </p:nvSpPr>
          <p:spPr>
            <a:xfrm>
              <a:off x="5029200" y="5486400"/>
              <a:ext cx="251460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EPCF)</a:t>
              </a:r>
              <a:endParaRPr b="0" lang="en-US" sz="1400" spc="-1" strike="noStrike">
                <a:solidFill>
                  <a:srgbClr val="000000"/>
                </a:solidFill>
                <a:latin typeface="Times New Roman"/>
              </a:endParaRPr>
            </a:p>
          </p:txBody>
        </p:sp>
      </p:grpSp>
      <p:grpSp>
        <p:nvGrpSpPr>
          <p:cNvPr id="69" name=""/>
          <p:cNvGrpSpPr/>
          <p:nvPr/>
        </p:nvGrpSpPr>
        <p:grpSpPr>
          <a:xfrm>
            <a:off x="685800" y="3200400"/>
            <a:ext cx="3352320" cy="1600200"/>
            <a:chOff x="685800" y="3200400"/>
            <a:chExt cx="3352320" cy="1600200"/>
          </a:xfrm>
        </p:grpSpPr>
        <p:sp>
          <p:nvSpPr>
            <p:cNvPr id="70" name=""/>
            <p:cNvSpPr/>
            <p:nvPr/>
          </p:nvSpPr>
          <p:spPr>
            <a:xfrm>
              <a:off x="685800" y="4495680"/>
              <a:ext cx="83808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evel 0</a:t>
              </a:r>
              <a:endParaRPr b="0" lang="en-US" sz="1400" spc="-1" strike="noStrike">
                <a:solidFill>
                  <a:srgbClr val="000000"/>
                </a:solidFill>
                <a:latin typeface="Times New Roman"/>
              </a:endParaRPr>
            </a:p>
          </p:txBody>
        </p:sp>
        <p:sp>
          <p:nvSpPr>
            <p:cNvPr id="71" name=""/>
            <p:cNvSpPr/>
            <p:nvPr/>
          </p:nvSpPr>
          <p:spPr>
            <a:xfrm>
              <a:off x="685800" y="419076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1</a:t>
              </a:r>
              <a:endParaRPr b="0" lang="en-US" sz="1400" spc="-1" strike="noStrike">
                <a:solidFill>
                  <a:srgbClr val="000000"/>
                </a:solidFill>
                <a:latin typeface="Times New Roman"/>
              </a:endParaRPr>
            </a:p>
          </p:txBody>
        </p:sp>
        <p:sp>
          <p:nvSpPr>
            <p:cNvPr id="72" name=""/>
            <p:cNvSpPr/>
            <p:nvPr/>
          </p:nvSpPr>
          <p:spPr>
            <a:xfrm>
              <a:off x="685800" y="3886200"/>
              <a:ext cx="83808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2</a:t>
              </a:r>
              <a:endParaRPr b="0" lang="en-US" sz="1400" spc="-1" strike="noStrike">
                <a:solidFill>
                  <a:srgbClr val="000000"/>
                </a:solidFill>
                <a:latin typeface="Times New Roman"/>
              </a:endParaRPr>
            </a:p>
          </p:txBody>
        </p:sp>
        <p:sp>
          <p:nvSpPr>
            <p:cNvPr id="73" name=""/>
            <p:cNvSpPr/>
            <p:nvPr/>
          </p:nvSpPr>
          <p:spPr>
            <a:xfrm>
              <a:off x="685800" y="358128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3</a:t>
              </a:r>
              <a:endParaRPr b="0" lang="en-US" sz="1400" spc="-1" strike="noStrike">
                <a:solidFill>
                  <a:srgbClr val="000000"/>
                </a:solidFill>
                <a:latin typeface="Times New Roman"/>
              </a:endParaRPr>
            </a:p>
          </p:txBody>
        </p:sp>
        <p:sp>
          <p:nvSpPr>
            <p:cNvPr id="74" name=""/>
            <p:cNvSpPr/>
            <p:nvPr/>
          </p:nvSpPr>
          <p:spPr>
            <a:xfrm>
              <a:off x="1523880" y="4495680"/>
              <a:ext cx="251424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No QoS (DCF)</a:t>
              </a:r>
              <a:endParaRPr b="0" lang="en-US" sz="1400" spc="-1" strike="noStrike">
                <a:solidFill>
                  <a:srgbClr val="000000"/>
                </a:solidFill>
                <a:latin typeface="Times New Roman"/>
              </a:endParaRPr>
            </a:p>
          </p:txBody>
        </p:sp>
        <p:sp>
          <p:nvSpPr>
            <p:cNvPr id="75" name=""/>
            <p:cNvSpPr/>
            <p:nvPr/>
          </p:nvSpPr>
          <p:spPr>
            <a:xfrm>
              <a:off x="1523880" y="3581280"/>
              <a:ext cx="251424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arameterized QoS </a:t>
              </a:r>
              <a:endParaRPr b="0" lang="en-US" sz="1400" spc="-1" strike="noStrike">
                <a:solidFill>
                  <a:srgbClr val="000000"/>
                </a:solidFill>
                <a:latin typeface="Times New Roman"/>
              </a:endParaRPr>
            </a:p>
          </p:txBody>
        </p:sp>
        <p:sp>
          <p:nvSpPr>
            <p:cNvPr id="76" name=""/>
            <p:cNvSpPr/>
            <p:nvPr/>
          </p:nvSpPr>
          <p:spPr>
            <a:xfrm>
              <a:off x="1523880" y="3886200"/>
              <a:ext cx="2514240" cy="60948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a:t>
              </a:r>
              <a:endParaRPr b="0" lang="en-US" sz="1400" spc="-1" strike="noStrike">
                <a:solidFill>
                  <a:srgbClr val="000000"/>
                </a:solidFill>
                <a:latin typeface="Times New Roman"/>
              </a:endParaRPr>
            </a:p>
          </p:txBody>
        </p:sp>
        <p:sp>
          <p:nvSpPr>
            <p:cNvPr id="77" name=""/>
            <p:cNvSpPr/>
            <p:nvPr/>
          </p:nvSpPr>
          <p:spPr>
            <a:xfrm>
              <a:off x="1523880" y="3200400"/>
              <a:ext cx="25142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yle of QoS</a:t>
              </a:r>
              <a:endParaRPr b="0" lang="en-US" sz="1400" spc="-1" strike="noStrike">
                <a:solidFill>
                  <a:srgbClr val="000000"/>
                </a:solidFill>
                <a:latin typeface="Times New Roman"/>
              </a:endParaRPr>
            </a:p>
          </p:txBody>
        </p:sp>
      </p:grpSp>
      <p:grpSp>
        <p:nvGrpSpPr>
          <p:cNvPr id="78" name=""/>
          <p:cNvGrpSpPr/>
          <p:nvPr/>
        </p:nvGrpSpPr>
        <p:grpSpPr>
          <a:xfrm>
            <a:off x="5029200" y="3200400"/>
            <a:ext cx="3352320" cy="1600200"/>
            <a:chOff x="5029200" y="3200400"/>
            <a:chExt cx="3352320" cy="1600200"/>
          </a:xfrm>
        </p:grpSpPr>
        <p:sp>
          <p:nvSpPr>
            <p:cNvPr id="79" name=""/>
            <p:cNvSpPr/>
            <p:nvPr/>
          </p:nvSpPr>
          <p:spPr>
            <a:xfrm>
              <a:off x="5029200" y="4495680"/>
              <a:ext cx="83808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evel 0</a:t>
              </a:r>
              <a:endParaRPr b="0" lang="en-US" sz="1400" spc="-1" strike="noStrike">
                <a:solidFill>
                  <a:srgbClr val="000000"/>
                </a:solidFill>
                <a:latin typeface="Times New Roman"/>
              </a:endParaRPr>
            </a:p>
          </p:txBody>
        </p:sp>
        <p:sp>
          <p:nvSpPr>
            <p:cNvPr id="80" name=""/>
            <p:cNvSpPr/>
            <p:nvPr/>
          </p:nvSpPr>
          <p:spPr>
            <a:xfrm>
              <a:off x="5029200" y="419076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1</a:t>
              </a:r>
              <a:endParaRPr b="0" lang="en-US" sz="1400" spc="-1" strike="noStrike">
                <a:solidFill>
                  <a:srgbClr val="000000"/>
                </a:solidFill>
                <a:latin typeface="Times New Roman"/>
              </a:endParaRPr>
            </a:p>
          </p:txBody>
        </p:sp>
        <p:sp>
          <p:nvSpPr>
            <p:cNvPr id="81" name=""/>
            <p:cNvSpPr/>
            <p:nvPr/>
          </p:nvSpPr>
          <p:spPr>
            <a:xfrm>
              <a:off x="5029200" y="3886200"/>
              <a:ext cx="83808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2</a:t>
              </a:r>
              <a:endParaRPr b="0" lang="en-US" sz="1400" spc="-1" strike="noStrike">
                <a:solidFill>
                  <a:srgbClr val="000000"/>
                </a:solidFill>
                <a:latin typeface="Times New Roman"/>
              </a:endParaRPr>
            </a:p>
          </p:txBody>
        </p:sp>
        <p:sp>
          <p:nvSpPr>
            <p:cNvPr id="82" name=""/>
            <p:cNvSpPr/>
            <p:nvPr/>
          </p:nvSpPr>
          <p:spPr>
            <a:xfrm>
              <a:off x="5029200" y="358128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3</a:t>
              </a:r>
              <a:endParaRPr b="0" lang="en-US" sz="1400" spc="-1" strike="noStrike">
                <a:solidFill>
                  <a:srgbClr val="000000"/>
                </a:solidFill>
                <a:latin typeface="Times New Roman"/>
              </a:endParaRPr>
            </a:p>
          </p:txBody>
        </p:sp>
        <p:sp>
          <p:nvSpPr>
            <p:cNvPr id="83" name=""/>
            <p:cNvSpPr/>
            <p:nvPr/>
          </p:nvSpPr>
          <p:spPr>
            <a:xfrm>
              <a:off x="5867280" y="4495680"/>
              <a:ext cx="251424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No QoS (DCF)</a:t>
              </a:r>
              <a:endParaRPr b="0" lang="en-US" sz="1400" spc="-1" strike="noStrike">
                <a:solidFill>
                  <a:srgbClr val="000000"/>
                </a:solidFill>
                <a:latin typeface="Times New Roman"/>
              </a:endParaRPr>
            </a:p>
          </p:txBody>
        </p:sp>
        <p:sp>
          <p:nvSpPr>
            <p:cNvPr id="84" name=""/>
            <p:cNvSpPr/>
            <p:nvPr/>
          </p:nvSpPr>
          <p:spPr>
            <a:xfrm>
              <a:off x="5867280" y="4190760"/>
              <a:ext cx="251424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hanced DCF only (CF-Pollable)</a:t>
              </a:r>
              <a:endParaRPr b="0" lang="en-US" sz="1000" spc="-1" strike="noStrike">
                <a:solidFill>
                  <a:srgbClr val="000000"/>
                </a:solidFill>
                <a:latin typeface="Times New Roman"/>
              </a:endParaRPr>
            </a:p>
          </p:txBody>
        </p:sp>
        <p:sp>
          <p:nvSpPr>
            <p:cNvPr id="85" name=""/>
            <p:cNvSpPr/>
            <p:nvPr/>
          </p:nvSpPr>
          <p:spPr>
            <a:xfrm>
              <a:off x="5867280" y="3581280"/>
              <a:ext cx="2514240" cy="60948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DCF and PCF</a:t>
              </a:r>
              <a:endParaRPr b="0" lang="en-US" sz="1400" spc="-1" strike="noStrike">
                <a:solidFill>
                  <a:srgbClr val="000000"/>
                </a:solidFill>
                <a:latin typeface="Times New Roman"/>
              </a:endParaRPr>
            </a:p>
          </p:txBody>
        </p:sp>
        <p:sp>
          <p:nvSpPr>
            <p:cNvPr id="86" name=""/>
            <p:cNvSpPr/>
            <p:nvPr/>
          </p:nvSpPr>
          <p:spPr>
            <a:xfrm>
              <a:off x="5867280" y="3200400"/>
              <a:ext cx="25142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rdination Functions</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833572FE-219D-48C9-94B5-88B2E8DC4425}"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w Terminology</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  Bridge Port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Enhanced A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C:  Enhanced point coordin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Enhanced s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SS:  BSS that provides associations at QoS Levels &gt;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A:  {Traffic Category, AI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ID:  Traffic category identifier (0-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OP:  Transmission opportun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STA:  Wireless station (an ESTA other than EAP or B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C02BB3DA-5F35-4A9C-B576-016333C78340}"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C SAP</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hanges to service primiti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parameter of MA-UNITDATA.request/indication is used to identify traffic category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ssociation supports prioritized QoS, traffic category is mapped to delivery prio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ssociation supports parameterized QoS, traffic category identifies the traffic specification (supplied via MLME SA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terface is uniform across all conformance lev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higher layer software can work (to some quality level, not necessarily the desired quality) at any QoS level (perhaps eve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7BD2C176-CB3D-44AA-A3EC-66E01DC92C42}"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ed Station Model</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676160"/>
            <a:ext cx="5105520" cy="472428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ow the MAC SAP are a plurality of (logical) traffic queues</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is suggested as the minimum</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re are &lt;8 queues, the mapping of traffic category to queue follows guidelines in 802.1D-1998, Annex H.2.</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heduler function selects a frame for transmission at the next TXOP</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mon scheduler is suitable for_x0008_ QoS levels 1 &amp; 2 </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nnel access function (EDCF, EPCF-Station) is independent of the scheduler</a:t>
            </a:r>
            <a:endParaRPr b="0" lang="en-US" sz="2400" spc="-1" strike="noStrike">
              <a:solidFill>
                <a:srgbClr val="000000"/>
              </a:solidFill>
              <a:latin typeface="Times New Roman"/>
            </a:endParaRPr>
          </a:p>
        </p:txBody>
      </p:sp>
      <p:grpSp>
        <p:nvGrpSpPr>
          <p:cNvPr id="93" name=""/>
          <p:cNvGrpSpPr/>
          <p:nvPr/>
        </p:nvGrpSpPr>
        <p:grpSpPr>
          <a:xfrm>
            <a:off x="5867280" y="1752480"/>
            <a:ext cx="2670120" cy="4494240"/>
            <a:chOff x="5867280" y="1752480"/>
            <a:chExt cx="2670120" cy="4494240"/>
          </a:xfrm>
        </p:grpSpPr>
        <p:sp>
          <p:nvSpPr>
            <p:cNvPr id="94" name=""/>
            <p:cNvSpPr/>
            <p:nvPr/>
          </p:nvSpPr>
          <p:spPr>
            <a:xfrm>
              <a:off x="5867280" y="2514600"/>
              <a:ext cx="2670120" cy="357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05240" y="236376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6105240" y="3201840"/>
              <a:ext cx="910800" cy="835200"/>
              <a:chOff x="6105240" y="3201840"/>
              <a:chExt cx="910800" cy="835200"/>
            </a:xfrm>
          </p:grpSpPr>
          <p:sp>
            <p:nvSpPr>
              <p:cNvPr id="97" name=""/>
              <p:cNvSpPr/>
              <p:nvPr/>
            </p:nvSpPr>
            <p:spPr>
              <a:xfrm>
                <a:off x="6105240" y="320184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90680" y="320184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62080" y="320184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33480" y="320184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6105240" y="4192560"/>
              <a:ext cx="91116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05240" y="4878360"/>
              <a:ext cx="91116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05240" y="594504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26080" y="5411880"/>
              <a:ext cx="0" cy="684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6526080" y="2515680"/>
              <a:ext cx="0" cy="6843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244920" y="40402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456240" y="40402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667200" y="40402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78520" y="40402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26080" y="47260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97360" y="2363760"/>
              <a:ext cx="84168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171840" y="1752480"/>
              <a:ext cx="704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_x0008_</a:t>
              </a:r>
              <a:br>
                <a:rPr sz="1800"/>
              </a:br>
              <a:r>
                <a:rPr b="1" lang="en-US" sz="1800" spc="-1" strike="noStrike">
                  <a:solidFill>
                    <a:srgbClr val="000000"/>
                  </a:solidFill>
                  <a:latin typeface="Arial"/>
                </a:rPr>
                <a:t>SAP</a:t>
              </a:r>
              <a:endParaRPr b="0" lang="en-US" sz="1800" spc="-1" strike="noStrike">
                <a:solidFill>
                  <a:srgbClr val="000000"/>
                </a:solidFill>
                <a:latin typeface="Times New Roman"/>
              </a:endParaRPr>
            </a:p>
          </p:txBody>
        </p:sp>
        <p:sp>
          <p:nvSpPr>
            <p:cNvPr id="113" name=""/>
            <p:cNvSpPr/>
            <p:nvPr/>
          </p:nvSpPr>
          <p:spPr>
            <a:xfrm>
              <a:off x="7543080" y="1752480"/>
              <a:ext cx="8586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a:t>
              </a:r>
              <a:br>
                <a:rPr sz="1800"/>
              </a:br>
              <a:r>
                <a:rPr b="1" lang="en-US" sz="1800" spc="-1" strike="noStrike">
                  <a:solidFill>
                    <a:srgbClr val="000000"/>
                  </a:solidFill>
                  <a:latin typeface="Arial"/>
                </a:rPr>
                <a:t>SAP</a:t>
              </a:r>
              <a:endParaRPr b="0" lang="en-US" sz="1800" spc="-1" strike="noStrike">
                <a:solidFill>
                  <a:srgbClr val="000000"/>
                </a:solidFill>
                <a:latin typeface="Times New Roman"/>
              </a:endParaRPr>
            </a:p>
          </p:txBody>
        </p:sp>
        <p:sp>
          <p:nvSpPr>
            <p:cNvPr id="114" name=""/>
            <p:cNvSpPr/>
            <p:nvPr/>
          </p:nvSpPr>
          <p:spPr>
            <a:xfrm>
              <a:off x="6102000" y="4317840"/>
              <a:ext cx="924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Times New Roman"/>
              </a:endParaRPr>
            </a:p>
          </p:txBody>
        </p:sp>
        <p:sp>
          <p:nvSpPr>
            <p:cNvPr id="115" name=""/>
            <p:cNvSpPr/>
            <p:nvPr/>
          </p:nvSpPr>
          <p:spPr>
            <a:xfrm>
              <a:off x="6139800" y="4952880"/>
              <a:ext cx="7869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a:t>
              </a:r>
              <a:br>
                <a:rPr sz="1200"/>
              </a:br>
              <a:r>
                <a:rPr b="1" lang="en-US" sz="1200" spc="-1" strike="noStrike">
                  <a:solidFill>
                    <a:srgbClr val="000000"/>
                  </a:solidFill>
                  <a:latin typeface="Arial"/>
                </a:rPr>
                <a:t>Access</a:t>
              </a:r>
              <a:endParaRPr b="0" lang="en-US" sz="1200" spc="-1" strike="noStrike">
                <a:solidFill>
                  <a:srgbClr val="000000"/>
                </a:solidFill>
                <a:latin typeface="Times New Roman"/>
              </a:endParaRPr>
            </a:p>
          </p:txBody>
        </p:sp>
        <p:sp>
          <p:nvSpPr>
            <p:cNvPr id="116" name=""/>
            <p:cNvSpPr/>
            <p:nvPr/>
          </p:nvSpPr>
          <p:spPr>
            <a:xfrm>
              <a:off x="6170400" y="3429000"/>
              <a:ext cx="745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ues</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8348838B-D57F-41F8-BD06-796351DBD285}"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ffic Categorie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prioritized QoS, TC is (QBSS-global) delivery priority</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s as in 802.1D-1998, Annex H.2, can be remapped via MIB</a:t>
            </a:r>
            <a:br>
              <a:rPr sz="2000"/>
            </a:br>
            <a:r>
              <a:rPr b="0" lang="en-US" sz="2000" spc="-1" strike="noStrike">
                <a:solidFill>
                  <a:srgbClr val="000000"/>
                </a:solidFill>
                <a:latin typeface="Times New Roman"/>
              </a:rPr>
              <a:t>(lowest) 1, 2, 0, 3, 4, 5, 6, 7 (highest) -- 0 is best effort</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parameterized QoS, TC selects the traffic specification</a:t>
            </a:r>
            <a:endParaRPr b="0" lang="en-US" sz="24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specs are interpreted in the context of the source station's MAC address/AID, unless the source is not in the QBSS, in which case the destination station's MAC address/AID is used</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in traffic specification:</a:t>
            </a:r>
            <a:endParaRPr b="0" lang="en-US" sz="18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S Info (periodic/aperiodic, Ack policy, delivery priority)</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ry Interval (for delayed Acks) &amp; Polling Interval (for periodic polling)</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t Interval (Committed Time for aperiodic)</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minal MSDU Size</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um Data Rate &amp; Mean Data Rate</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Burst Size</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ay Bound &amp; Jitter Boun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319ABB81-B6AC-433F-A5D6-C2F69F7C4B1E}"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C Functional Improvements</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ESTA-ESTA transf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ed Probe Request to find peers and learn capabil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Beacon relia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id limit at TBTT (similar to CFPMaxDur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ensing to detect beacon colli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S overlap information added to Beac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Beacon" may be sent by ESTAs to inform adjacent AP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RTS/CTS (with actual duration) during CF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Polls convey TXOPs with specified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fy many ambiguous provisions in 802.11-199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E4A1B3D2-0638-4576-87A6-C0F3D5520ADE}"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22:59:43Z</dcterms:created>
  <dc:creator>Michael Fischer</dc:creator>
  <dc:description/>
  <dc:language>en-US</dc:language>
  <cp:lastModifiedBy>Tim Godfrey</cp:lastModifiedBy>
  <cp:lastPrinted>1998-02-10T13:28:06Z</cp:lastPrinted>
  <dcterms:modified xsi:type="dcterms:W3CDTF">2000-11-09T14:33:41Z</dcterms:modified>
  <cp:revision>54</cp:revision>
  <dc:subject/>
  <dc:title>No Slide Title</dc:title>
</cp:coreProperties>
</file>