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FC7-E60E-4BAE-9316-B31B789C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092-63C7-476A-814E-5B7E1C6A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FE9-A0C6-4D7D-9D95-D31C9A53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B72-EFB4-4F0F-BC90-72E59EFD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EBA-76F9-4FE4-8ACB-B188C5A0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63C-E735-4821-AF5A-2B90DF82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E07-D79B-45BE-ADD7-1AE7422A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E40-0CFF-4BDE-9E44-E242B13D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588-640A-4E14-81C8-6DD0D78B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616-C0BF-4164-BB2E-EB700674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4E0-C9FE-48C8-9073-87B2381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752-CEE5-4ED5-BFDC-9A31F10B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79800"/>
            <a:ext cx="1752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37F20E-02B9-4392-B55E-07892853D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oS Baseline Proposal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the QoS Baseline Ad-hoc Grou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-November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57240" y="3990960"/>
            <a:ext cx="3809880" cy="24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Fis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ICE-Inter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2-3 Medical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 Antonio, TX 782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-210-614-4096 x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ischer@choicemicr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120" y="40384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Edit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B4D-6BA9-4F5C-A945-215805298E6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 Functional Improv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ESTA-ESTA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Probe Request to find peers and learn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Beacon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id limit at TBTT (similar to CFPMaxDu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 sensing to detect beacon coll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SS overlap information added to Bea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Proxy Beacon" may be sent by ESTAs to inform adjacent 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RTS/CTS (with actual duration) during C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-Polls convey TXOPs with specified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Clarify many ambiguous provisions in 802.11-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501-B8BD-4BB2-B36C-D1DDD5D8EF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MAC Mechanisms 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Opportunities (TXO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ight to transmit defined by starting time &amp; duration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s to EDCF contention winner as well as CF-poll recip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 is global during CP, piggybacked with poll during C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llocated in advance during C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Category Identifiers (TCI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2-octet field at end of MAC header in QoS data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-order 3 bits are priority parameter for MS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layout as TCI field of 802.1Q VLAN tag, VID field 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unt of traffic queued for TC piggybacked during C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control frames and elements use TCA field with {TC,AI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48D-9F8C-4BE1-BAFE-12C9E77E57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MAC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gregation of multiple MPDUs into a single PS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st transfers (EDCF) of SIFS-separated frames that fit in TX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Acknowledgment (level 3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 format allows up to n*16 unacknowledged frames per 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"retry delay" parameters allows fallback to A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Contention  &amp; Reservation Request (EPCF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e EAP/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SS Overlap Mit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dge Por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055-44A8-4A55-9B26-265A9B703F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DC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-based Distributed 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chieve fairness access among traffic of the same priority at different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relative to best effort traffic from legacy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a penalty for non-used traffic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s in separate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08E-DD55-4D34-A367-1C0A392AEC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PC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ly based on the detailed effort from the Joint Proposal (00/071, 00/120) by AT&amp;T, Lucent, Sharewave, and others (00/120r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echanism enhancements from Joint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ized Contention (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ation Request (R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 Policy (normal, delayed, n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OP limit and TC size piggybacked on QoS data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-Multipoll for multiple TXOP ass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-Schedule for periodic (CBR-type)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oes not require BSS-unique VSIDs nor external classifier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2A8-7E5E-4211-A224-E798BE67AC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LME S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 additions to Scan, Start, Join, etc. to add QoS levels as association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ME-TSUPDATE.request/confi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define and modify traffic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ME-WMSTATUS.request/confi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WLAN-aware higher-layer bandwidth reservation and QoS management entities to obtain information on the state of the wireless 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3B3-8557-4D44-99C2-EAE1BDBA12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wer S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ions of beacon interval when power save ESTA is aw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requests amount of awake time, EAP assigns epoch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existing power save with PS-P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can use "PS-non-poll" during WSTA's listen ep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OPs can be allocated during listen epoch to allow direct ESTA-ESTA under power s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366-6B6B-4FE2-BB30-DEB8E39D7F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omplete Items &amp; Placehol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 (at MAC lay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CF channe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S Overlap Mitigation (par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 Por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with HL end-to-end QoS management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7A2-BD63-4390-8459-76C28349444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 of Baseline Ad-hoc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d areas of consensus and dis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of functions that had to be present to achieve &gt;75%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of functions that had to be absent to achieve &gt;75%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there was sufficient willingness to compromise that the intersection of these sets i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u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nested conformance model, no disjoint option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a uniform higher-layer interface within the confines of the 802 MAC SAP and MLME 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nsistent set of frame formats based on 8 traffic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substantial progress on defining the enhanced DCF, enhanced PCF, and traffic category support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initial draft within weeks if this baseline is ado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CEF-28C9-4236-A56B-1722F1FBF1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Adopt a Base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ve a framework within which to evaluate proposals for specific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iginal 802.11 MAC group spent &gt;2 years trying to build a MAC function-by-function, and got no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ocus effort on areas which are incomplete or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this do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eclude improvements to areas already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ve quickly to a draft for initial letter bal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te of progress improves greatly during the ballot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pers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baseline is "good enough" (actually, better than that) and standards are, by definition neither perfect nor state-of-the-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apparent consensus in and since Scottsdale is not sufficient to adopt this baseline, we might as well let the PAR exp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E8D-8786-40B4-AF69-A320A759C3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y Features of Proposed Base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 compatible from and coexistent with 802.11-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both prioritized and parameterized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ized QoS provides relative differentiation between pri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ized QoS provides managed delivery using traffic spe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as viewed from above the MAC SAP there is only one servic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QoS delivery under both (E)DCF and (E)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ized QoS only available under EP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d efficiency through new and streamlined mechan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S Overlap Mi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elements to extend BSS coverage &amp;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 Portal (BP):  infrastructure access at non-AP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ernate AP/PC:  to preserve BSS (&amp; QoS) in event of fai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te AP/PC:  to extend spatial coverage via WDS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859-46AB-4CA8-8AF4-E3ED802F62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ormance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4 conformance levels, designated 0 t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igher level is a proper superset of the level ben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ormance levels are attributes of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76520" y="4876920"/>
            <a:ext cx="5867280" cy="1523880"/>
            <a:chOff x="1676520" y="4876920"/>
            <a:chExt cx="5867280" cy="1523880"/>
          </a:xfrm>
        </p:grpSpPr>
        <p:sp>
          <p:nvSpPr>
            <p:cNvPr id="58" name=""/>
            <p:cNvSpPr/>
            <p:nvPr/>
          </p:nvSpPr>
          <p:spPr>
            <a:xfrm>
              <a:off x="1676520" y="6096240"/>
              <a:ext cx="838080" cy="30456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Level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6520" y="579132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548640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6520" y="5181840"/>
              <a:ext cx="8380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14600" y="5181840"/>
              <a:ext cx="251460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Prioritized QoS (E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5486400"/>
              <a:ext cx="25146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Prioritized QoS (E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14600" y="6096240"/>
              <a:ext cx="2514600" cy="30456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No QoS (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14600" y="4876920"/>
              <a:ext cx="251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ention Peri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29200" y="5181840"/>
              <a:ext cx="251460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arameterized QoS (EP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9200" y="5791320"/>
              <a:ext cx="2514600" cy="30492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5f5f5f"/>
                  </a:solidFill>
                  <a:latin typeface="Arial"/>
                </a:rPr>
                <a:t>No QoS (PCF)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29200" y="6096240"/>
              <a:ext cx="2514600" cy="30456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No QoS (P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29200" y="4876920"/>
              <a:ext cx="251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ention-Free Peri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4600" y="5791320"/>
              <a:ext cx="25146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Prioritized QoS (E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29200" y="5486400"/>
              <a:ext cx="25146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Prioritized QoS (EP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85800" y="3200400"/>
            <a:ext cx="3352320" cy="1600200"/>
            <a:chOff x="685800" y="3200400"/>
            <a:chExt cx="3352320" cy="1600200"/>
          </a:xfrm>
        </p:grpSpPr>
        <p:sp>
          <p:nvSpPr>
            <p:cNvPr id="73" name=""/>
            <p:cNvSpPr/>
            <p:nvPr/>
          </p:nvSpPr>
          <p:spPr>
            <a:xfrm>
              <a:off x="685800" y="4495680"/>
              <a:ext cx="838080" cy="30492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Level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" y="419076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3886200"/>
              <a:ext cx="8380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358128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23880" y="4495680"/>
              <a:ext cx="2514240" cy="30492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No QoS (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3880" y="3581280"/>
              <a:ext cx="251424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arameterized QoS (EP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3880" y="3886200"/>
              <a:ext cx="2514240" cy="60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Prioritized QoS (E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3200400"/>
              <a:ext cx="251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yle of Q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029200" y="3200400"/>
            <a:ext cx="3352320" cy="1600200"/>
            <a:chOff x="5029200" y="3200400"/>
            <a:chExt cx="3352320" cy="1600200"/>
          </a:xfrm>
        </p:grpSpPr>
        <p:sp>
          <p:nvSpPr>
            <p:cNvPr id="82" name=""/>
            <p:cNvSpPr/>
            <p:nvPr/>
          </p:nvSpPr>
          <p:spPr>
            <a:xfrm>
              <a:off x="5029200" y="4495680"/>
              <a:ext cx="838080" cy="30492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Level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419076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29200" y="3886200"/>
              <a:ext cx="8380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29200" y="358128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67280" y="4495680"/>
              <a:ext cx="2514240" cy="30492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No QoS (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190760"/>
              <a:ext cx="251424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hanced DCF on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7280" y="3581280"/>
              <a:ext cx="2514240" cy="60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hanced DCF and PC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7280" y="3200400"/>
              <a:ext cx="251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rdination Fu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4F6-02BC-4FC8-A96C-8AB9A42048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Termi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:  Bridge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:  Enhanced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C:  Enhanced point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:  Enhanced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SS:_x0008_  BSS that provides associations at QoS Levels 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A:  {Traffic Category, AI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ID:  Traffic category identifier (0-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OP:  Transmission 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TA:  Wireless station (an ESTA other than EAP or B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385-82C8-44D1-8316-34F15D4625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 S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to service 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parameter of MA-UNITDATA.request/indication is used to identify traffic categ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ssociation supports prioritized QoS, traffic category is mapped to delivery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ssociation supports parameterized QoS, traffic category identifies the traffic specification (supplied via MLME S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terface is uniform across all conformanc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higher layer software can work (to some quality level, not necessarily the desired quality) at any QoS level (perhaps even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C06-389E-4A4B-89D6-89F0DBF09C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St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ow the MAC SAP are a plurality of (logical) traffic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is suggested as the 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re are &lt;8 queues, the mapping of traffic category to queue follows guidelines in 802.1D-1998, Annex H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heduler function selects a frame for transmission at the next TX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mmon scheduler is suitable for_x0008_ QoS levels 1 &amp;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nel access function (EDCF, EPCF-Station) is independent of the sched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867280" y="1752480"/>
            <a:ext cx="2670120" cy="4494240"/>
            <a:chOff x="5867280" y="1752480"/>
            <a:chExt cx="2670120" cy="4494240"/>
          </a:xfrm>
        </p:grpSpPr>
        <p:sp>
          <p:nvSpPr>
            <p:cNvPr id="97" name=""/>
            <p:cNvSpPr/>
            <p:nvPr/>
          </p:nvSpPr>
          <p:spPr>
            <a:xfrm>
              <a:off x="5867280" y="2514600"/>
              <a:ext cx="2670120" cy="357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05240" y="2363760"/>
              <a:ext cx="841320" cy="30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105240" y="3201840"/>
              <a:ext cx="910800" cy="835200"/>
              <a:chOff x="6105240" y="3201840"/>
              <a:chExt cx="910800" cy="835200"/>
            </a:xfrm>
          </p:grpSpPr>
          <p:sp>
            <p:nvSpPr>
              <p:cNvPr id="100" name=""/>
              <p:cNvSpPr/>
              <p:nvPr/>
            </p:nvSpPr>
            <p:spPr>
              <a:xfrm>
                <a:off x="6105240" y="3201840"/>
                <a:ext cx="225360" cy="835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90680" y="3201840"/>
                <a:ext cx="225360" cy="835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562080" y="3201840"/>
                <a:ext cx="225360" cy="835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333480" y="3201840"/>
                <a:ext cx="225360" cy="835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6105240" y="4192560"/>
              <a:ext cx="911160" cy="530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05240" y="4878360"/>
              <a:ext cx="911160" cy="530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05240" y="5945040"/>
              <a:ext cx="841320" cy="30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26080" y="5411880"/>
              <a:ext cx="0" cy="68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526080" y="2515680"/>
              <a:ext cx="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44920" y="4040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56240" y="4040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67200" y="4040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8520" y="4040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26080" y="47260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97360" y="2363760"/>
              <a:ext cx="841680" cy="30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71840" y="1752480"/>
              <a:ext cx="704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C_x0008_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43080" y="1752480"/>
              <a:ext cx="858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LM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02000" y="431784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39800" y="4952880"/>
              <a:ext cx="786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70400" y="3429000"/>
              <a:ext cx="74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e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A5F-0B72-4901-BB16-1C518509E0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ffic Categ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oritized QoS, TC is (QBSS-global) delivery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s as in 802.1D-1998, Annex H.2, can be remapped via MI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west) 1, 2, 0, 3, 4, 5, 6, 7 (highest) -- 0 is 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arameterized QoS, TC selects the traffic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specs are interpreted in the context of the source station's MAC address/AID, unless the source is not in the QBSS, in which case the destination station's MAC address/AID i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s in traffic specifi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S Info (periodic/aperiodic, Ack policy, delivery prior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ry Interval (for delayed Acks) &amp; Polling Interval (for periodic pol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t Interval (Committed Time for aperiod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minal MSDU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um Data Rate &amp; Mean Data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um Burs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 Bound &amp; Jitter B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629-61E5-441E-B5E1-DC6D9EA84E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22:59:43Z</dcterms:created>
  <dc:creator>Michael Fischer</dc:creator>
  <dc:description/>
  <dc:language>en-US</dc:language>
  <cp:lastModifiedBy>Michael Fischer</cp:lastModifiedBy>
  <cp:lastPrinted>1998-02-10T13:28:06Z</cp:lastPrinted>
  <dcterms:modified xsi:type="dcterms:W3CDTF">2000-11-07T01:12:59Z</dcterms:modified>
  <cp:revision>50</cp:revision>
  <dc:subject/>
  <dc:title>No Slide Title</dc:title>
</cp:coreProperties>
</file>