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C05DB5-784B-42BD-9B81-7E23B6FB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D8AEC9-00F4-4C1F-85B3-4C3179047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03200" y="812880"/>
            <a:ext cx="4327560" cy="3244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1960" y="4412880"/>
            <a:ext cx="5087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D745D8-4841-4ED0-AFF2-A952323A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03200" y="812880"/>
            <a:ext cx="4327560" cy="3244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1960" y="4412880"/>
            <a:ext cx="5087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A6F-D378-47ED-9FB0-ED848716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BC9-E807-4483-8587-285A9F0C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F0D-DCCA-453F-81BB-E17D56AE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67A-811B-433F-9555-F2A03853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17B-7413-4234-8995-AAFCAB3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4F1-6562-4A72-858E-53B24A4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464-DAE0-424D-A98E-9C5DFE26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528-0437-4AA1-9E27-1943D779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EE3-C402-4E34-9425-C75418B5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2A8-76FC-435C-BF99-B4126AD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487-25E3-4837-B79A-F279ECF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272-AFCE-40CE-A791-F54BD8B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800" y="3704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862CA0-07F8-4D35-8144-7EAC892A0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8560" y="2590920"/>
            <a:ext cx="8153640" cy="26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QoS resolution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 Chess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er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ent Technologies WC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Kitchi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Teunisse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zo Wentink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/NW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0F5-6FD7-4A32-9C79-E62BAE50C4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simulation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imulation scenario’s (starting point simulation gro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Clause 9.2 text for inclusion in the Baseline propo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D-QoS based on vDCF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24B-BBC6-4DE6-B81A-5BA77D8101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2880" y="1447920"/>
            <a:ext cx="82998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id come to an agre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d all misunderstandings between the propos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ed on vDCF as the basic mechanism (as in Oct 18 propos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vDCF as a Scheduler for both level 1 and 2 (St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onverged on the “Fairness” defin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stical equal Tx-Op probability across the whole BSS within a traffic category as in standard DC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ed on additional mechanism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DCF Retry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mechan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 preferential access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simple to imp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publish pseud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QoS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ing first results, will publ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C26-4EDC-4B39-838C-F597570BDE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24440" y="2133720"/>
            <a:ext cx="26719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5280" y="1981080"/>
            <a:ext cx="84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45280" y="2819520"/>
            <a:ext cx="914400" cy="838080"/>
            <a:chOff x="5345280" y="2819520"/>
            <a:chExt cx="914400" cy="838080"/>
          </a:xfrm>
        </p:grpSpPr>
        <p:sp>
          <p:nvSpPr>
            <p:cNvPr id="62" name=""/>
            <p:cNvSpPr/>
            <p:nvPr/>
          </p:nvSpPr>
          <p:spPr>
            <a:xfrm>
              <a:off x="53452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10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024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38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45280" y="3809880"/>
            <a:ext cx="9144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45280" y="4495680"/>
            <a:ext cx="9144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45280" y="5562720"/>
            <a:ext cx="84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320" y="175248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 D-S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bit traf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6252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DU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74320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Q’s depends on Qo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535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nel access function independent of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756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767560" y="2133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73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8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756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81080"/>
            <a:ext cx="84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3240" y="1600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6960" y="1600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-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05320" y="393696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6320" y="46227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EB3-9559-487C-B6C4-574E54F3BE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3240" y="1600200"/>
            <a:ext cx="815832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framework should conceptual work for both level 1 and level 2 station mech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CFP the random number generation aspect of vDCF can be the schedule mechan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the PCF determines the Tx-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CP the vDCF scheduling and access mechanism is ac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the parallel DCF backoff mechanism is generating the Tx-O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ESS a “Load monitor” function in the AP will determine the CW per priority class, which is to be adopted by every 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nslation from “Load to CWx vectors” is NOT standar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IBSS a default CWx map is assumed, but a CWx distribution by a “Load Monitor” function will override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BSS a ‘Load Monitor” function is not manda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fault assumes CW=31 as the “Best Effort” re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774-3238-43B5-B2D8-08F76785F6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-DCF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07952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484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differentiation controlled by a CWx parameter per priority categ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 DCF’s running in parallel, with conceptually an individual Backoff counter for Backoff and Post-Back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s based on a single Delta-Backoff counter are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duling function is based on random number generated per access priority level, using individual CWx parameters causing differentiation in access ratio according to: 1/CW3 : 1/CW2 : 1/CW1 : 1/CW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a local collision the highest priority frame is being transmitted, while the other DCF is deferring and generate a new Back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77920" y="1371600"/>
          <a:ext cx="5943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1371600"/>
                    <a:ext cx="5943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F89-E12F-4B68-A676-5BA88E2F8A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-DCF retry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haustive Retry is to be prevented, when there is higher priority traffic Q’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of the retry mechanism is to temporarily reduce the load of the station on the medium for stability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mprove the probability of contention resolution success under high load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o circumvent possible hidden interferers causing the fail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CF mechanis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 the whole station (all vDCF’s) need to back off, and not only the vDCF that experience a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all DCF’s need to double their CW’s and generate a new back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AA7-24DF-4D2D-AEBA-CAC9AE8BFA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1960" y="144792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in frame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field compatible with also the PCF approach needs to be def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QoS Element in the 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ing the CWx list per access priority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also provide the “Total Load” info, which can be used for “Load Balancing”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to use CW and retr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elsewhere in this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# generation and Duplicate detection rule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upport the non-exhaustive retry approach in a station, it is needed to maintain a sequence# per SA.Class comb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94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the sequencing rules need to change, such that individual S# is maintained per Class, and will incr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94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P’s and Station receivers need to maintain duplicate detection mechanism on a SA.Class basis, and expand its resources for t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y exchange mechanisms to determine service 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674-6D4E-4880-BF3A-95ECD9FB5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7160" y="1469880"/>
            <a:ext cx="767052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improve the efficiency of the AP, the AP should be allowed to concatenate multiple frames in one Tx-Access Opportu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(MIB?) limited burst of frames are allowed per access opportunity with SIFS in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an be done in a similar way as specified for frag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“Duration” field containing the proper values for the next ex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Ack contains the duration of the next data frame, and its associated 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a station can be allowed to send a burst, but limited to a max size (2304 Byte) duration equivalen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probably need to limit this functionality only to a 2304 Byte duration equivalent for the highest Basic rate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prevent excessive jit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Tx-Opp limit mechanism to reduce excessive medium occupancy situations, while allowing rate fallb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44E-2C26-4829-ACCA-6AFFD0F32E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-QoS mechanism has been proposed that can be used in both ESS and IBSS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0A7-9B4C-46A5-8790-11E7042E0C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0-10-30T19:30:26Z</dcterms:modified>
  <cp:revision>51</cp:revision>
  <dc:subject/>
  <dc:title>No Slide Title</dc:title>
</cp:coreProperties>
</file>